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ct" ContentType="image/x-pict"/>
  <Override PartName="/ppt/media/image1.png" ContentType="image/png"/>
  <Override PartName="/ppt/media/image10.jpeg" ContentType="image/jpeg"/>
  <Override PartName="/ppt/media/image9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15.jpeg" ContentType="image/jpeg"/>
  <Override PartName="/ppt/media/image22.pct" ContentType="image/x-pict"/>
  <Override PartName="/ppt/media/image5.pct" ContentType="image/x-pict"/>
  <Override PartName="/ppt/media/image19.png" ContentType="image/png"/>
  <Override PartName="/ppt/media/image3.pct" ContentType="image/x-pict"/>
  <Override PartName="/ppt/media/image7.jpeg" ContentType="image/jpeg"/>
  <Override PartName="/ppt/media/image20.pct" ContentType="image/x-pict"/>
  <Override PartName="/ppt/media/image18.pct" ContentType="image/x-pict"/>
  <Override PartName="/ppt/media/image17.jpeg" ContentType="image/jpeg"/>
  <Override PartName="/ppt/media/image16.jpeg" ContentType="image/jpeg"/>
  <Override PartName="/ppt/media/image4.pct" ContentType="image/x-pict"/>
  <Override PartName="/ppt/media/image8.png" ContentType="image/png"/>
  <Override PartName="/ppt/media/image21.pct" ContentType="image/x-pict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7c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722B-9B7F-4F58-A345-9A4D49BCA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689A-580C-406E-8701-4AC959996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6" name="PlaceHolder 2"/>
          <p:cNvSpPr>
            <a:spLocks noGrp="1"/>
          </p:cNvSpPr>
          <p:nvPr>
            <p:ph type="body"/>
          </p:nvPr>
        </p:nvSpPr>
        <p:spPr>
          <a:xfrm>
            <a:off x="914400" y="3990960"/>
            <a:ext cx="5029200" cy="47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1437-2448-4A82-8680-4AAA263B1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1F4E-2298-4DF4-A990-9FC77F07C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18A1-F519-4456-9188-8320C66BF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DCEE-04EF-4270-8042-5A27EFC6C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B59D-C47F-4326-827A-A934902DC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5166-59DC-4C2D-83D4-FE19400FB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9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A2B5-5AD3-44EE-807F-7FD2D17F1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1B61-415E-4FA5-AB86-A982E1DC2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FC08-B496-4936-A0BD-23C867AC8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5333-45AC-413D-BD45-1FF0EBD69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578C-D443-425D-B613-9ED0D5950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FCF8-DB32-4BBB-B82D-D3CA0C2A9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A7AC-CF86-4BEF-B20F-43245FF54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31B6-A2F8-41F1-9014-62BB9CF57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1E12-723D-4F00-9C41-8D33563F6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DFD6-4F72-4067-A95B-CF6CACA92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5C5E-D9CD-410D-8232-5D729C6D5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B038-361D-4C80-B4C1-4D4ACCD0A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A380-FDFC-4BE6-8297-D4D201034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9F8C-B3F1-41B8-998D-6580F6CAF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0577-7215-4965-B4FB-9AB00AB3F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622" name="PlaceHolder 2"/>
          <p:cNvSpPr>
            <a:spLocks noGrp="1"/>
          </p:cNvSpPr>
          <p:nvPr>
            <p:ph type="body"/>
          </p:nvPr>
        </p:nvSpPr>
        <p:spPr>
          <a:xfrm>
            <a:off x="914400" y="4432320"/>
            <a:ext cx="50292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A92B-61EB-45F4-A5C9-3E277715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F142-7299-4937-BF62-18C3414FF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38F9-B9A1-4C3D-BDCD-06331298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644F-5105-46AC-A4D3-BB7070E4D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8800-544C-414F-A2B3-CDAD113D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1"/>
          <p:cNvSpPr>
            <a:spLocks noGrp="1"/>
          </p:cNvSpPr>
          <p:nvPr>
            <p:ph type="sldImg"/>
          </p:nvPr>
        </p:nvSpPr>
        <p:spPr>
          <a:xfrm>
            <a:off x="1368360" y="463680"/>
            <a:ext cx="4121280" cy="3092400"/>
          </a:xfrm>
          <a:prstGeom prst="rect">
            <a:avLst/>
          </a:prstGeom>
          <a:ln w="0">
            <a:noFill/>
          </a:ln>
        </p:spPr>
      </p:sp>
      <p:sp>
        <p:nvSpPr>
          <p:cNvPr id="2643" name="PlaceHolder 2"/>
          <p:cNvSpPr>
            <a:spLocks noGrp="1"/>
          </p:cNvSpPr>
          <p:nvPr>
            <p:ph type="body"/>
          </p:nvPr>
        </p:nvSpPr>
        <p:spPr>
          <a:xfrm>
            <a:off x="914400" y="3990960"/>
            <a:ext cx="5029200" cy="47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3770-EB5C-417B-A7A4-2DC863B08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DB7A-DA45-4A9D-8E71-151C9EAD1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AE6-0B5E-47C5-A813-E3099EBA3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4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have effectively applied RDM to a wide range of decision 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C92D-A9CF-47C5-BEE6-8E17E2CAF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5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288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7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5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288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6760" y="317520"/>
            <a:ext cx="85723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5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288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7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5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288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66760" y="317520"/>
            <a:ext cx="85723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7440" indent="-285840">
              <a:spcBef>
                <a:spcPts val="150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859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31760" y="6527880"/>
            <a:ext cx="8798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6A5E-D2BE-4A3D-BB11-2FFE321C9F7E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95360" y="6572160"/>
            <a:ext cx="612720" cy="18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4634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7c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7c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48240" cy="104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1500"/>
              </a:spcBef>
              <a:buClr>
                <a:srgbClr val="23a6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8590"/>
              </a:buClr>
              <a:buSzPct val="8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717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Decision Making Under Deep Uncertainty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1360" y="6324480"/>
            <a:ext cx="1828800" cy="457200"/>
          </a:xfrm>
          <a:prstGeom prst="rect">
            <a:avLst/>
          </a:prstGeom>
          <a:solidFill>
            <a:srgbClr val="030c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01680" y="4114800"/>
            <a:ext cx="6761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bert Lem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 Pardee Center for Longer Range Global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the Future Human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ly 8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7c00"/>
                </a:solidFill>
                <a:latin typeface="Arial"/>
              </a:rPr>
              <a:t>Well Characterized Uncertainty </a:t>
            </a:r>
            <a:br>
              <a:rPr sz="3000"/>
            </a:br>
            <a:r>
              <a:rPr b="1" i="1" lang="en-US" sz="3000" spc="-1" strike="noStrike">
                <a:solidFill>
                  <a:srgbClr val="ff7c00"/>
                </a:solidFill>
                <a:latin typeface="Arial"/>
              </a:rPr>
              <a:t>Suggests An Optimal Strategy</a:t>
            </a:r>
            <a:endParaRPr b="1" i="1" lang="en-US" sz="30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9600" y="2209680"/>
          <a:ext cx="4149720" cy="31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2209680"/>
                    <a:ext cx="4149720" cy="3176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5530680" y="1744560"/>
          <a:ext cx="2949480" cy="3791160"/>
        </p:xfrm>
        <a:graphic>
          <a:graphicData uri="http://schemas.openxmlformats.org/drawingml/2006/table">
            <a:tbl>
              <a:tblPr/>
              <a:tblGrid>
                <a:gridCol w="1403280"/>
                <a:gridCol w="1546200"/>
              </a:tblGrid>
              <a:tr h="1111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timal Strategy w Uncertain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fety Mar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n PV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36480" y="2494080"/>
            <a:ext cx="277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obability distribution for critical threshol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24280" y="3911760"/>
            <a:ext cx="622440" cy="0"/>
          </a:xfrm>
          <a:prstGeom prst="line">
            <a:avLst/>
          </a:prstGeom>
          <a:ln w="127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41720" y="5138640"/>
            <a:ext cx="461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c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49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7c00"/>
                </a:solidFill>
                <a:latin typeface="Arial"/>
              </a:rPr>
              <a:t>Robust Strategies Trade Some Optimal Performance  for Less Sensitivity to Assumptions</a:t>
            </a:r>
            <a:endParaRPr b="1" i="1" lang="en-US" sz="30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resent uncertainty about critical threshold with set of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ultip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plausible distribu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expected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gre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strategy s contingent on distribution 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strategy s regret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d to optimal strategy, a robust strategy has small weighted average of best and worst expected regr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863960" y="1879560"/>
                <a:ext cx="73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768760" y="2705040"/>
                <a:ext cx="27352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368960" y="3657600"/>
                <a:ext cx="3538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'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©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946240" y="5245200"/>
                <a:ext cx="3194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R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es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r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971880" y="5894280"/>
                <a:ext cx="10080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461880"/>
            <a:ext cx="9144000" cy="96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ind Vulnerabilities of Optimal Strategy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09680" y="1322280"/>
            <a:ext cx="66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ret of Strategy A over different values of 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c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533520" y="1735200"/>
          <a:ext cx="8064360" cy="451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35200"/>
                    <a:ext cx="806436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0" name=""/>
          <p:cNvGrpSpPr/>
          <p:nvPr/>
        </p:nvGrpSpPr>
        <p:grpSpPr>
          <a:xfrm>
            <a:off x="1689120" y="1879560"/>
            <a:ext cx="2425680" cy="4254480"/>
            <a:chOff x="1689120" y="1879560"/>
            <a:chExt cx="2425680" cy="4254480"/>
          </a:xfrm>
        </p:grpSpPr>
        <p:sp>
          <p:nvSpPr>
            <p:cNvPr id="451" name=""/>
            <p:cNvSpPr/>
            <p:nvPr/>
          </p:nvSpPr>
          <p:spPr>
            <a:xfrm>
              <a:off x="1689120" y="5765760"/>
              <a:ext cx="18414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ulner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114800" y="1879560"/>
              <a:ext cx="0" cy="425448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117440" y="3541680"/>
            <a:ext cx="7069320" cy="595440"/>
            <a:chOff x="1117440" y="3541680"/>
            <a:chExt cx="7069320" cy="595440"/>
          </a:xfrm>
        </p:grpSpPr>
        <p:sp>
          <p:nvSpPr>
            <p:cNvPr id="454" name=""/>
            <p:cNvSpPr/>
            <p:nvPr/>
          </p:nvSpPr>
          <p:spPr>
            <a:xfrm>
              <a:off x="1117440" y="4137120"/>
              <a:ext cx="7069320" cy="0"/>
            </a:xfrm>
            <a:prstGeom prst="line">
              <a:avLst/>
            </a:prstGeom>
            <a:ln cap="rnd" w="50760">
              <a:solidFill>
                <a:srgbClr val="b2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62800" y="3541680"/>
              <a:ext cx="335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 value utility of optimum 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mpare Regret Over Range of Futur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0" y="896760"/>
          <a:ext cx="9144000" cy="51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96760"/>
                    <a:ext cx="9144000" cy="5124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6037200" y="344160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94600" y="4029120"/>
            <a:ext cx="254160" cy="593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6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own’s Citizens Have More Robust Options Than Strategy A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0" y="1163520"/>
          <a:ext cx="9144000" cy="51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3520"/>
                    <a:ext cx="9144000" cy="5124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6984000" y="186696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mal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09320" y="3002040"/>
            <a:ext cx="155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ust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6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7c00"/>
                </a:solidFill>
                <a:latin typeface="Arial"/>
              </a:rPr>
              <a:t>Outline</a:t>
            </a:r>
            <a:endParaRPr b="1" i="1" lang="en-US" sz="36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58080" cy="460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bust Decision Making (RD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limate vulnerability and response option analysis for Inland Empire Utilities Agency (IEU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5800" indent="-228600">
              <a:spcBef>
                <a:spcPts val="337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impacts may climate change have on IEUA’s current plans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5800" indent="-228600">
              <a:spcBef>
                <a:spcPts val="337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should IEUA do in response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6400" y="228240"/>
            <a:ext cx="8877240" cy="5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limate Change Poses Significant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Planning Challenge for Water Manager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11044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will likely have large but uncertain impacts on supply and demand for w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000" indent="-26100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arity is dead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agencies already include climate (often implicitly) in many deci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idst all the uncertainty one thing we do know for sure --  tomorrow’s climate will not be like the past’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-26100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xing this assumption poses key 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do you adjust plans based on uncertain climate projections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do you communicate these plans, especially when uncertain long-term benefits require near-term costs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459320" y="1749600"/>
            <a:ext cx="4235400" cy="18288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Map"/>
          <p:cNvPicPr/>
          <p:nvPr/>
        </p:nvPicPr>
        <p:blipFill>
          <a:blip r:embed="rId2"/>
          <a:stretch/>
        </p:blipFill>
        <p:spPr>
          <a:xfrm>
            <a:off x="669960" y="3416400"/>
            <a:ext cx="3600360" cy="30002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1746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nducted Vulnerability and Options Analysi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r Inland Empire Utilities Agency (IEUA)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7320" y="1658520"/>
            <a:ext cx="4572000" cy="1986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rmAutofit/>
          </a:bodyPr>
          <a:p>
            <a:pPr lvl="1" marL="743040" indent="-285840"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EUA currently serves 800,000 peop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add 300,000 by 20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presents a significant challen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92160" y="6416640"/>
            <a:ext cx="6370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vid G. Groves, Debra Knopman, Robert J. Lempert, Sandra H. Berry, and Lynne Wainfan,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Presenting Uncertainty About Climate Change  to Water Resource Manager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RAND TR-505-NSF, 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549680" y="3849840"/>
            <a:ext cx="43783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1000"/>
          </a:bodyPr>
          <a:p>
            <a:pPr lvl="1" marL="378720" indent="-145440"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 water sourc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ndwater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or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ycl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fa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lt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4459320" y="1749600"/>
            <a:ext cx="4235400" cy="18288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Map"/>
          <p:cNvPicPr/>
          <p:nvPr/>
        </p:nvPicPr>
        <p:blipFill>
          <a:blip r:embed="rId2"/>
          <a:stretch/>
        </p:blipFill>
        <p:spPr>
          <a:xfrm>
            <a:off x="669960" y="3416400"/>
            <a:ext cx="3600360" cy="3000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1746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nducted Vulnerability and Options Analysi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r Inland Empire Utilities Agency (IEUA)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7320" y="1658520"/>
            <a:ext cx="4572000" cy="1986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rmAutofit/>
          </a:bodyPr>
          <a:p>
            <a:pPr lvl="1" marL="743040" indent="-285840"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EUA currently serves 800,000 peop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add 300,000 by 20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presents a significant challen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49560" y="662940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49680" y="3849840"/>
            <a:ext cx="43783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1000"/>
          </a:bodyPr>
          <a:p>
            <a:pPr lvl="1" marL="378720" indent="-145440"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 water sourc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Groundwater </a:t>
            </a: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or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Recycled</a:t>
            </a: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fa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lt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459320" y="1749600"/>
            <a:ext cx="4235400" cy="18288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Map"/>
          <p:cNvPicPr/>
          <p:nvPr/>
        </p:nvPicPr>
        <p:blipFill>
          <a:blip r:embed="rId2"/>
          <a:stretch/>
        </p:blipFill>
        <p:spPr>
          <a:xfrm>
            <a:off x="669960" y="3416400"/>
            <a:ext cx="3600360" cy="300024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7910640" y="4831920"/>
            <a:ext cx="276120" cy="352800"/>
            <a:chOff x="7910640" y="4831920"/>
            <a:chExt cx="276120" cy="352800"/>
          </a:xfrm>
        </p:grpSpPr>
        <p:sp>
          <p:nvSpPr>
            <p:cNvPr id="488" name=""/>
            <p:cNvSpPr/>
            <p:nvPr/>
          </p:nvSpPr>
          <p:spPr>
            <a:xfrm>
              <a:off x="7910640" y="5030640"/>
              <a:ext cx="96840" cy="15408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7997760" y="4831920"/>
              <a:ext cx="189000" cy="34740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8282160" y="4827240"/>
            <a:ext cx="276120" cy="352800"/>
            <a:chOff x="8282160" y="4827240"/>
            <a:chExt cx="276120" cy="352800"/>
          </a:xfrm>
        </p:grpSpPr>
        <p:sp>
          <p:nvSpPr>
            <p:cNvPr id="491" name=""/>
            <p:cNvSpPr/>
            <p:nvPr/>
          </p:nvSpPr>
          <p:spPr>
            <a:xfrm>
              <a:off x="8282160" y="5025960"/>
              <a:ext cx="96840" cy="15408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8369280" y="4827240"/>
              <a:ext cx="189000" cy="34740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8491680" y="4150800"/>
            <a:ext cx="276120" cy="352800"/>
            <a:chOff x="8491680" y="4150800"/>
            <a:chExt cx="276120" cy="352800"/>
          </a:xfrm>
        </p:grpSpPr>
        <p:sp>
          <p:nvSpPr>
            <p:cNvPr id="494" name=""/>
            <p:cNvSpPr/>
            <p:nvPr/>
          </p:nvSpPr>
          <p:spPr>
            <a:xfrm>
              <a:off x="8491680" y="4349520"/>
              <a:ext cx="96840" cy="15408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8578800" y="4150800"/>
              <a:ext cx="189000" cy="34740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053320" y="622476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6f000"/>
                </a:solidFill>
                <a:latin typeface="Arial"/>
                <a:ea typeface="Arial Unicode MS"/>
              </a:rPr>
              <a:t>Focus of IEUA’s 20 year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1746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nducted Vulnerability and Options Analysi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r Inland Empire Utilities Agency (IEUA)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57320" y="1658520"/>
            <a:ext cx="4572000" cy="1986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rmAutofit/>
          </a:bodyPr>
          <a:p>
            <a:pPr lvl="1" marL="743040" indent="-285840"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EUA currently serves 800,000 peop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add 300,000 by 20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presents a significant challen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247680"/>
            <a:ext cx="824868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raditional Planning Methods Can Illuminate Trees Rather Than Forest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8800" y="1498680"/>
            <a:ext cx="8191800" cy="164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 analytic methods characterize uncertainties as a prelude to assessing alternative deci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639880" y="2273400"/>
            <a:ext cx="3444840" cy="610560"/>
            <a:chOff x="2639880" y="2273400"/>
            <a:chExt cx="3444840" cy="610560"/>
          </a:xfrm>
        </p:grpSpPr>
        <p:grpSp>
          <p:nvGrpSpPr>
            <p:cNvPr id="92" name=""/>
            <p:cNvGrpSpPr/>
            <p:nvPr/>
          </p:nvGrpSpPr>
          <p:grpSpPr>
            <a:xfrm>
              <a:off x="2639880" y="2273400"/>
              <a:ext cx="1317600" cy="609120"/>
              <a:chOff x="2639880" y="2273400"/>
              <a:chExt cx="1317600" cy="609120"/>
            </a:xfrm>
          </p:grpSpPr>
          <p:sp>
            <p:nvSpPr>
              <p:cNvPr id="93" name=""/>
              <p:cNvSpPr/>
              <p:nvPr/>
            </p:nvSpPr>
            <p:spPr>
              <a:xfrm>
                <a:off x="2639880" y="2273400"/>
                <a:ext cx="1317600" cy="6091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47520" y="2408040"/>
                <a:ext cx="994680" cy="3405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lbk"/>
                  </a:rPr>
                  <a:t>Predi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767120" y="2274480"/>
              <a:ext cx="1317600" cy="609480"/>
              <a:chOff x="4767120" y="2274480"/>
              <a:chExt cx="1317600" cy="609480"/>
            </a:xfrm>
          </p:grpSpPr>
          <p:sp>
            <p:nvSpPr>
              <p:cNvPr id="96" name=""/>
              <p:cNvSpPr/>
              <p:nvPr/>
            </p:nvSpPr>
            <p:spPr>
              <a:xfrm>
                <a:off x="4767120" y="2274480"/>
                <a:ext cx="1317600" cy="6094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33960" y="2409120"/>
                <a:ext cx="555480" cy="3405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lbk"/>
                  </a:rPr>
                  <a:t>A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3935160" y="257796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49160" y="3263760"/>
            <a:ext cx="8052120" cy="465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4040" indent="-28404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change confronts decisionmakers with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deep uncertaint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w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y do not know, and/or key parties to the decision do not agree on, the system model, prior probabilities, and/or “cost”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cisions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can go awr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f decisionmakers assume risks are well-characterized when they are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certainties are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underestim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eting analyses can contribute to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grid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placed concreteness can blind decision-makers to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u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555920" y="2346480"/>
            <a:ext cx="1058760" cy="444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57200" y="2987640"/>
            <a:ext cx="1468440" cy="574560"/>
          </a:xfrm>
          <a:prstGeom prst="octagon">
            <a:avLst>
              <a:gd name="adj" fmla="val 29287"/>
            </a:avLst>
          </a:prstGeom>
          <a:solidFill>
            <a:srgbClr val="569f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erformanc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f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9360" y="1579680"/>
            <a:ext cx="788760" cy="5061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E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81200" y="1574640"/>
            <a:ext cx="1771560" cy="536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ystem data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limate forec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0" idx="2"/>
            <a:endCxn id="501" idx="0"/>
          </p:cNvCxnSpPr>
          <p:nvPr/>
        </p:nvCxnSpPr>
        <p:spPr>
          <a:xfrm>
            <a:off x="2085840" y="2790360"/>
            <a:ext cx="7200" cy="1976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We Built a Model to Assess Performance of IEUA Plans in Different Future States of World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-308160" y="3800160"/>
            <a:ext cx="4213080" cy="30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projects future water supply and demand for IEUA service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spcBef>
                <a:spcPts val="1001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istent with IEUA management plans and assump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spcBef>
                <a:spcPts val="1001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flect plausible trends of climate cha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4041720" y="1200240"/>
            <a:ext cx="5102280" cy="565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cxnSp>
        <p:nvCxnSpPr>
          <p:cNvPr id="508" name=""/>
          <p:cNvCxnSpPr>
            <a:stCxn id="503" idx="2"/>
            <a:endCxn id="500" idx="0"/>
          </p:cNvCxnSpPr>
          <p:nvPr/>
        </p:nvCxnSpPr>
        <p:spPr>
          <a:xfrm flipH="1">
            <a:off x="2085120" y="2111040"/>
            <a:ext cx="482040" cy="23580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2" idx="2"/>
            <a:endCxn id="500" idx="0"/>
          </p:cNvCxnSpPr>
          <p:nvPr/>
        </p:nvCxnSpPr>
        <p:spPr>
          <a:xfrm>
            <a:off x="944640" y="2085840"/>
            <a:ext cx="1141920" cy="26136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5261400" y="63244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sed on WEAP softwar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57400" y="6553080"/>
            <a:ext cx="1569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203400" y="151920"/>
            <a:ext cx="9042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GCMs Project Plausible Temperature and Precipitation Ranges for Southern California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3811680"/>
            <a:ext cx="3581280" cy="24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rived from forecasts from 21 GCMs with A1B emissions scenar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forecast weighted by ability to reproduce past climate and level of agreement with other forecas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744480" y="138420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101240" y="603720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spcBef>
                <a:spcPts val="67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(Tebaldi et a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473120" y="1181160"/>
            <a:ext cx="7670880" cy="2828880"/>
            <a:chOff x="1473120" y="1181160"/>
            <a:chExt cx="7670880" cy="2828880"/>
          </a:xfrm>
        </p:grpSpPr>
        <p:pic>
          <p:nvPicPr>
            <p:cNvPr id="517" name="" descr=""/>
            <p:cNvPicPr/>
            <p:nvPr/>
          </p:nvPicPr>
          <p:blipFill>
            <a:blip r:embed="rId2"/>
            <a:srcRect l="0" t="310219" r="0" b="310219"/>
            <a:stretch/>
          </p:blipFill>
          <p:spPr>
            <a:xfrm>
              <a:off x="4029120" y="1181160"/>
              <a:ext cx="511488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4404960" y="1230480"/>
              <a:ext cx="21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7160" indent="-227160">
                <a:spcBef>
                  <a:spcPts val="751"/>
                </a:spcBef>
                <a:tabLst>
                  <a:tab algn="l" pos="0"/>
                  <a:tab algn="l" pos="971640"/>
                  <a:tab algn="l" pos="194328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73120" y="2016000"/>
              <a:ext cx="2659320" cy="473040"/>
            </a:xfrm>
            <a:prstGeom prst="line">
              <a:avLst/>
            </a:prstGeom>
            <a:ln w="63360">
              <a:solidFill>
                <a:srgbClr val="ff7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380960" y="2081160"/>
            <a:ext cx="7763040" cy="4776840"/>
            <a:chOff x="1380960" y="2081160"/>
            <a:chExt cx="7763040" cy="4776840"/>
          </a:xfrm>
        </p:grpSpPr>
        <p:pic>
          <p:nvPicPr>
            <p:cNvPr id="521" name="" descr=""/>
            <p:cNvPicPr/>
            <p:nvPr/>
          </p:nvPicPr>
          <p:blipFill>
            <a:blip r:embed="rId3"/>
            <a:srcRect l="0" t="310219" r="0" b="310219"/>
            <a:stretch/>
          </p:blipFill>
          <p:spPr>
            <a:xfrm>
              <a:off x="4029120" y="4029120"/>
              <a:ext cx="511488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4329360" y="5815080"/>
              <a:ext cx="21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7160" indent="-227160">
                <a:spcBef>
                  <a:spcPts val="751"/>
                </a:spcBef>
                <a:tabLst>
                  <a:tab algn="l" pos="0"/>
                  <a:tab algn="l" pos="971640"/>
                  <a:tab algn="l" pos="194328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ecipi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80960" y="2081160"/>
              <a:ext cx="2641680" cy="2440080"/>
            </a:xfrm>
            <a:prstGeom prst="line">
              <a:avLst/>
            </a:prstGeom>
            <a:ln w="63360">
              <a:solidFill>
                <a:srgbClr val="ff7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185840" y="1879560"/>
            <a:ext cx="168120" cy="1699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76520" y="6553080"/>
            <a:ext cx="1569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Generate Future Weather Sequences by Resampling Historic Local Climate Record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622680" cy="314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4680" indent="0">
              <a:lnSpc>
                <a:spcPct val="90000"/>
              </a:lnSpc>
              <a:spcBef>
                <a:spcPts val="2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N method produces hundreds of local weather sequen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ily and monthly variability that matches historic Chino clim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e and precipitation trends that match climate model forecas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440" y="47563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spcBef>
                <a:spcPts val="67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(Yates et a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rcRect l="454093" t="92944" r="454093" b="92944"/>
          <a:stretch/>
        </p:blipFill>
        <p:spPr>
          <a:xfrm>
            <a:off x="3919680" y="1311120"/>
            <a:ext cx="5224320" cy="55468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905120" y="6477120"/>
            <a:ext cx="1569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4156200" y="1546200"/>
            <a:ext cx="1058760" cy="444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76760" y="1482840"/>
            <a:ext cx="1916280" cy="574560"/>
          </a:xfrm>
          <a:prstGeom prst="octagon">
            <a:avLst>
              <a:gd name="adj" fmla="val 29287"/>
            </a:avLst>
          </a:prstGeom>
          <a:solidFill>
            <a:srgbClr val="569f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erformanc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f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023840" y="1417680"/>
            <a:ext cx="2819160" cy="702720"/>
            <a:chOff x="1023840" y="1417680"/>
            <a:chExt cx="2819160" cy="702720"/>
          </a:xfrm>
        </p:grpSpPr>
        <p:sp>
          <p:nvSpPr>
            <p:cNvPr id="534" name=""/>
            <p:cNvSpPr/>
            <p:nvPr/>
          </p:nvSpPr>
          <p:spPr>
            <a:xfrm>
              <a:off x="1834920" y="1417680"/>
              <a:ext cx="1198800" cy="296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EUA Pla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23840" y="1831680"/>
              <a:ext cx="2819160" cy="288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ystem data &amp; climate foreca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6" name=""/>
          <p:cNvCxnSpPr>
            <a:stCxn id="531" idx="3"/>
            <a:endCxn id="532" idx="1"/>
          </p:cNvCxnSpPr>
          <p:nvPr/>
        </p:nvCxnSpPr>
        <p:spPr>
          <a:xfrm>
            <a:off x="5214600" y="1767960"/>
            <a:ext cx="362520" cy="252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3038400" y="1552680"/>
            <a:ext cx="1131840" cy="171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841920" y="1857240"/>
            <a:ext cx="322200" cy="1396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35388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Model Assess Performance of IEUA Plan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in Many Different Scenario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4788000" y="2416320"/>
            <a:ext cx="4143240" cy="3899520"/>
            <a:chOff x="4788000" y="2416320"/>
            <a:chExt cx="4143240" cy="3899520"/>
          </a:xfrm>
        </p:grpSpPr>
        <p:sp>
          <p:nvSpPr>
            <p:cNvPr id="541" name=""/>
            <p:cNvSpPr/>
            <p:nvPr/>
          </p:nvSpPr>
          <p:spPr>
            <a:xfrm>
              <a:off x="5491800" y="6008760"/>
              <a:ext cx="25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Temp:  +1.6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  <a:ea typeface="Arial Unicode MS"/>
                </a:rPr>
                <a:t>o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C Precip:  -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51400" y="2416320"/>
              <a:ext cx="357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c00"/>
                  </a:solidFill>
                  <a:latin typeface="Arial"/>
                  <a:ea typeface="Arial Unicode MS"/>
                </a:rPr>
                <a:t>Scenari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Plan suffers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  <a:ea typeface="Arial Unicode MS"/>
                </a:rPr>
                <a:t>shortage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 in adverse future clim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46800" y="3355920"/>
              <a:ext cx="3335400" cy="2040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46800" y="513720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46800" y="488628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46800" y="462924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46800" y="437832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46800" y="412128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46800" y="386388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46800" y="361332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46800" y="335592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46800" y="3355920"/>
              <a:ext cx="3335400" cy="2040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46800" y="5041800"/>
              <a:ext cx="3335400" cy="354240"/>
            </a:xfrm>
            <a:custGeom>
              <a:avLst/>
              <a:gdLst/>
              <a:ahLst/>
              <a:rect l="l" t="t" r="r" b="b"/>
              <a:pathLst>
                <a:path w="2101" h="223">
                  <a:moveTo>
                    <a:pt x="0" y="223"/>
                  </a:moveTo>
                  <a:lnTo>
                    <a:pt x="0" y="198"/>
                  </a:lnTo>
                  <a:lnTo>
                    <a:pt x="85" y="178"/>
                  </a:lnTo>
                  <a:lnTo>
                    <a:pt x="170" y="158"/>
                  </a:lnTo>
                  <a:lnTo>
                    <a:pt x="251" y="137"/>
                  </a:lnTo>
                  <a:lnTo>
                    <a:pt x="336" y="117"/>
                  </a:lnTo>
                  <a:lnTo>
                    <a:pt x="421" y="97"/>
                  </a:lnTo>
                  <a:lnTo>
                    <a:pt x="506" y="93"/>
                  </a:lnTo>
                  <a:lnTo>
                    <a:pt x="587" y="85"/>
                  </a:lnTo>
                  <a:lnTo>
                    <a:pt x="672" y="77"/>
                  </a:lnTo>
                  <a:lnTo>
                    <a:pt x="757" y="73"/>
                  </a:lnTo>
                  <a:lnTo>
                    <a:pt x="842" y="65"/>
                  </a:lnTo>
                  <a:lnTo>
                    <a:pt x="923" y="60"/>
                  </a:lnTo>
                  <a:lnTo>
                    <a:pt x="1008" y="52"/>
                  </a:lnTo>
                  <a:lnTo>
                    <a:pt x="1093" y="44"/>
                  </a:lnTo>
                  <a:lnTo>
                    <a:pt x="1178" y="40"/>
                  </a:lnTo>
                  <a:lnTo>
                    <a:pt x="1259" y="32"/>
                  </a:lnTo>
                  <a:lnTo>
                    <a:pt x="1344" y="28"/>
                  </a:lnTo>
                  <a:lnTo>
                    <a:pt x="1429" y="20"/>
                  </a:lnTo>
                  <a:lnTo>
                    <a:pt x="1514" y="12"/>
                  </a:lnTo>
                  <a:lnTo>
                    <a:pt x="1595" y="8"/>
                  </a:lnTo>
                  <a:lnTo>
                    <a:pt x="1680" y="0"/>
                  </a:lnTo>
                  <a:lnTo>
                    <a:pt x="1765" y="0"/>
                  </a:lnTo>
                  <a:lnTo>
                    <a:pt x="1850" y="0"/>
                  </a:lnTo>
                  <a:lnTo>
                    <a:pt x="1931" y="0"/>
                  </a:lnTo>
                  <a:lnTo>
                    <a:pt x="2016" y="0"/>
                  </a:lnTo>
                  <a:lnTo>
                    <a:pt x="2101" y="0"/>
                  </a:lnTo>
                  <a:lnTo>
                    <a:pt x="2101" y="223"/>
                  </a:lnTo>
                  <a:lnTo>
                    <a:pt x="2016" y="223"/>
                  </a:lnTo>
                  <a:lnTo>
                    <a:pt x="1931" y="223"/>
                  </a:lnTo>
                  <a:lnTo>
                    <a:pt x="1850" y="223"/>
                  </a:lnTo>
                  <a:lnTo>
                    <a:pt x="1765" y="223"/>
                  </a:lnTo>
                  <a:lnTo>
                    <a:pt x="1680" y="223"/>
                  </a:lnTo>
                  <a:lnTo>
                    <a:pt x="1595" y="223"/>
                  </a:lnTo>
                  <a:lnTo>
                    <a:pt x="1514" y="223"/>
                  </a:lnTo>
                  <a:lnTo>
                    <a:pt x="1429" y="223"/>
                  </a:lnTo>
                  <a:lnTo>
                    <a:pt x="1344" y="223"/>
                  </a:lnTo>
                  <a:lnTo>
                    <a:pt x="1259" y="223"/>
                  </a:lnTo>
                  <a:lnTo>
                    <a:pt x="1178" y="223"/>
                  </a:lnTo>
                  <a:lnTo>
                    <a:pt x="1093" y="223"/>
                  </a:lnTo>
                  <a:lnTo>
                    <a:pt x="1008" y="223"/>
                  </a:lnTo>
                  <a:lnTo>
                    <a:pt x="923" y="223"/>
                  </a:lnTo>
                  <a:lnTo>
                    <a:pt x="842" y="223"/>
                  </a:lnTo>
                  <a:lnTo>
                    <a:pt x="757" y="223"/>
                  </a:lnTo>
                  <a:lnTo>
                    <a:pt x="672" y="223"/>
                  </a:lnTo>
                  <a:lnTo>
                    <a:pt x="587" y="223"/>
                  </a:lnTo>
                  <a:lnTo>
                    <a:pt x="506" y="223"/>
                  </a:lnTo>
                  <a:lnTo>
                    <a:pt x="421" y="223"/>
                  </a:lnTo>
                  <a:lnTo>
                    <a:pt x="336" y="223"/>
                  </a:lnTo>
                  <a:lnTo>
                    <a:pt x="251" y="223"/>
                  </a:lnTo>
                  <a:lnTo>
                    <a:pt x="170" y="223"/>
                  </a:lnTo>
                  <a:lnTo>
                    <a:pt x="85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46800" y="3998880"/>
              <a:ext cx="3335400" cy="1357200"/>
            </a:xfrm>
            <a:custGeom>
              <a:avLst/>
              <a:gdLst/>
              <a:ahLst/>
              <a:rect l="l" t="t" r="r" b="b"/>
              <a:pathLst>
                <a:path w="2101" h="855">
                  <a:moveTo>
                    <a:pt x="0" y="855"/>
                  </a:moveTo>
                  <a:lnTo>
                    <a:pt x="0" y="329"/>
                  </a:lnTo>
                  <a:lnTo>
                    <a:pt x="85" y="300"/>
                  </a:lnTo>
                  <a:lnTo>
                    <a:pt x="170" y="296"/>
                  </a:lnTo>
                  <a:lnTo>
                    <a:pt x="251" y="280"/>
                  </a:lnTo>
                  <a:lnTo>
                    <a:pt x="336" y="248"/>
                  </a:lnTo>
                  <a:lnTo>
                    <a:pt x="421" y="199"/>
                  </a:lnTo>
                  <a:lnTo>
                    <a:pt x="506" y="183"/>
                  </a:lnTo>
                  <a:lnTo>
                    <a:pt x="587" y="195"/>
                  </a:lnTo>
                  <a:lnTo>
                    <a:pt x="672" y="207"/>
                  </a:lnTo>
                  <a:lnTo>
                    <a:pt x="757" y="203"/>
                  </a:lnTo>
                  <a:lnTo>
                    <a:pt x="842" y="138"/>
                  </a:lnTo>
                  <a:lnTo>
                    <a:pt x="923" y="146"/>
                  </a:lnTo>
                  <a:lnTo>
                    <a:pt x="1008" y="130"/>
                  </a:lnTo>
                  <a:lnTo>
                    <a:pt x="1093" y="122"/>
                  </a:lnTo>
                  <a:lnTo>
                    <a:pt x="1178" y="94"/>
                  </a:lnTo>
                  <a:lnTo>
                    <a:pt x="1259" y="134"/>
                  </a:lnTo>
                  <a:lnTo>
                    <a:pt x="1344" y="154"/>
                  </a:lnTo>
                  <a:lnTo>
                    <a:pt x="1429" y="110"/>
                  </a:lnTo>
                  <a:lnTo>
                    <a:pt x="1514" y="167"/>
                  </a:lnTo>
                  <a:lnTo>
                    <a:pt x="1595" y="134"/>
                  </a:lnTo>
                  <a:lnTo>
                    <a:pt x="1680" y="167"/>
                  </a:lnTo>
                  <a:lnTo>
                    <a:pt x="1765" y="94"/>
                  </a:lnTo>
                  <a:lnTo>
                    <a:pt x="1850" y="77"/>
                  </a:lnTo>
                  <a:lnTo>
                    <a:pt x="1931" y="0"/>
                  </a:lnTo>
                  <a:lnTo>
                    <a:pt x="2016" y="90"/>
                  </a:lnTo>
                  <a:lnTo>
                    <a:pt x="2101" y="81"/>
                  </a:lnTo>
                  <a:lnTo>
                    <a:pt x="2101" y="657"/>
                  </a:lnTo>
                  <a:lnTo>
                    <a:pt x="2016" y="657"/>
                  </a:lnTo>
                  <a:lnTo>
                    <a:pt x="1931" y="657"/>
                  </a:lnTo>
                  <a:lnTo>
                    <a:pt x="1850" y="657"/>
                  </a:lnTo>
                  <a:lnTo>
                    <a:pt x="1765" y="657"/>
                  </a:lnTo>
                  <a:lnTo>
                    <a:pt x="1680" y="657"/>
                  </a:lnTo>
                  <a:lnTo>
                    <a:pt x="1595" y="665"/>
                  </a:lnTo>
                  <a:lnTo>
                    <a:pt x="1514" y="669"/>
                  </a:lnTo>
                  <a:lnTo>
                    <a:pt x="1429" y="677"/>
                  </a:lnTo>
                  <a:lnTo>
                    <a:pt x="1344" y="685"/>
                  </a:lnTo>
                  <a:lnTo>
                    <a:pt x="1259" y="689"/>
                  </a:lnTo>
                  <a:lnTo>
                    <a:pt x="1178" y="697"/>
                  </a:lnTo>
                  <a:lnTo>
                    <a:pt x="1093" y="701"/>
                  </a:lnTo>
                  <a:lnTo>
                    <a:pt x="1008" y="709"/>
                  </a:lnTo>
                  <a:lnTo>
                    <a:pt x="923" y="717"/>
                  </a:lnTo>
                  <a:lnTo>
                    <a:pt x="842" y="722"/>
                  </a:lnTo>
                  <a:lnTo>
                    <a:pt x="757" y="730"/>
                  </a:lnTo>
                  <a:lnTo>
                    <a:pt x="672" y="734"/>
                  </a:lnTo>
                  <a:lnTo>
                    <a:pt x="587" y="742"/>
                  </a:lnTo>
                  <a:lnTo>
                    <a:pt x="506" y="750"/>
                  </a:lnTo>
                  <a:lnTo>
                    <a:pt x="421" y="754"/>
                  </a:lnTo>
                  <a:lnTo>
                    <a:pt x="336" y="774"/>
                  </a:lnTo>
                  <a:lnTo>
                    <a:pt x="251" y="794"/>
                  </a:lnTo>
                  <a:lnTo>
                    <a:pt x="170" y="815"/>
                  </a:lnTo>
                  <a:lnTo>
                    <a:pt x="85" y="835"/>
                  </a:lnTo>
                  <a:lnTo>
                    <a:pt x="0" y="8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46800" y="3973680"/>
              <a:ext cx="3335400" cy="547560"/>
            </a:xfrm>
            <a:custGeom>
              <a:avLst/>
              <a:gdLst/>
              <a:ahLst/>
              <a:rect l="l" t="t" r="r" b="b"/>
              <a:pathLst>
                <a:path w="2101" h="345">
                  <a:moveTo>
                    <a:pt x="0" y="345"/>
                  </a:moveTo>
                  <a:lnTo>
                    <a:pt x="0" y="272"/>
                  </a:lnTo>
                  <a:lnTo>
                    <a:pt x="85" y="272"/>
                  </a:lnTo>
                  <a:lnTo>
                    <a:pt x="170" y="264"/>
                  </a:lnTo>
                  <a:lnTo>
                    <a:pt x="251" y="243"/>
                  </a:lnTo>
                  <a:lnTo>
                    <a:pt x="336" y="219"/>
                  </a:lnTo>
                  <a:lnTo>
                    <a:pt x="421" y="178"/>
                  </a:lnTo>
                  <a:lnTo>
                    <a:pt x="506" y="170"/>
                  </a:lnTo>
                  <a:lnTo>
                    <a:pt x="587" y="187"/>
                  </a:lnTo>
                  <a:lnTo>
                    <a:pt x="672" y="203"/>
                  </a:lnTo>
                  <a:lnTo>
                    <a:pt x="757" y="150"/>
                  </a:lnTo>
                  <a:lnTo>
                    <a:pt x="842" y="97"/>
                  </a:lnTo>
                  <a:lnTo>
                    <a:pt x="923" y="114"/>
                  </a:lnTo>
                  <a:lnTo>
                    <a:pt x="1008" y="97"/>
                  </a:lnTo>
                  <a:lnTo>
                    <a:pt x="1093" y="81"/>
                  </a:lnTo>
                  <a:lnTo>
                    <a:pt x="1178" y="93"/>
                  </a:lnTo>
                  <a:lnTo>
                    <a:pt x="1259" y="134"/>
                  </a:lnTo>
                  <a:lnTo>
                    <a:pt x="1344" y="134"/>
                  </a:lnTo>
                  <a:lnTo>
                    <a:pt x="1429" y="114"/>
                  </a:lnTo>
                  <a:lnTo>
                    <a:pt x="1514" y="150"/>
                  </a:lnTo>
                  <a:lnTo>
                    <a:pt x="1595" y="138"/>
                  </a:lnTo>
                  <a:lnTo>
                    <a:pt x="1680" y="130"/>
                  </a:lnTo>
                  <a:lnTo>
                    <a:pt x="1765" y="73"/>
                  </a:lnTo>
                  <a:lnTo>
                    <a:pt x="1850" y="25"/>
                  </a:lnTo>
                  <a:lnTo>
                    <a:pt x="1931" y="0"/>
                  </a:lnTo>
                  <a:lnTo>
                    <a:pt x="2016" y="53"/>
                  </a:lnTo>
                  <a:lnTo>
                    <a:pt x="2101" y="69"/>
                  </a:lnTo>
                  <a:lnTo>
                    <a:pt x="2101" y="97"/>
                  </a:lnTo>
                  <a:lnTo>
                    <a:pt x="2016" y="106"/>
                  </a:lnTo>
                  <a:lnTo>
                    <a:pt x="1931" y="16"/>
                  </a:lnTo>
                  <a:lnTo>
                    <a:pt x="1850" y="93"/>
                  </a:lnTo>
                  <a:lnTo>
                    <a:pt x="1765" y="110"/>
                  </a:lnTo>
                  <a:lnTo>
                    <a:pt x="1680" y="183"/>
                  </a:lnTo>
                  <a:lnTo>
                    <a:pt x="1595" y="150"/>
                  </a:lnTo>
                  <a:lnTo>
                    <a:pt x="1514" y="183"/>
                  </a:lnTo>
                  <a:lnTo>
                    <a:pt x="1429" y="126"/>
                  </a:lnTo>
                  <a:lnTo>
                    <a:pt x="1344" y="170"/>
                  </a:lnTo>
                  <a:lnTo>
                    <a:pt x="1259" y="150"/>
                  </a:lnTo>
                  <a:lnTo>
                    <a:pt x="1178" y="110"/>
                  </a:lnTo>
                  <a:lnTo>
                    <a:pt x="1093" y="138"/>
                  </a:lnTo>
                  <a:lnTo>
                    <a:pt x="1008" y="146"/>
                  </a:lnTo>
                  <a:lnTo>
                    <a:pt x="923" y="162"/>
                  </a:lnTo>
                  <a:lnTo>
                    <a:pt x="842" y="154"/>
                  </a:lnTo>
                  <a:lnTo>
                    <a:pt x="757" y="219"/>
                  </a:lnTo>
                  <a:lnTo>
                    <a:pt x="672" y="223"/>
                  </a:lnTo>
                  <a:lnTo>
                    <a:pt x="587" y="211"/>
                  </a:lnTo>
                  <a:lnTo>
                    <a:pt x="506" y="199"/>
                  </a:lnTo>
                  <a:lnTo>
                    <a:pt x="421" y="215"/>
                  </a:lnTo>
                  <a:lnTo>
                    <a:pt x="336" y="264"/>
                  </a:lnTo>
                  <a:lnTo>
                    <a:pt x="251" y="296"/>
                  </a:lnTo>
                  <a:lnTo>
                    <a:pt x="170" y="312"/>
                  </a:lnTo>
                  <a:lnTo>
                    <a:pt x="85" y="31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46800" y="3652920"/>
              <a:ext cx="3335400" cy="752400"/>
            </a:xfrm>
            <a:custGeom>
              <a:avLst/>
              <a:gdLst/>
              <a:ahLst/>
              <a:rect l="l" t="t" r="r" b="b"/>
              <a:pathLst>
                <a:path w="2101" h="474">
                  <a:moveTo>
                    <a:pt x="0" y="474"/>
                  </a:moveTo>
                  <a:lnTo>
                    <a:pt x="0" y="320"/>
                  </a:lnTo>
                  <a:lnTo>
                    <a:pt x="85" y="279"/>
                  </a:lnTo>
                  <a:lnTo>
                    <a:pt x="170" y="279"/>
                  </a:lnTo>
                  <a:lnTo>
                    <a:pt x="251" y="259"/>
                  </a:lnTo>
                  <a:lnTo>
                    <a:pt x="336" y="235"/>
                  </a:lnTo>
                  <a:lnTo>
                    <a:pt x="421" y="223"/>
                  </a:lnTo>
                  <a:lnTo>
                    <a:pt x="506" y="198"/>
                  </a:lnTo>
                  <a:lnTo>
                    <a:pt x="587" y="186"/>
                  </a:lnTo>
                  <a:lnTo>
                    <a:pt x="672" y="223"/>
                  </a:lnTo>
                  <a:lnTo>
                    <a:pt x="757" y="251"/>
                  </a:lnTo>
                  <a:lnTo>
                    <a:pt x="842" y="158"/>
                  </a:lnTo>
                  <a:lnTo>
                    <a:pt x="923" y="231"/>
                  </a:lnTo>
                  <a:lnTo>
                    <a:pt x="1008" y="158"/>
                  </a:lnTo>
                  <a:lnTo>
                    <a:pt x="1093" y="210"/>
                  </a:lnTo>
                  <a:lnTo>
                    <a:pt x="1178" y="117"/>
                  </a:lnTo>
                  <a:lnTo>
                    <a:pt x="1259" y="125"/>
                  </a:lnTo>
                  <a:lnTo>
                    <a:pt x="1344" y="154"/>
                  </a:lnTo>
                  <a:lnTo>
                    <a:pt x="1429" y="113"/>
                  </a:lnTo>
                  <a:lnTo>
                    <a:pt x="1514" y="235"/>
                  </a:lnTo>
                  <a:lnTo>
                    <a:pt x="1595" y="141"/>
                  </a:lnTo>
                  <a:lnTo>
                    <a:pt x="1680" y="214"/>
                  </a:lnTo>
                  <a:lnTo>
                    <a:pt x="1765" y="65"/>
                  </a:lnTo>
                  <a:lnTo>
                    <a:pt x="1850" y="65"/>
                  </a:lnTo>
                  <a:lnTo>
                    <a:pt x="1931" y="0"/>
                  </a:lnTo>
                  <a:lnTo>
                    <a:pt x="2016" y="150"/>
                  </a:lnTo>
                  <a:lnTo>
                    <a:pt x="2101" y="93"/>
                  </a:lnTo>
                  <a:lnTo>
                    <a:pt x="2101" y="271"/>
                  </a:lnTo>
                  <a:lnTo>
                    <a:pt x="2016" y="255"/>
                  </a:lnTo>
                  <a:lnTo>
                    <a:pt x="1931" y="202"/>
                  </a:lnTo>
                  <a:lnTo>
                    <a:pt x="1850" y="227"/>
                  </a:lnTo>
                  <a:lnTo>
                    <a:pt x="1765" y="275"/>
                  </a:lnTo>
                  <a:lnTo>
                    <a:pt x="1680" y="332"/>
                  </a:lnTo>
                  <a:lnTo>
                    <a:pt x="1595" y="340"/>
                  </a:lnTo>
                  <a:lnTo>
                    <a:pt x="1514" y="352"/>
                  </a:lnTo>
                  <a:lnTo>
                    <a:pt x="1429" y="316"/>
                  </a:lnTo>
                  <a:lnTo>
                    <a:pt x="1344" y="336"/>
                  </a:lnTo>
                  <a:lnTo>
                    <a:pt x="1259" y="336"/>
                  </a:lnTo>
                  <a:lnTo>
                    <a:pt x="1178" y="295"/>
                  </a:lnTo>
                  <a:lnTo>
                    <a:pt x="1093" y="283"/>
                  </a:lnTo>
                  <a:lnTo>
                    <a:pt x="1008" y="299"/>
                  </a:lnTo>
                  <a:lnTo>
                    <a:pt x="923" y="316"/>
                  </a:lnTo>
                  <a:lnTo>
                    <a:pt x="842" y="299"/>
                  </a:lnTo>
                  <a:lnTo>
                    <a:pt x="757" y="352"/>
                  </a:lnTo>
                  <a:lnTo>
                    <a:pt x="672" y="405"/>
                  </a:lnTo>
                  <a:lnTo>
                    <a:pt x="587" y="389"/>
                  </a:lnTo>
                  <a:lnTo>
                    <a:pt x="506" y="372"/>
                  </a:lnTo>
                  <a:lnTo>
                    <a:pt x="421" y="380"/>
                  </a:lnTo>
                  <a:lnTo>
                    <a:pt x="336" y="421"/>
                  </a:lnTo>
                  <a:lnTo>
                    <a:pt x="251" y="445"/>
                  </a:lnTo>
                  <a:lnTo>
                    <a:pt x="170" y="466"/>
                  </a:lnTo>
                  <a:lnTo>
                    <a:pt x="85" y="474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46800" y="3652920"/>
              <a:ext cx="3335400" cy="507960"/>
            </a:xfrm>
            <a:custGeom>
              <a:avLst/>
              <a:gdLst/>
              <a:ahLst/>
              <a:rect l="l" t="t" r="r" b="b"/>
              <a:pathLst>
                <a:path w="2101" h="320">
                  <a:moveTo>
                    <a:pt x="0" y="320"/>
                  </a:moveTo>
                  <a:lnTo>
                    <a:pt x="0" y="320"/>
                  </a:lnTo>
                  <a:lnTo>
                    <a:pt x="85" y="235"/>
                  </a:lnTo>
                  <a:lnTo>
                    <a:pt x="170" y="279"/>
                  </a:lnTo>
                  <a:lnTo>
                    <a:pt x="251" y="259"/>
                  </a:lnTo>
                  <a:lnTo>
                    <a:pt x="336" y="235"/>
                  </a:lnTo>
                  <a:lnTo>
                    <a:pt x="421" y="223"/>
                  </a:lnTo>
                  <a:lnTo>
                    <a:pt x="506" y="198"/>
                  </a:lnTo>
                  <a:lnTo>
                    <a:pt x="587" y="186"/>
                  </a:lnTo>
                  <a:lnTo>
                    <a:pt x="672" y="223"/>
                  </a:lnTo>
                  <a:lnTo>
                    <a:pt x="757" y="251"/>
                  </a:lnTo>
                  <a:lnTo>
                    <a:pt x="842" y="158"/>
                  </a:lnTo>
                  <a:lnTo>
                    <a:pt x="923" y="231"/>
                  </a:lnTo>
                  <a:lnTo>
                    <a:pt x="1008" y="158"/>
                  </a:lnTo>
                  <a:lnTo>
                    <a:pt x="1093" y="210"/>
                  </a:lnTo>
                  <a:lnTo>
                    <a:pt x="1178" y="117"/>
                  </a:lnTo>
                  <a:lnTo>
                    <a:pt x="1259" y="117"/>
                  </a:lnTo>
                  <a:lnTo>
                    <a:pt x="1344" y="154"/>
                  </a:lnTo>
                  <a:lnTo>
                    <a:pt x="1429" y="101"/>
                  </a:lnTo>
                  <a:lnTo>
                    <a:pt x="1514" y="137"/>
                  </a:lnTo>
                  <a:lnTo>
                    <a:pt x="1595" y="65"/>
                  </a:lnTo>
                  <a:lnTo>
                    <a:pt x="1680" y="121"/>
                  </a:lnTo>
                  <a:lnTo>
                    <a:pt x="1765" y="60"/>
                  </a:lnTo>
                  <a:lnTo>
                    <a:pt x="1850" y="65"/>
                  </a:lnTo>
                  <a:lnTo>
                    <a:pt x="1931" y="0"/>
                  </a:lnTo>
                  <a:lnTo>
                    <a:pt x="2016" y="52"/>
                  </a:lnTo>
                  <a:lnTo>
                    <a:pt x="2101" y="4"/>
                  </a:lnTo>
                  <a:lnTo>
                    <a:pt x="2101" y="93"/>
                  </a:lnTo>
                  <a:lnTo>
                    <a:pt x="2016" y="150"/>
                  </a:lnTo>
                  <a:lnTo>
                    <a:pt x="1931" y="0"/>
                  </a:lnTo>
                  <a:lnTo>
                    <a:pt x="1850" y="65"/>
                  </a:lnTo>
                  <a:lnTo>
                    <a:pt x="1765" y="65"/>
                  </a:lnTo>
                  <a:lnTo>
                    <a:pt x="1680" y="214"/>
                  </a:lnTo>
                  <a:lnTo>
                    <a:pt x="1595" y="141"/>
                  </a:lnTo>
                  <a:lnTo>
                    <a:pt x="1514" y="235"/>
                  </a:lnTo>
                  <a:lnTo>
                    <a:pt x="1429" y="113"/>
                  </a:lnTo>
                  <a:lnTo>
                    <a:pt x="1344" y="154"/>
                  </a:lnTo>
                  <a:lnTo>
                    <a:pt x="1259" y="125"/>
                  </a:lnTo>
                  <a:lnTo>
                    <a:pt x="1178" y="117"/>
                  </a:lnTo>
                  <a:lnTo>
                    <a:pt x="1093" y="210"/>
                  </a:lnTo>
                  <a:lnTo>
                    <a:pt x="1008" y="158"/>
                  </a:lnTo>
                  <a:lnTo>
                    <a:pt x="923" y="231"/>
                  </a:lnTo>
                  <a:lnTo>
                    <a:pt x="842" y="158"/>
                  </a:lnTo>
                  <a:lnTo>
                    <a:pt x="757" y="251"/>
                  </a:lnTo>
                  <a:lnTo>
                    <a:pt x="672" y="223"/>
                  </a:lnTo>
                  <a:lnTo>
                    <a:pt x="587" y="186"/>
                  </a:lnTo>
                  <a:lnTo>
                    <a:pt x="506" y="198"/>
                  </a:lnTo>
                  <a:lnTo>
                    <a:pt x="421" y="223"/>
                  </a:lnTo>
                  <a:lnTo>
                    <a:pt x="336" y="235"/>
                  </a:lnTo>
                  <a:lnTo>
                    <a:pt x="251" y="259"/>
                  </a:lnTo>
                  <a:lnTo>
                    <a:pt x="170" y="279"/>
                  </a:lnTo>
                  <a:lnTo>
                    <a:pt x="85" y="279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46800" y="3625920"/>
              <a:ext cx="3335400" cy="534960"/>
            </a:xfrm>
            <a:custGeom>
              <a:avLst/>
              <a:gdLst/>
              <a:ahLst/>
              <a:rect l="l" t="t" r="r" b="b"/>
              <a:pathLst>
                <a:path w="2101" h="337">
                  <a:moveTo>
                    <a:pt x="0" y="337"/>
                  </a:moveTo>
                  <a:lnTo>
                    <a:pt x="0" y="280"/>
                  </a:lnTo>
                  <a:lnTo>
                    <a:pt x="85" y="252"/>
                  </a:lnTo>
                  <a:lnTo>
                    <a:pt x="170" y="268"/>
                  </a:lnTo>
                  <a:lnTo>
                    <a:pt x="251" y="244"/>
                  </a:lnTo>
                  <a:lnTo>
                    <a:pt x="336" y="215"/>
                  </a:lnTo>
                  <a:lnTo>
                    <a:pt x="421" y="175"/>
                  </a:lnTo>
                  <a:lnTo>
                    <a:pt x="506" y="167"/>
                  </a:lnTo>
                  <a:lnTo>
                    <a:pt x="587" y="183"/>
                  </a:lnTo>
                  <a:lnTo>
                    <a:pt x="672" y="195"/>
                  </a:lnTo>
                  <a:lnTo>
                    <a:pt x="757" y="146"/>
                  </a:lnTo>
                  <a:lnTo>
                    <a:pt x="842" y="94"/>
                  </a:lnTo>
                  <a:lnTo>
                    <a:pt x="923" y="106"/>
                  </a:lnTo>
                  <a:lnTo>
                    <a:pt x="1008" y="94"/>
                  </a:lnTo>
                  <a:lnTo>
                    <a:pt x="1093" y="77"/>
                  </a:lnTo>
                  <a:lnTo>
                    <a:pt x="1178" y="86"/>
                  </a:lnTo>
                  <a:lnTo>
                    <a:pt x="1259" y="134"/>
                  </a:lnTo>
                  <a:lnTo>
                    <a:pt x="1344" y="130"/>
                  </a:lnTo>
                  <a:lnTo>
                    <a:pt x="1429" y="118"/>
                  </a:lnTo>
                  <a:lnTo>
                    <a:pt x="1514" y="154"/>
                  </a:lnTo>
                  <a:lnTo>
                    <a:pt x="1595" y="82"/>
                  </a:lnTo>
                  <a:lnTo>
                    <a:pt x="1680" y="138"/>
                  </a:lnTo>
                  <a:lnTo>
                    <a:pt x="1765" y="77"/>
                  </a:lnTo>
                  <a:lnTo>
                    <a:pt x="1850" y="37"/>
                  </a:lnTo>
                  <a:lnTo>
                    <a:pt x="1931" y="0"/>
                  </a:lnTo>
                  <a:lnTo>
                    <a:pt x="2016" y="69"/>
                  </a:lnTo>
                  <a:lnTo>
                    <a:pt x="2101" y="21"/>
                  </a:lnTo>
                  <a:lnTo>
                    <a:pt x="2101" y="21"/>
                  </a:lnTo>
                  <a:lnTo>
                    <a:pt x="2016" y="69"/>
                  </a:lnTo>
                  <a:lnTo>
                    <a:pt x="1931" y="17"/>
                  </a:lnTo>
                  <a:lnTo>
                    <a:pt x="1850" y="82"/>
                  </a:lnTo>
                  <a:lnTo>
                    <a:pt x="1765" y="77"/>
                  </a:lnTo>
                  <a:lnTo>
                    <a:pt x="1680" y="138"/>
                  </a:lnTo>
                  <a:lnTo>
                    <a:pt x="1595" y="82"/>
                  </a:lnTo>
                  <a:lnTo>
                    <a:pt x="1514" y="154"/>
                  </a:lnTo>
                  <a:lnTo>
                    <a:pt x="1429" y="118"/>
                  </a:lnTo>
                  <a:lnTo>
                    <a:pt x="1344" y="171"/>
                  </a:lnTo>
                  <a:lnTo>
                    <a:pt x="1259" y="134"/>
                  </a:lnTo>
                  <a:lnTo>
                    <a:pt x="1178" y="134"/>
                  </a:lnTo>
                  <a:lnTo>
                    <a:pt x="1093" y="227"/>
                  </a:lnTo>
                  <a:lnTo>
                    <a:pt x="1008" y="175"/>
                  </a:lnTo>
                  <a:lnTo>
                    <a:pt x="923" y="248"/>
                  </a:lnTo>
                  <a:lnTo>
                    <a:pt x="842" y="175"/>
                  </a:lnTo>
                  <a:lnTo>
                    <a:pt x="757" y="268"/>
                  </a:lnTo>
                  <a:lnTo>
                    <a:pt x="672" y="240"/>
                  </a:lnTo>
                  <a:lnTo>
                    <a:pt x="587" y="203"/>
                  </a:lnTo>
                  <a:lnTo>
                    <a:pt x="506" y="215"/>
                  </a:lnTo>
                  <a:lnTo>
                    <a:pt x="421" y="240"/>
                  </a:lnTo>
                  <a:lnTo>
                    <a:pt x="336" y="252"/>
                  </a:lnTo>
                  <a:lnTo>
                    <a:pt x="251" y="276"/>
                  </a:lnTo>
                  <a:lnTo>
                    <a:pt x="170" y="296"/>
                  </a:lnTo>
                  <a:lnTo>
                    <a:pt x="85" y="252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46800" y="3625920"/>
              <a:ext cx="3335400" cy="444600"/>
            </a:xfrm>
            <a:custGeom>
              <a:avLst/>
              <a:gdLst/>
              <a:ahLst/>
              <a:rect l="l" t="t" r="r" b="b"/>
              <a:pathLst>
                <a:path w="2101" h="280">
                  <a:moveTo>
                    <a:pt x="0" y="280"/>
                  </a:moveTo>
                  <a:lnTo>
                    <a:pt x="0" y="280"/>
                  </a:lnTo>
                  <a:lnTo>
                    <a:pt x="85" y="252"/>
                  </a:lnTo>
                  <a:lnTo>
                    <a:pt x="170" y="268"/>
                  </a:lnTo>
                  <a:lnTo>
                    <a:pt x="251" y="244"/>
                  </a:lnTo>
                  <a:lnTo>
                    <a:pt x="336" y="215"/>
                  </a:lnTo>
                  <a:lnTo>
                    <a:pt x="421" y="175"/>
                  </a:lnTo>
                  <a:lnTo>
                    <a:pt x="506" y="167"/>
                  </a:lnTo>
                  <a:lnTo>
                    <a:pt x="587" y="183"/>
                  </a:lnTo>
                  <a:lnTo>
                    <a:pt x="672" y="195"/>
                  </a:lnTo>
                  <a:lnTo>
                    <a:pt x="757" y="146"/>
                  </a:lnTo>
                  <a:lnTo>
                    <a:pt x="842" y="94"/>
                  </a:lnTo>
                  <a:lnTo>
                    <a:pt x="923" y="106"/>
                  </a:lnTo>
                  <a:lnTo>
                    <a:pt x="1008" y="94"/>
                  </a:lnTo>
                  <a:lnTo>
                    <a:pt x="1093" y="77"/>
                  </a:lnTo>
                  <a:lnTo>
                    <a:pt x="1178" y="86"/>
                  </a:lnTo>
                  <a:lnTo>
                    <a:pt x="1259" y="134"/>
                  </a:lnTo>
                  <a:lnTo>
                    <a:pt x="1344" y="130"/>
                  </a:lnTo>
                  <a:lnTo>
                    <a:pt x="1429" y="118"/>
                  </a:lnTo>
                  <a:lnTo>
                    <a:pt x="1514" y="146"/>
                  </a:lnTo>
                  <a:lnTo>
                    <a:pt x="1595" y="82"/>
                  </a:lnTo>
                  <a:lnTo>
                    <a:pt x="1680" y="57"/>
                  </a:lnTo>
                  <a:lnTo>
                    <a:pt x="1765" y="77"/>
                  </a:lnTo>
                  <a:lnTo>
                    <a:pt x="1850" y="37"/>
                  </a:lnTo>
                  <a:lnTo>
                    <a:pt x="1931" y="0"/>
                  </a:lnTo>
                  <a:lnTo>
                    <a:pt x="2016" y="61"/>
                  </a:lnTo>
                  <a:lnTo>
                    <a:pt x="2101" y="21"/>
                  </a:lnTo>
                  <a:lnTo>
                    <a:pt x="2101" y="21"/>
                  </a:lnTo>
                  <a:lnTo>
                    <a:pt x="2016" y="69"/>
                  </a:lnTo>
                  <a:lnTo>
                    <a:pt x="1931" y="0"/>
                  </a:lnTo>
                  <a:lnTo>
                    <a:pt x="1850" y="37"/>
                  </a:lnTo>
                  <a:lnTo>
                    <a:pt x="1765" y="77"/>
                  </a:lnTo>
                  <a:lnTo>
                    <a:pt x="1680" y="138"/>
                  </a:lnTo>
                  <a:lnTo>
                    <a:pt x="1595" y="82"/>
                  </a:lnTo>
                  <a:lnTo>
                    <a:pt x="1514" y="154"/>
                  </a:lnTo>
                  <a:lnTo>
                    <a:pt x="1429" y="118"/>
                  </a:lnTo>
                  <a:lnTo>
                    <a:pt x="1344" y="130"/>
                  </a:lnTo>
                  <a:lnTo>
                    <a:pt x="1259" y="134"/>
                  </a:lnTo>
                  <a:lnTo>
                    <a:pt x="1178" y="86"/>
                  </a:lnTo>
                  <a:lnTo>
                    <a:pt x="1093" y="77"/>
                  </a:lnTo>
                  <a:lnTo>
                    <a:pt x="1008" y="94"/>
                  </a:lnTo>
                  <a:lnTo>
                    <a:pt x="923" y="106"/>
                  </a:lnTo>
                  <a:lnTo>
                    <a:pt x="842" y="94"/>
                  </a:lnTo>
                  <a:lnTo>
                    <a:pt x="757" y="146"/>
                  </a:lnTo>
                  <a:lnTo>
                    <a:pt x="672" y="195"/>
                  </a:lnTo>
                  <a:lnTo>
                    <a:pt x="587" y="183"/>
                  </a:lnTo>
                  <a:lnTo>
                    <a:pt x="506" y="167"/>
                  </a:lnTo>
                  <a:lnTo>
                    <a:pt x="421" y="175"/>
                  </a:lnTo>
                  <a:lnTo>
                    <a:pt x="336" y="215"/>
                  </a:lnTo>
                  <a:lnTo>
                    <a:pt x="251" y="244"/>
                  </a:lnTo>
                  <a:lnTo>
                    <a:pt x="170" y="268"/>
                  </a:lnTo>
                  <a:lnTo>
                    <a:pt x="85" y="252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46800" y="5041800"/>
              <a:ext cx="3335400" cy="354240"/>
            </a:xfrm>
            <a:custGeom>
              <a:avLst/>
              <a:gdLst/>
              <a:ahLst/>
              <a:rect l="l" t="t" r="r" b="b"/>
              <a:pathLst>
                <a:path w="2101" h="223">
                  <a:moveTo>
                    <a:pt x="0" y="223"/>
                  </a:moveTo>
                  <a:lnTo>
                    <a:pt x="0" y="198"/>
                  </a:lnTo>
                  <a:lnTo>
                    <a:pt x="85" y="178"/>
                  </a:lnTo>
                  <a:lnTo>
                    <a:pt x="170" y="158"/>
                  </a:lnTo>
                  <a:lnTo>
                    <a:pt x="251" y="137"/>
                  </a:lnTo>
                  <a:lnTo>
                    <a:pt x="336" y="117"/>
                  </a:lnTo>
                  <a:lnTo>
                    <a:pt x="421" y="97"/>
                  </a:lnTo>
                  <a:lnTo>
                    <a:pt x="506" y="93"/>
                  </a:lnTo>
                  <a:lnTo>
                    <a:pt x="587" y="85"/>
                  </a:lnTo>
                  <a:lnTo>
                    <a:pt x="672" y="77"/>
                  </a:lnTo>
                  <a:lnTo>
                    <a:pt x="757" y="73"/>
                  </a:lnTo>
                  <a:lnTo>
                    <a:pt x="842" y="65"/>
                  </a:lnTo>
                  <a:lnTo>
                    <a:pt x="923" y="60"/>
                  </a:lnTo>
                  <a:lnTo>
                    <a:pt x="1008" y="52"/>
                  </a:lnTo>
                  <a:lnTo>
                    <a:pt x="1093" y="44"/>
                  </a:lnTo>
                  <a:lnTo>
                    <a:pt x="1178" y="40"/>
                  </a:lnTo>
                  <a:lnTo>
                    <a:pt x="1259" y="32"/>
                  </a:lnTo>
                  <a:lnTo>
                    <a:pt x="1344" y="28"/>
                  </a:lnTo>
                  <a:lnTo>
                    <a:pt x="1429" y="20"/>
                  </a:lnTo>
                  <a:lnTo>
                    <a:pt x="1514" y="12"/>
                  </a:lnTo>
                  <a:lnTo>
                    <a:pt x="1595" y="8"/>
                  </a:lnTo>
                  <a:lnTo>
                    <a:pt x="1680" y="0"/>
                  </a:lnTo>
                  <a:lnTo>
                    <a:pt x="1765" y="0"/>
                  </a:lnTo>
                  <a:lnTo>
                    <a:pt x="1850" y="0"/>
                  </a:lnTo>
                  <a:lnTo>
                    <a:pt x="1931" y="0"/>
                  </a:lnTo>
                  <a:lnTo>
                    <a:pt x="2016" y="0"/>
                  </a:lnTo>
                  <a:lnTo>
                    <a:pt x="2101" y="0"/>
                  </a:lnTo>
                  <a:lnTo>
                    <a:pt x="2101" y="223"/>
                  </a:lnTo>
                  <a:lnTo>
                    <a:pt x="2016" y="223"/>
                  </a:lnTo>
                  <a:lnTo>
                    <a:pt x="1931" y="223"/>
                  </a:lnTo>
                  <a:lnTo>
                    <a:pt x="1850" y="223"/>
                  </a:lnTo>
                  <a:lnTo>
                    <a:pt x="1765" y="223"/>
                  </a:lnTo>
                  <a:lnTo>
                    <a:pt x="1680" y="223"/>
                  </a:lnTo>
                  <a:lnTo>
                    <a:pt x="1595" y="223"/>
                  </a:lnTo>
                  <a:lnTo>
                    <a:pt x="1514" y="223"/>
                  </a:lnTo>
                  <a:lnTo>
                    <a:pt x="1429" y="223"/>
                  </a:lnTo>
                  <a:lnTo>
                    <a:pt x="1344" y="223"/>
                  </a:lnTo>
                  <a:lnTo>
                    <a:pt x="1259" y="223"/>
                  </a:lnTo>
                  <a:lnTo>
                    <a:pt x="1178" y="223"/>
                  </a:lnTo>
                  <a:lnTo>
                    <a:pt x="1093" y="223"/>
                  </a:lnTo>
                  <a:lnTo>
                    <a:pt x="1008" y="223"/>
                  </a:lnTo>
                  <a:lnTo>
                    <a:pt x="923" y="223"/>
                  </a:lnTo>
                  <a:lnTo>
                    <a:pt x="842" y="223"/>
                  </a:lnTo>
                  <a:lnTo>
                    <a:pt x="757" y="223"/>
                  </a:lnTo>
                  <a:lnTo>
                    <a:pt x="672" y="223"/>
                  </a:lnTo>
                  <a:lnTo>
                    <a:pt x="587" y="223"/>
                  </a:lnTo>
                  <a:lnTo>
                    <a:pt x="506" y="223"/>
                  </a:lnTo>
                  <a:lnTo>
                    <a:pt x="421" y="223"/>
                  </a:lnTo>
                  <a:lnTo>
                    <a:pt x="336" y="223"/>
                  </a:lnTo>
                  <a:lnTo>
                    <a:pt x="251" y="223"/>
                  </a:lnTo>
                  <a:lnTo>
                    <a:pt x="170" y="223"/>
                  </a:lnTo>
                  <a:lnTo>
                    <a:pt x="85" y="223"/>
                  </a:lnTo>
                  <a:lnTo>
                    <a:pt x="0" y="2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46800" y="3973680"/>
              <a:ext cx="3335400" cy="547560"/>
            </a:xfrm>
            <a:custGeom>
              <a:avLst/>
              <a:gdLst/>
              <a:ahLst/>
              <a:rect l="l" t="t" r="r" b="b"/>
              <a:pathLst>
                <a:path w="2101" h="345">
                  <a:moveTo>
                    <a:pt x="0" y="345"/>
                  </a:moveTo>
                  <a:lnTo>
                    <a:pt x="0" y="272"/>
                  </a:lnTo>
                  <a:lnTo>
                    <a:pt x="85" y="272"/>
                  </a:lnTo>
                  <a:lnTo>
                    <a:pt x="170" y="264"/>
                  </a:lnTo>
                  <a:lnTo>
                    <a:pt x="251" y="243"/>
                  </a:lnTo>
                  <a:lnTo>
                    <a:pt x="336" y="219"/>
                  </a:lnTo>
                  <a:lnTo>
                    <a:pt x="421" y="178"/>
                  </a:lnTo>
                  <a:lnTo>
                    <a:pt x="506" y="170"/>
                  </a:lnTo>
                  <a:lnTo>
                    <a:pt x="587" y="187"/>
                  </a:lnTo>
                  <a:lnTo>
                    <a:pt x="672" y="203"/>
                  </a:lnTo>
                  <a:lnTo>
                    <a:pt x="757" y="150"/>
                  </a:lnTo>
                  <a:lnTo>
                    <a:pt x="842" y="97"/>
                  </a:lnTo>
                  <a:lnTo>
                    <a:pt x="923" y="114"/>
                  </a:lnTo>
                  <a:lnTo>
                    <a:pt x="1008" y="97"/>
                  </a:lnTo>
                  <a:lnTo>
                    <a:pt x="1093" y="81"/>
                  </a:lnTo>
                  <a:lnTo>
                    <a:pt x="1178" y="93"/>
                  </a:lnTo>
                  <a:lnTo>
                    <a:pt x="1259" y="134"/>
                  </a:lnTo>
                  <a:lnTo>
                    <a:pt x="1344" y="134"/>
                  </a:lnTo>
                  <a:lnTo>
                    <a:pt x="1429" y="114"/>
                  </a:lnTo>
                  <a:lnTo>
                    <a:pt x="1514" y="150"/>
                  </a:lnTo>
                  <a:lnTo>
                    <a:pt x="1595" y="138"/>
                  </a:lnTo>
                  <a:lnTo>
                    <a:pt x="1680" y="130"/>
                  </a:lnTo>
                  <a:lnTo>
                    <a:pt x="1765" y="73"/>
                  </a:lnTo>
                  <a:lnTo>
                    <a:pt x="1850" y="25"/>
                  </a:lnTo>
                  <a:lnTo>
                    <a:pt x="1931" y="0"/>
                  </a:lnTo>
                  <a:lnTo>
                    <a:pt x="2016" y="53"/>
                  </a:lnTo>
                  <a:lnTo>
                    <a:pt x="2101" y="69"/>
                  </a:lnTo>
                  <a:lnTo>
                    <a:pt x="2101" y="97"/>
                  </a:lnTo>
                  <a:lnTo>
                    <a:pt x="2016" y="106"/>
                  </a:lnTo>
                  <a:lnTo>
                    <a:pt x="1931" y="16"/>
                  </a:lnTo>
                  <a:lnTo>
                    <a:pt x="1850" y="93"/>
                  </a:lnTo>
                  <a:lnTo>
                    <a:pt x="1765" y="110"/>
                  </a:lnTo>
                  <a:lnTo>
                    <a:pt x="1680" y="183"/>
                  </a:lnTo>
                  <a:lnTo>
                    <a:pt x="1595" y="150"/>
                  </a:lnTo>
                  <a:lnTo>
                    <a:pt x="1514" y="183"/>
                  </a:lnTo>
                  <a:lnTo>
                    <a:pt x="1429" y="126"/>
                  </a:lnTo>
                  <a:lnTo>
                    <a:pt x="1344" y="170"/>
                  </a:lnTo>
                  <a:lnTo>
                    <a:pt x="1259" y="150"/>
                  </a:lnTo>
                  <a:lnTo>
                    <a:pt x="1178" y="110"/>
                  </a:lnTo>
                  <a:lnTo>
                    <a:pt x="1093" y="138"/>
                  </a:lnTo>
                  <a:lnTo>
                    <a:pt x="1008" y="146"/>
                  </a:lnTo>
                  <a:lnTo>
                    <a:pt x="923" y="162"/>
                  </a:lnTo>
                  <a:lnTo>
                    <a:pt x="842" y="154"/>
                  </a:lnTo>
                  <a:lnTo>
                    <a:pt x="757" y="219"/>
                  </a:lnTo>
                  <a:lnTo>
                    <a:pt x="672" y="223"/>
                  </a:lnTo>
                  <a:lnTo>
                    <a:pt x="587" y="211"/>
                  </a:lnTo>
                  <a:lnTo>
                    <a:pt x="506" y="199"/>
                  </a:lnTo>
                  <a:lnTo>
                    <a:pt x="421" y="215"/>
                  </a:lnTo>
                  <a:lnTo>
                    <a:pt x="336" y="264"/>
                  </a:lnTo>
                  <a:lnTo>
                    <a:pt x="251" y="296"/>
                  </a:lnTo>
                  <a:lnTo>
                    <a:pt x="170" y="312"/>
                  </a:lnTo>
                  <a:lnTo>
                    <a:pt x="85" y="316"/>
                  </a:lnTo>
                  <a:lnTo>
                    <a:pt x="0" y="34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46800" y="3652920"/>
              <a:ext cx="3335400" cy="752400"/>
            </a:xfrm>
            <a:custGeom>
              <a:avLst/>
              <a:gdLst/>
              <a:ahLst/>
              <a:rect l="l" t="t" r="r" b="b"/>
              <a:pathLst>
                <a:path w="2101" h="474">
                  <a:moveTo>
                    <a:pt x="0" y="474"/>
                  </a:moveTo>
                  <a:lnTo>
                    <a:pt x="0" y="320"/>
                  </a:lnTo>
                  <a:lnTo>
                    <a:pt x="85" y="279"/>
                  </a:lnTo>
                  <a:lnTo>
                    <a:pt x="170" y="279"/>
                  </a:lnTo>
                  <a:lnTo>
                    <a:pt x="251" y="259"/>
                  </a:lnTo>
                  <a:lnTo>
                    <a:pt x="336" y="235"/>
                  </a:lnTo>
                  <a:lnTo>
                    <a:pt x="421" y="223"/>
                  </a:lnTo>
                  <a:lnTo>
                    <a:pt x="506" y="198"/>
                  </a:lnTo>
                  <a:lnTo>
                    <a:pt x="587" y="186"/>
                  </a:lnTo>
                  <a:lnTo>
                    <a:pt x="672" y="223"/>
                  </a:lnTo>
                  <a:lnTo>
                    <a:pt x="757" y="251"/>
                  </a:lnTo>
                  <a:lnTo>
                    <a:pt x="842" y="158"/>
                  </a:lnTo>
                  <a:lnTo>
                    <a:pt x="923" y="231"/>
                  </a:lnTo>
                  <a:lnTo>
                    <a:pt x="1008" y="158"/>
                  </a:lnTo>
                  <a:lnTo>
                    <a:pt x="1093" y="210"/>
                  </a:lnTo>
                  <a:lnTo>
                    <a:pt x="1178" y="117"/>
                  </a:lnTo>
                  <a:lnTo>
                    <a:pt x="1259" y="125"/>
                  </a:lnTo>
                  <a:lnTo>
                    <a:pt x="1344" y="154"/>
                  </a:lnTo>
                  <a:lnTo>
                    <a:pt x="1429" y="113"/>
                  </a:lnTo>
                  <a:lnTo>
                    <a:pt x="1514" y="235"/>
                  </a:lnTo>
                  <a:lnTo>
                    <a:pt x="1595" y="141"/>
                  </a:lnTo>
                  <a:lnTo>
                    <a:pt x="1680" y="214"/>
                  </a:lnTo>
                  <a:lnTo>
                    <a:pt x="1765" y="65"/>
                  </a:lnTo>
                  <a:lnTo>
                    <a:pt x="1850" y="65"/>
                  </a:lnTo>
                  <a:lnTo>
                    <a:pt x="1931" y="0"/>
                  </a:lnTo>
                  <a:lnTo>
                    <a:pt x="2016" y="150"/>
                  </a:lnTo>
                  <a:lnTo>
                    <a:pt x="2101" y="93"/>
                  </a:lnTo>
                  <a:lnTo>
                    <a:pt x="2101" y="271"/>
                  </a:lnTo>
                  <a:lnTo>
                    <a:pt x="2016" y="255"/>
                  </a:lnTo>
                  <a:lnTo>
                    <a:pt x="1931" y="202"/>
                  </a:lnTo>
                  <a:lnTo>
                    <a:pt x="1850" y="227"/>
                  </a:lnTo>
                  <a:lnTo>
                    <a:pt x="1765" y="275"/>
                  </a:lnTo>
                  <a:lnTo>
                    <a:pt x="1680" y="332"/>
                  </a:lnTo>
                  <a:lnTo>
                    <a:pt x="1595" y="340"/>
                  </a:lnTo>
                  <a:lnTo>
                    <a:pt x="1514" y="352"/>
                  </a:lnTo>
                  <a:lnTo>
                    <a:pt x="1429" y="316"/>
                  </a:lnTo>
                  <a:lnTo>
                    <a:pt x="1344" y="336"/>
                  </a:lnTo>
                  <a:lnTo>
                    <a:pt x="1259" y="336"/>
                  </a:lnTo>
                  <a:lnTo>
                    <a:pt x="1178" y="295"/>
                  </a:lnTo>
                  <a:lnTo>
                    <a:pt x="1093" y="283"/>
                  </a:lnTo>
                  <a:lnTo>
                    <a:pt x="1008" y="299"/>
                  </a:lnTo>
                  <a:lnTo>
                    <a:pt x="923" y="316"/>
                  </a:lnTo>
                  <a:lnTo>
                    <a:pt x="842" y="299"/>
                  </a:lnTo>
                  <a:lnTo>
                    <a:pt x="757" y="352"/>
                  </a:lnTo>
                  <a:lnTo>
                    <a:pt x="672" y="405"/>
                  </a:lnTo>
                  <a:lnTo>
                    <a:pt x="587" y="389"/>
                  </a:lnTo>
                  <a:lnTo>
                    <a:pt x="506" y="372"/>
                  </a:lnTo>
                  <a:lnTo>
                    <a:pt x="421" y="380"/>
                  </a:lnTo>
                  <a:lnTo>
                    <a:pt x="336" y="421"/>
                  </a:lnTo>
                  <a:lnTo>
                    <a:pt x="251" y="445"/>
                  </a:lnTo>
                  <a:lnTo>
                    <a:pt x="170" y="466"/>
                  </a:lnTo>
                  <a:lnTo>
                    <a:pt x="85" y="474"/>
                  </a:lnTo>
                  <a:lnTo>
                    <a:pt x="0" y="47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46800" y="3652920"/>
              <a:ext cx="3335400" cy="507960"/>
            </a:xfrm>
            <a:custGeom>
              <a:avLst/>
              <a:gdLst/>
              <a:ahLst/>
              <a:rect l="l" t="t" r="r" b="b"/>
              <a:pathLst>
                <a:path w="2101" h="320">
                  <a:moveTo>
                    <a:pt x="0" y="320"/>
                  </a:moveTo>
                  <a:lnTo>
                    <a:pt x="0" y="320"/>
                  </a:lnTo>
                  <a:lnTo>
                    <a:pt x="85" y="235"/>
                  </a:lnTo>
                  <a:lnTo>
                    <a:pt x="170" y="279"/>
                  </a:lnTo>
                  <a:lnTo>
                    <a:pt x="251" y="259"/>
                  </a:lnTo>
                  <a:lnTo>
                    <a:pt x="336" y="235"/>
                  </a:lnTo>
                  <a:lnTo>
                    <a:pt x="421" y="223"/>
                  </a:lnTo>
                  <a:lnTo>
                    <a:pt x="506" y="198"/>
                  </a:lnTo>
                  <a:lnTo>
                    <a:pt x="587" y="186"/>
                  </a:lnTo>
                  <a:lnTo>
                    <a:pt x="672" y="223"/>
                  </a:lnTo>
                  <a:lnTo>
                    <a:pt x="757" y="251"/>
                  </a:lnTo>
                  <a:lnTo>
                    <a:pt x="842" y="158"/>
                  </a:lnTo>
                  <a:lnTo>
                    <a:pt x="923" y="231"/>
                  </a:lnTo>
                  <a:lnTo>
                    <a:pt x="1008" y="158"/>
                  </a:lnTo>
                  <a:lnTo>
                    <a:pt x="1093" y="210"/>
                  </a:lnTo>
                  <a:lnTo>
                    <a:pt x="1178" y="117"/>
                  </a:lnTo>
                  <a:lnTo>
                    <a:pt x="1259" y="117"/>
                  </a:lnTo>
                  <a:lnTo>
                    <a:pt x="1344" y="154"/>
                  </a:lnTo>
                  <a:lnTo>
                    <a:pt x="1429" y="101"/>
                  </a:lnTo>
                  <a:lnTo>
                    <a:pt x="1514" y="137"/>
                  </a:lnTo>
                  <a:lnTo>
                    <a:pt x="1595" y="65"/>
                  </a:lnTo>
                  <a:lnTo>
                    <a:pt x="1680" y="121"/>
                  </a:lnTo>
                  <a:lnTo>
                    <a:pt x="1765" y="60"/>
                  </a:lnTo>
                  <a:lnTo>
                    <a:pt x="1850" y="65"/>
                  </a:lnTo>
                  <a:lnTo>
                    <a:pt x="1931" y="0"/>
                  </a:lnTo>
                  <a:lnTo>
                    <a:pt x="2016" y="52"/>
                  </a:lnTo>
                  <a:lnTo>
                    <a:pt x="2101" y="4"/>
                  </a:lnTo>
                  <a:lnTo>
                    <a:pt x="2101" y="93"/>
                  </a:lnTo>
                  <a:lnTo>
                    <a:pt x="2016" y="150"/>
                  </a:lnTo>
                  <a:lnTo>
                    <a:pt x="1931" y="0"/>
                  </a:lnTo>
                  <a:lnTo>
                    <a:pt x="1850" y="65"/>
                  </a:lnTo>
                  <a:lnTo>
                    <a:pt x="1765" y="65"/>
                  </a:lnTo>
                  <a:lnTo>
                    <a:pt x="1680" y="214"/>
                  </a:lnTo>
                  <a:lnTo>
                    <a:pt x="1595" y="141"/>
                  </a:lnTo>
                  <a:lnTo>
                    <a:pt x="1514" y="235"/>
                  </a:lnTo>
                  <a:lnTo>
                    <a:pt x="1429" y="113"/>
                  </a:lnTo>
                  <a:lnTo>
                    <a:pt x="1344" y="154"/>
                  </a:lnTo>
                  <a:lnTo>
                    <a:pt x="1259" y="125"/>
                  </a:lnTo>
                  <a:lnTo>
                    <a:pt x="1178" y="117"/>
                  </a:lnTo>
                  <a:lnTo>
                    <a:pt x="1093" y="210"/>
                  </a:lnTo>
                  <a:lnTo>
                    <a:pt x="1008" y="158"/>
                  </a:lnTo>
                  <a:lnTo>
                    <a:pt x="923" y="231"/>
                  </a:lnTo>
                  <a:lnTo>
                    <a:pt x="842" y="158"/>
                  </a:lnTo>
                  <a:lnTo>
                    <a:pt x="757" y="251"/>
                  </a:lnTo>
                  <a:lnTo>
                    <a:pt x="672" y="223"/>
                  </a:lnTo>
                  <a:lnTo>
                    <a:pt x="587" y="186"/>
                  </a:lnTo>
                  <a:lnTo>
                    <a:pt x="506" y="198"/>
                  </a:lnTo>
                  <a:lnTo>
                    <a:pt x="421" y="223"/>
                  </a:lnTo>
                  <a:lnTo>
                    <a:pt x="336" y="235"/>
                  </a:lnTo>
                  <a:lnTo>
                    <a:pt x="251" y="259"/>
                  </a:lnTo>
                  <a:lnTo>
                    <a:pt x="170" y="279"/>
                  </a:lnTo>
                  <a:lnTo>
                    <a:pt x="85" y="279"/>
                  </a:lnTo>
                  <a:lnTo>
                    <a:pt x="0" y="3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46800" y="3625920"/>
              <a:ext cx="3335400" cy="534960"/>
            </a:xfrm>
            <a:custGeom>
              <a:avLst/>
              <a:gdLst/>
              <a:ahLst/>
              <a:rect l="l" t="t" r="r" b="b"/>
              <a:pathLst>
                <a:path w="2101" h="337">
                  <a:moveTo>
                    <a:pt x="0" y="337"/>
                  </a:moveTo>
                  <a:lnTo>
                    <a:pt x="0" y="280"/>
                  </a:lnTo>
                  <a:lnTo>
                    <a:pt x="85" y="252"/>
                  </a:lnTo>
                  <a:lnTo>
                    <a:pt x="170" y="268"/>
                  </a:lnTo>
                  <a:lnTo>
                    <a:pt x="251" y="244"/>
                  </a:lnTo>
                  <a:lnTo>
                    <a:pt x="336" y="215"/>
                  </a:lnTo>
                  <a:lnTo>
                    <a:pt x="421" y="175"/>
                  </a:lnTo>
                  <a:lnTo>
                    <a:pt x="506" y="167"/>
                  </a:lnTo>
                  <a:lnTo>
                    <a:pt x="587" y="183"/>
                  </a:lnTo>
                  <a:lnTo>
                    <a:pt x="672" y="195"/>
                  </a:lnTo>
                  <a:lnTo>
                    <a:pt x="757" y="146"/>
                  </a:lnTo>
                  <a:lnTo>
                    <a:pt x="842" y="94"/>
                  </a:lnTo>
                  <a:lnTo>
                    <a:pt x="923" y="106"/>
                  </a:lnTo>
                  <a:lnTo>
                    <a:pt x="1008" y="94"/>
                  </a:lnTo>
                  <a:lnTo>
                    <a:pt x="1093" y="77"/>
                  </a:lnTo>
                  <a:lnTo>
                    <a:pt x="1178" y="86"/>
                  </a:lnTo>
                  <a:lnTo>
                    <a:pt x="1259" y="134"/>
                  </a:lnTo>
                  <a:lnTo>
                    <a:pt x="1344" y="130"/>
                  </a:lnTo>
                  <a:lnTo>
                    <a:pt x="1429" y="118"/>
                  </a:lnTo>
                  <a:lnTo>
                    <a:pt x="1514" y="154"/>
                  </a:lnTo>
                  <a:lnTo>
                    <a:pt x="1595" y="82"/>
                  </a:lnTo>
                  <a:lnTo>
                    <a:pt x="1680" y="138"/>
                  </a:lnTo>
                  <a:lnTo>
                    <a:pt x="1765" y="77"/>
                  </a:lnTo>
                  <a:lnTo>
                    <a:pt x="1850" y="37"/>
                  </a:lnTo>
                  <a:lnTo>
                    <a:pt x="1931" y="0"/>
                  </a:lnTo>
                  <a:lnTo>
                    <a:pt x="2016" y="69"/>
                  </a:lnTo>
                  <a:lnTo>
                    <a:pt x="2101" y="21"/>
                  </a:lnTo>
                  <a:lnTo>
                    <a:pt x="2101" y="21"/>
                  </a:lnTo>
                  <a:lnTo>
                    <a:pt x="2016" y="69"/>
                  </a:lnTo>
                  <a:lnTo>
                    <a:pt x="1931" y="17"/>
                  </a:lnTo>
                  <a:lnTo>
                    <a:pt x="1850" y="82"/>
                  </a:lnTo>
                  <a:lnTo>
                    <a:pt x="1765" y="77"/>
                  </a:lnTo>
                  <a:lnTo>
                    <a:pt x="1680" y="138"/>
                  </a:lnTo>
                  <a:lnTo>
                    <a:pt x="1595" y="82"/>
                  </a:lnTo>
                  <a:lnTo>
                    <a:pt x="1514" y="154"/>
                  </a:lnTo>
                  <a:lnTo>
                    <a:pt x="1429" y="118"/>
                  </a:lnTo>
                  <a:lnTo>
                    <a:pt x="1344" y="171"/>
                  </a:lnTo>
                  <a:lnTo>
                    <a:pt x="1259" y="134"/>
                  </a:lnTo>
                  <a:lnTo>
                    <a:pt x="1178" y="134"/>
                  </a:lnTo>
                  <a:lnTo>
                    <a:pt x="1093" y="227"/>
                  </a:lnTo>
                  <a:lnTo>
                    <a:pt x="1008" y="175"/>
                  </a:lnTo>
                  <a:lnTo>
                    <a:pt x="923" y="248"/>
                  </a:lnTo>
                  <a:lnTo>
                    <a:pt x="842" y="175"/>
                  </a:lnTo>
                  <a:lnTo>
                    <a:pt x="757" y="268"/>
                  </a:lnTo>
                  <a:lnTo>
                    <a:pt x="672" y="240"/>
                  </a:lnTo>
                  <a:lnTo>
                    <a:pt x="587" y="203"/>
                  </a:lnTo>
                  <a:lnTo>
                    <a:pt x="506" y="215"/>
                  </a:lnTo>
                  <a:lnTo>
                    <a:pt x="421" y="240"/>
                  </a:lnTo>
                  <a:lnTo>
                    <a:pt x="336" y="252"/>
                  </a:lnTo>
                  <a:lnTo>
                    <a:pt x="251" y="276"/>
                  </a:lnTo>
                  <a:lnTo>
                    <a:pt x="170" y="296"/>
                  </a:lnTo>
                  <a:lnTo>
                    <a:pt x="85" y="252"/>
                  </a:lnTo>
                  <a:lnTo>
                    <a:pt x="0" y="3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46800" y="3625920"/>
              <a:ext cx="3335400" cy="444600"/>
            </a:xfrm>
            <a:custGeom>
              <a:avLst/>
              <a:gdLst/>
              <a:ahLst/>
              <a:rect l="l" t="t" r="r" b="b"/>
              <a:pathLst>
                <a:path w="2101" h="280">
                  <a:moveTo>
                    <a:pt x="0" y="280"/>
                  </a:moveTo>
                  <a:lnTo>
                    <a:pt x="0" y="280"/>
                  </a:lnTo>
                  <a:lnTo>
                    <a:pt x="85" y="252"/>
                  </a:lnTo>
                  <a:lnTo>
                    <a:pt x="170" y="268"/>
                  </a:lnTo>
                  <a:lnTo>
                    <a:pt x="251" y="244"/>
                  </a:lnTo>
                  <a:lnTo>
                    <a:pt x="336" y="215"/>
                  </a:lnTo>
                  <a:lnTo>
                    <a:pt x="421" y="175"/>
                  </a:lnTo>
                  <a:lnTo>
                    <a:pt x="506" y="167"/>
                  </a:lnTo>
                  <a:lnTo>
                    <a:pt x="587" y="183"/>
                  </a:lnTo>
                  <a:lnTo>
                    <a:pt x="672" y="195"/>
                  </a:lnTo>
                  <a:lnTo>
                    <a:pt x="757" y="146"/>
                  </a:lnTo>
                  <a:lnTo>
                    <a:pt x="842" y="94"/>
                  </a:lnTo>
                  <a:lnTo>
                    <a:pt x="923" y="106"/>
                  </a:lnTo>
                  <a:lnTo>
                    <a:pt x="1008" y="94"/>
                  </a:lnTo>
                  <a:lnTo>
                    <a:pt x="1093" y="77"/>
                  </a:lnTo>
                  <a:lnTo>
                    <a:pt x="1178" y="86"/>
                  </a:lnTo>
                  <a:lnTo>
                    <a:pt x="1259" y="134"/>
                  </a:lnTo>
                  <a:lnTo>
                    <a:pt x="1344" y="130"/>
                  </a:lnTo>
                  <a:lnTo>
                    <a:pt x="1429" y="118"/>
                  </a:lnTo>
                  <a:lnTo>
                    <a:pt x="1514" y="146"/>
                  </a:lnTo>
                  <a:lnTo>
                    <a:pt x="1595" y="82"/>
                  </a:lnTo>
                  <a:lnTo>
                    <a:pt x="1680" y="57"/>
                  </a:lnTo>
                  <a:lnTo>
                    <a:pt x="1765" y="77"/>
                  </a:lnTo>
                  <a:lnTo>
                    <a:pt x="1850" y="37"/>
                  </a:lnTo>
                  <a:lnTo>
                    <a:pt x="1931" y="0"/>
                  </a:lnTo>
                  <a:lnTo>
                    <a:pt x="2016" y="61"/>
                  </a:lnTo>
                  <a:lnTo>
                    <a:pt x="2101" y="21"/>
                  </a:lnTo>
                  <a:lnTo>
                    <a:pt x="2101" y="21"/>
                  </a:lnTo>
                  <a:lnTo>
                    <a:pt x="2016" y="69"/>
                  </a:lnTo>
                  <a:lnTo>
                    <a:pt x="1931" y="0"/>
                  </a:lnTo>
                  <a:lnTo>
                    <a:pt x="1850" y="37"/>
                  </a:lnTo>
                  <a:lnTo>
                    <a:pt x="1765" y="77"/>
                  </a:lnTo>
                  <a:lnTo>
                    <a:pt x="1680" y="138"/>
                  </a:lnTo>
                  <a:lnTo>
                    <a:pt x="1595" y="82"/>
                  </a:lnTo>
                  <a:lnTo>
                    <a:pt x="1514" y="154"/>
                  </a:lnTo>
                  <a:lnTo>
                    <a:pt x="1429" y="118"/>
                  </a:lnTo>
                  <a:lnTo>
                    <a:pt x="1344" y="130"/>
                  </a:lnTo>
                  <a:lnTo>
                    <a:pt x="1259" y="134"/>
                  </a:lnTo>
                  <a:lnTo>
                    <a:pt x="1178" y="86"/>
                  </a:lnTo>
                  <a:lnTo>
                    <a:pt x="1093" y="77"/>
                  </a:lnTo>
                  <a:lnTo>
                    <a:pt x="1008" y="94"/>
                  </a:lnTo>
                  <a:lnTo>
                    <a:pt x="923" y="106"/>
                  </a:lnTo>
                  <a:lnTo>
                    <a:pt x="842" y="94"/>
                  </a:lnTo>
                  <a:lnTo>
                    <a:pt x="757" y="146"/>
                  </a:lnTo>
                  <a:lnTo>
                    <a:pt x="672" y="195"/>
                  </a:lnTo>
                  <a:lnTo>
                    <a:pt x="587" y="183"/>
                  </a:lnTo>
                  <a:lnTo>
                    <a:pt x="506" y="167"/>
                  </a:lnTo>
                  <a:lnTo>
                    <a:pt x="421" y="175"/>
                  </a:lnTo>
                  <a:lnTo>
                    <a:pt x="336" y="215"/>
                  </a:lnTo>
                  <a:lnTo>
                    <a:pt x="251" y="244"/>
                  </a:lnTo>
                  <a:lnTo>
                    <a:pt x="170" y="268"/>
                  </a:lnTo>
                  <a:lnTo>
                    <a:pt x="85" y="252"/>
                  </a:lnTo>
                  <a:lnTo>
                    <a:pt x="0" y="28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46800" y="5396040"/>
              <a:ext cx="3335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54468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5818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71644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84532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59799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1149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62499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63784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5134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6484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834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69120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0470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820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1664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44552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5801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7151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78501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9786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81136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82486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83836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85122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86472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87822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01360" y="530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14320" y="5043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31080" y="47926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31080" y="4535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31080" y="4284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1080" y="4027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31080" y="3770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31080" y="3519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3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31080" y="3262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4232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1084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7900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4104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90956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57772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50160" y="570060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4188600" y="4242960"/>
              <a:ext cx="138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Annual supply (taf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876440" y="517032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ecycl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45520" y="474516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Ground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80960" y="435924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ocal Suppl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03920" y="4246560"/>
              <a:ext cx="106560" cy="101520"/>
            </a:xfrm>
            <a:custGeom>
              <a:avLst/>
              <a:gdLst/>
              <a:ahLst/>
              <a:rect l="l" t="t" r="r" b="b"/>
              <a:pathLst>
                <a:path w="268" h="252">
                  <a:moveTo>
                    <a:pt x="249" y="248"/>
                  </a:moveTo>
                  <a:lnTo>
                    <a:pt x="45" y="57"/>
                  </a:lnTo>
                  <a:cubicBezTo>
                    <a:pt x="41" y="53"/>
                    <a:pt x="41" y="46"/>
                    <a:pt x="45" y="42"/>
                  </a:cubicBezTo>
                  <a:cubicBezTo>
                    <a:pt x="49" y="38"/>
                    <a:pt x="55" y="37"/>
                    <a:pt x="60" y="41"/>
                  </a:cubicBezTo>
                  <a:lnTo>
                    <a:pt x="264" y="233"/>
                  </a:lnTo>
                  <a:cubicBezTo>
                    <a:pt x="268" y="237"/>
                    <a:pt x="268" y="243"/>
                    <a:pt x="264" y="248"/>
                  </a:cubicBezTo>
                  <a:cubicBezTo>
                    <a:pt x="260" y="252"/>
                    <a:pt x="253" y="252"/>
                    <a:pt x="249" y="248"/>
                  </a:cubicBezTo>
                  <a:close/>
                  <a:moveTo>
                    <a:pt x="50" y="135"/>
                  </a:moveTo>
                  <a:lnTo>
                    <a:pt x="0" y="0"/>
                  </a:lnTo>
                  <a:lnTo>
                    <a:pt x="138" y="41"/>
                  </a:lnTo>
                  <a:lnTo>
                    <a:pt x="50" y="13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53200" y="4151160"/>
              <a:ext cx="50760" cy="152640"/>
            </a:xfrm>
            <a:custGeom>
              <a:avLst/>
              <a:gdLst/>
              <a:ahLst/>
              <a:rect l="l" t="t" r="r" b="b"/>
              <a:pathLst>
                <a:path w="128" h="379">
                  <a:moveTo>
                    <a:pt x="54" y="368"/>
                  </a:moveTo>
                  <a:lnTo>
                    <a:pt x="54" y="72"/>
                  </a:lnTo>
                  <a:cubicBezTo>
                    <a:pt x="54" y="66"/>
                    <a:pt x="59" y="61"/>
                    <a:pt x="64" y="61"/>
                  </a:cubicBezTo>
                  <a:cubicBezTo>
                    <a:pt x="70" y="61"/>
                    <a:pt x="75" y="66"/>
                    <a:pt x="75" y="72"/>
                  </a:cubicBezTo>
                  <a:lnTo>
                    <a:pt x="75" y="368"/>
                  </a:lnTo>
                  <a:cubicBezTo>
                    <a:pt x="75" y="374"/>
                    <a:pt x="70" y="379"/>
                    <a:pt x="64" y="379"/>
                  </a:cubicBezTo>
                  <a:cubicBezTo>
                    <a:pt x="59" y="379"/>
                    <a:pt x="54" y="374"/>
                    <a:pt x="54" y="368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62360" y="397980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Im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33440" y="3432240"/>
              <a:ext cx="101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ry-year yie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554960" y="3616200"/>
              <a:ext cx="325440" cy="200160"/>
            </a:xfrm>
            <a:custGeom>
              <a:avLst/>
              <a:gdLst/>
              <a:ahLst/>
              <a:rect l="l" t="t" r="r" b="b"/>
              <a:pathLst>
                <a:path w="556" h="316">
                  <a:moveTo>
                    <a:pt x="18" y="3"/>
                  </a:moveTo>
                  <a:lnTo>
                    <a:pt x="500" y="272"/>
                  </a:lnTo>
                  <a:cubicBezTo>
                    <a:pt x="505" y="275"/>
                    <a:pt x="507" y="282"/>
                    <a:pt x="504" y="287"/>
                  </a:cubicBezTo>
                  <a:cubicBezTo>
                    <a:pt x="501" y="292"/>
                    <a:pt x="494" y="294"/>
                    <a:pt x="489" y="291"/>
                  </a:cubicBezTo>
                  <a:lnTo>
                    <a:pt x="7" y="22"/>
                  </a:lnTo>
                  <a:cubicBezTo>
                    <a:pt x="2" y="19"/>
                    <a:pt x="0" y="12"/>
                    <a:pt x="3" y="7"/>
                  </a:cubicBezTo>
                  <a:cubicBezTo>
                    <a:pt x="6" y="2"/>
                    <a:pt x="13" y="0"/>
                    <a:pt x="18" y="3"/>
                  </a:cubicBezTo>
                  <a:close/>
                  <a:moveTo>
                    <a:pt x="476" y="198"/>
                  </a:moveTo>
                  <a:lnTo>
                    <a:pt x="556" y="316"/>
                  </a:lnTo>
                  <a:lnTo>
                    <a:pt x="414" y="310"/>
                  </a:lnTo>
                  <a:lnTo>
                    <a:pt x="476" y="19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71080" y="361944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urpl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62200" y="336708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hort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56520" y="3560760"/>
              <a:ext cx="95400" cy="133200"/>
            </a:xfrm>
            <a:custGeom>
              <a:avLst/>
              <a:gdLst/>
              <a:ahLst/>
              <a:rect l="l" t="t" r="r" b="b"/>
              <a:pathLst>
                <a:path w="237" h="332">
                  <a:moveTo>
                    <a:pt x="233" y="19"/>
                  </a:moveTo>
                  <a:lnTo>
                    <a:pt x="50" y="280"/>
                  </a:lnTo>
                  <a:cubicBezTo>
                    <a:pt x="47" y="285"/>
                    <a:pt x="40" y="286"/>
                    <a:pt x="35" y="283"/>
                  </a:cubicBezTo>
                  <a:cubicBezTo>
                    <a:pt x="30" y="280"/>
                    <a:pt x="29" y="273"/>
                    <a:pt x="33" y="268"/>
                  </a:cubicBezTo>
                  <a:lnTo>
                    <a:pt x="216" y="6"/>
                  </a:lnTo>
                  <a:cubicBezTo>
                    <a:pt x="219" y="2"/>
                    <a:pt x="226" y="0"/>
                    <a:pt x="231" y="4"/>
                  </a:cubicBezTo>
                  <a:cubicBezTo>
                    <a:pt x="235" y="7"/>
                    <a:pt x="237" y="14"/>
                    <a:pt x="233" y="19"/>
                  </a:cubicBezTo>
                  <a:close/>
                  <a:moveTo>
                    <a:pt x="126" y="264"/>
                  </a:moveTo>
                  <a:lnTo>
                    <a:pt x="0" y="332"/>
                  </a:lnTo>
                  <a:lnTo>
                    <a:pt x="21" y="191"/>
                  </a:lnTo>
                  <a:lnTo>
                    <a:pt x="126" y="26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58720" y="2414520"/>
            <a:ext cx="4047840" cy="3901320"/>
            <a:chOff x="558720" y="2414520"/>
            <a:chExt cx="4047840" cy="3901320"/>
          </a:xfrm>
        </p:grpSpPr>
        <p:sp>
          <p:nvSpPr>
            <p:cNvPr id="622" name=""/>
            <p:cNvSpPr/>
            <p:nvPr/>
          </p:nvSpPr>
          <p:spPr>
            <a:xfrm>
              <a:off x="1453320" y="6008760"/>
              <a:ext cx="24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Temp:  +0.7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  <a:ea typeface="Arial Unicode MS"/>
                </a:rPr>
                <a:t>o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C Precip:  +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14480" y="2414520"/>
              <a:ext cx="340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c00"/>
                  </a:solidFill>
                  <a:latin typeface="Arial"/>
                  <a:ea typeface="Arial Unicode MS"/>
                </a:rPr>
                <a:t>Scenario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Plan generates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  <a:ea typeface="Arial Unicode MS"/>
                </a:rPr>
                <a:t>surpluse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 in benign future clim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00160" y="3341520"/>
              <a:ext cx="3368520" cy="2063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00160" y="514980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00160" y="488808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00160" y="463248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00160" y="437688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00160" y="411480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00160" y="385920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00160" y="359712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00160" y="334152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00160" y="3341520"/>
              <a:ext cx="3368520" cy="206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00160" y="5046840"/>
              <a:ext cx="3368520" cy="358560"/>
            </a:xfrm>
            <a:custGeom>
              <a:avLst/>
              <a:gdLst/>
              <a:ahLst/>
              <a:rect l="l" t="t" r="r" b="b"/>
              <a:pathLst>
                <a:path w="2122" h="226">
                  <a:moveTo>
                    <a:pt x="0" y="226"/>
                  </a:moveTo>
                  <a:lnTo>
                    <a:pt x="0" y="202"/>
                  </a:lnTo>
                  <a:lnTo>
                    <a:pt x="84" y="181"/>
                  </a:lnTo>
                  <a:lnTo>
                    <a:pt x="169" y="161"/>
                  </a:lnTo>
                  <a:lnTo>
                    <a:pt x="253" y="141"/>
                  </a:lnTo>
                  <a:lnTo>
                    <a:pt x="338" y="121"/>
                  </a:lnTo>
                  <a:lnTo>
                    <a:pt x="423" y="101"/>
                  </a:lnTo>
                  <a:lnTo>
                    <a:pt x="507" y="93"/>
                  </a:lnTo>
                  <a:lnTo>
                    <a:pt x="596" y="85"/>
                  </a:lnTo>
                  <a:lnTo>
                    <a:pt x="680" y="81"/>
                  </a:lnTo>
                  <a:lnTo>
                    <a:pt x="765" y="73"/>
                  </a:lnTo>
                  <a:lnTo>
                    <a:pt x="849" y="65"/>
                  </a:lnTo>
                  <a:lnTo>
                    <a:pt x="934" y="61"/>
                  </a:lnTo>
                  <a:lnTo>
                    <a:pt x="1019" y="53"/>
                  </a:lnTo>
                  <a:lnTo>
                    <a:pt x="1103" y="49"/>
                  </a:lnTo>
                  <a:lnTo>
                    <a:pt x="1188" y="41"/>
                  </a:lnTo>
                  <a:lnTo>
                    <a:pt x="1272" y="33"/>
                  </a:lnTo>
                  <a:lnTo>
                    <a:pt x="1357" y="29"/>
                  </a:lnTo>
                  <a:lnTo>
                    <a:pt x="1441" y="20"/>
                  </a:lnTo>
                  <a:lnTo>
                    <a:pt x="1526" y="16"/>
                  </a:lnTo>
                  <a:lnTo>
                    <a:pt x="1615" y="8"/>
                  </a:lnTo>
                  <a:lnTo>
                    <a:pt x="1699" y="0"/>
                  </a:lnTo>
                  <a:lnTo>
                    <a:pt x="1784" y="0"/>
                  </a:lnTo>
                  <a:lnTo>
                    <a:pt x="1868" y="0"/>
                  </a:lnTo>
                  <a:lnTo>
                    <a:pt x="1953" y="0"/>
                  </a:lnTo>
                  <a:lnTo>
                    <a:pt x="2037" y="0"/>
                  </a:lnTo>
                  <a:lnTo>
                    <a:pt x="2122" y="0"/>
                  </a:lnTo>
                  <a:lnTo>
                    <a:pt x="2122" y="226"/>
                  </a:lnTo>
                  <a:lnTo>
                    <a:pt x="2037" y="226"/>
                  </a:lnTo>
                  <a:lnTo>
                    <a:pt x="1953" y="226"/>
                  </a:lnTo>
                  <a:lnTo>
                    <a:pt x="1868" y="226"/>
                  </a:lnTo>
                  <a:lnTo>
                    <a:pt x="1784" y="226"/>
                  </a:lnTo>
                  <a:lnTo>
                    <a:pt x="1699" y="226"/>
                  </a:lnTo>
                  <a:lnTo>
                    <a:pt x="1615" y="226"/>
                  </a:lnTo>
                  <a:lnTo>
                    <a:pt x="1526" y="226"/>
                  </a:lnTo>
                  <a:lnTo>
                    <a:pt x="1441" y="226"/>
                  </a:lnTo>
                  <a:lnTo>
                    <a:pt x="1357" y="226"/>
                  </a:lnTo>
                  <a:lnTo>
                    <a:pt x="1272" y="226"/>
                  </a:lnTo>
                  <a:lnTo>
                    <a:pt x="1188" y="226"/>
                  </a:lnTo>
                  <a:lnTo>
                    <a:pt x="1103" y="226"/>
                  </a:lnTo>
                  <a:lnTo>
                    <a:pt x="1019" y="226"/>
                  </a:lnTo>
                  <a:lnTo>
                    <a:pt x="934" y="226"/>
                  </a:lnTo>
                  <a:lnTo>
                    <a:pt x="849" y="226"/>
                  </a:lnTo>
                  <a:lnTo>
                    <a:pt x="765" y="226"/>
                  </a:lnTo>
                  <a:lnTo>
                    <a:pt x="680" y="226"/>
                  </a:lnTo>
                  <a:lnTo>
                    <a:pt x="596" y="226"/>
                  </a:lnTo>
                  <a:lnTo>
                    <a:pt x="507" y="226"/>
                  </a:lnTo>
                  <a:lnTo>
                    <a:pt x="423" y="226"/>
                  </a:lnTo>
                  <a:lnTo>
                    <a:pt x="338" y="226"/>
                  </a:lnTo>
                  <a:lnTo>
                    <a:pt x="253" y="226"/>
                  </a:lnTo>
                  <a:lnTo>
                    <a:pt x="169" y="226"/>
                  </a:lnTo>
                  <a:lnTo>
                    <a:pt x="84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00160" y="5046840"/>
              <a:ext cx="3368520" cy="358560"/>
            </a:xfrm>
            <a:custGeom>
              <a:avLst/>
              <a:gdLst/>
              <a:ahLst/>
              <a:rect l="l" t="t" r="r" b="b"/>
              <a:pathLst>
                <a:path w="2122" h="226">
                  <a:moveTo>
                    <a:pt x="0" y="226"/>
                  </a:moveTo>
                  <a:lnTo>
                    <a:pt x="0" y="202"/>
                  </a:lnTo>
                  <a:lnTo>
                    <a:pt x="84" y="181"/>
                  </a:lnTo>
                  <a:lnTo>
                    <a:pt x="169" y="161"/>
                  </a:lnTo>
                  <a:lnTo>
                    <a:pt x="253" y="141"/>
                  </a:lnTo>
                  <a:lnTo>
                    <a:pt x="338" y="121"/>
                  </a:lnTo>
                  <a:lnTo>
                    <a:pt x="423" y="101"/>
                  </a:lnTo>
                  <a:lnTo>
                    <a:pt x="507" y="93"/>
                  </a:lnTo>
                  <a:lnTo>
                    <a:pt x="596" y="85"/>
                  </a:lnTo>
                  <a:lnTo>
                    <a:pt x="680" y="81"/>
                  </a:lnTo>
                  <a:lnTo>
                    <a:pt x="765" y="73"/>
                  </a:lnTo>
                  <a:lnTo>
                    <a:pt x="849" y="65"/>
                  </a:lnTo>
                  <a:lnTo>
                    <a:pt x="934" y="61"/>
                  </a:lnTo>
                  <a:lnTo>
                    <a:pt x="1019" y="53"/>
                  </a:lnTo>
                  <a:lnTo>
                    <a:pt x="1103" y="49"/>
                  </a:lnTo>
                  <a:lnTo>
                    <a:pt x="1188" y="41"/>
                  </a:lnTo>
                  <a:lnTo>
                    <a:pt x="1272" y="33"/>
                  </a:lnTo>
                  <a:lnTo>
                    <a:pt x="1357" y="29"/>
                  </a:lnTo>
                  <a:lnTo>
                    <a:pt x="1441" y="20"/>
                  </a:lnTo>
                  <a:lnTo>
                    <a:pt x="1526" y="16"/>
                  </a:lnTo>
                  <a:lnTo>
                    <a:pt x="1615" y="8"/>
                  </a:lnTo>
                  <a:lnTo>
                    <a:pt x="1699" y="0"/>
                  </a:lnTo>
                  <a:lnTo>
                    <a:pt x="1784" y="0"/>
                  </a:lnTo>
                  <a:lnTo>
                    <a:pt x="1868" y="0"/>
                  </a:lnTo>
                  <a:lnTo>
                    <a:pt x="1953" y="0"/>
                  </a:lnTo>
                  <a:lnTo>
                    <a:pt x="2037" y="0"/>
                  </a:lnTo>
                  <a:lnTo>
                    <a:pt x="2122" y="0"/>
                  </a:lnTo>
                  <a:lnTo>
                    <a:pt x="2122" y="226"/>
                  </a:lnTo>
                  <a:lnTo>
                    <a:pt x="2037" y="226"/>
                  </a:lnTo>
                  <a:lnTo>
                    <a:pt x="1953" y="226"/>
                  </a:lnTo>
                  <a:lnTo>
                    <a:pt x="1868" y="226"/>
                  </a:lnTo>
                  <a:lnTo>
                    <a:pt x="1784" y="226"/>
                  </a:lnTo>
                  <a:lnTo>
                    <a:pt x="1699" y="226"/>
                  </a:lnTo>
                  <a:lnTo>
                    <a:pt x="1615" y="226"/>
                  </a:lnTo>
                  <a:lnTo>
                    <a:pt x="1526" y="226"/>
                  </a:lnTo>
                  <a:lnTo>
                    <a:pt x="1441" y="226"/>
                  </a:lnTo>
                  <a:lnTo>
                    <a:pt x="1357" y="226"/>
                  </a:lnTo>
                  <a:lnTo>
                    <a:pt x="1272" y="226"/>
                  </a:lnTo>
                  <a:lnTo>
                    <a:pt x="1188" y="226"/>
                  </a:lnTo>
                  <a:lnTo>
                    <a:pt x="1103" y="226"/>
                  </a:lnTo>
                  <a:lnTo>
                    <a:pt x="1019" y="226"/>
                  </a:lnTo>
                  <a:lnTo>
                    <a:pt x="934" y="226"/>
                  </a:lnTo>
                  <a:lnTo>
                    <a:pt x="849" y="226"/>
                  </a:lnTo>
                  <a:lnTo>
                    <a:pt x="765" y="226"/>
                  </a:lnTo>
                  <a:lnTo>
                    <a:pt x="680" y="226"/>
                  </a:lnTo>
                  <a:lnTo>
                    <a:pt x="596" y="226"/>
                  </a:lnTo>
                  <a:lnTo>
                    <a:pt x="507" y="226"/>
                  </a:lnTo>
                  <a:lnTo>
                    <a:pt x="423" y="226"/>
                  </a:lnTo>
                  <a:lnTo>
                    <a:pt x="338" y="226"/>
                  </a:lnTo>
                  <a:lnTo>
                    <a:pt x="253" y="226"/>
                  </a:lnTo>
                  <a:lnTo>
                    <a:pt x="169" y="226"/>
                  </a:lnTo>
                  <a:lnTo>
                    <a:pt x="84" y="226"/>
                  </a:lnTo>
                  <a:lnTo>
                    <a:pt x="0" y="22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00160" y="3916440"/>
              <a:ext cx="3368520" cy="1450800"/>
            </a:xfrm>
            <a:custGeom>
              <a:avLst/>
              <a:gdLst/>
              <a:ahLst/>
              <a:rect l="l" t="t" r="r" b="b"/>
              <a:pathLst>
                <a:path w="2122" h="914">
                  <a:moveTo>
                    <a:pt x="0" y="914"/>
                  </a:moveTo>
                  <a:lnTo>
                    <a:pt x="0" y="382"/>
                  </a:lnTo>
                  <a:lnTo>
                    <a:pt x="84" y="354"/>
                  </a:lnTo>
                  <a:lnTo>
                    <a:pt x="169" y="326"/>
                  </a:lnTo>
                  <a:lnTo>
                    <a:pt x="253" y="298"/>
                  </a:lnTo>
                  <a:lnTo>
                    <a:pt x="338" y="266"/>
                  </a:lnTo>
                  <a:lnTo>
                    <a:pt x="423" y="237"/>
                  </a:lnTo>
                  <a:lnTo>
                    <a:pt x="507" y="225"/>
                  </a:lnTo>
                  <a:lnTo>
                    <a:pt x="596" y="209"/>
                  </a:lnTo>
                  <a:lnTo>
                    <a:pt x="680" y="197"/>
                  </a:lnTo>
                  <a:lnTo>
                    <a:pt x="765" y="181"/>
                  </a:lnTo>
                  <a:lnTo>
                    <a:pt x="849" y="169"/>
                  </a:lnTo>
                  <a:lnTo>
                    <a:pt x="934" y="153"/>
                  </a:lnTo>
                  <a:lnTo>
                    <a:pt x="1019" y="141"/>
                  </a:lnTo>
                  <a:lnTo>
                    <a:pt x="1103" y="125"/>
                  </a:lnTo>
                  <a:lnTo>
                    <a:pt x="1188" y="113"/>
                  </a:lnTo>
                  <a:lnTo>
                    <a:pt x="1272" y="96"/>
                  </a:lnTo>
                  <a:lnTo>
                    <a:pt x="1357" y="84"/>
                  </a:lnTo>
                  <a:lnTo>
                    <a:pt x="1441" y="72"/>
                  </a:lnTo>
                  <a:lnTo>
                    <a:pt x="1526" y="56"/>
                  </a:lnTo>
                  <a:lnTo>
                    <a:pt x="1615" y="52"/>
                  </a:lnTo>
                  <a:lnTo>
                    <a:pt x="1699" y="68"/>
                  </a:lnTo>
                  <a:lnTo>
                    <a:pt x="1784" y="44"/>
                  </a:lnTo>
                  <a:lnTo>
                    <a:pt x="1868" y="16"/>
                  </a:lnTo>
                  <a:lnTo>
                    <a:pt x="1953" y="12"/>
                  </a:lnTo>
                  <a:lnTo>
                    <a:pt x="2037" y="4"/>
                  </a:lnTo>
                  <a:lnTo>
                    <a:pt x="2122" y="0"/>
                  </a:lnTo>
                  <a:lnTo>
                    <a:pt x="2122" y="712"/>
                  </a:lnTo>
                  <a:lnTo>
                    <a:pt x="2037" y="712"/>
                  </a:lnTo>
                  <a:lnTo>
                    <a:pt x="1953" y="712"/>
                  </a:lnTo>
                  <a:lnTo>
                    <a:pt x="1868" y="712"/>
                  </a:lnTo>
                  <a:lnTo>
                    <a:pt x="1784" y="712"/>
                  </a:lnTo>
                  <a:lnTo>
                    <a:pt x="1699" y="712"/>
                  </a:lnTo>
                  <a:lnTo>
                    <a:pt x="1615" y="720"/>
                  </a:lnTo>
                  <a:lnTo>
                    <a:pt x="1526" y="728"/>
                  </a:lnTo>
                  <a:lnTo>
                    <a:pt x="1441" y="732"/>
                  </a:lnTo>
                  <a:lnTo>
                    <a:pt x="1357" y="741"/>
                  </a:lnTo>
                  <a:lnTo>
                    <a:pt x="1272" y="745"/>
                  </a:lnTo>
                  <a:lnTo>
                    <a:pt x="1188" y="753"/>
                  </a:lnTo>
                  <a:lnTo>
                    <a:pt x="1103" y="761"/>
                  </a:lnTo>
                  <a:lnTo>
                    <a:pt x="1019" y="765"/>
                  </a:lnTo>
                  <a:lnTo>
                    <a:pt x="934" y="773"/>
                  </a:lnTo>
                  <a:lnTo>
                    <a:pt x="849" y="777"/>
                  </a:lnTo>
                  <a:lnTo>
                    <a:pt x="765" y="785"/>
                  </a:lnTo>
                  <a:lnTo>
                    <a:pt x="680" y="793"/>
                  </a:lnTo>
                  <a:lnTo>
                    <a:pt x="596" y="797"/>
                  </a:lnTo>
                  <a:lnTo>
                    <a:pt x="507" y="805"/>
                  </a:lnTo>
                  <a:lnTo>
                    <a:pt x="423" y="813"/>
                  </a:lnTo>
                  <a:lnTo>
                    <a:pt x="338" y="833"/>
                  </a:lnTo>
                  <a:lnTo>
                    <a:pt x="253" y="853"/>
                  </a:lnTo>
                  <a:lnTo>
                    <a:pt x="169" y="873"/>
                  </a:lnTo>
                  <a:lnTo>
                    <a:pt x="84" y="893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00160" y="3794040"/>
              <a:ext cx="3368520" cy="728640"/>
            </a:xfrm>
            <a:custGeom>
              <a:avLst/>
              <a:gdLst/>
              <a:ahLst/>
              <a:rect l="l" t="t" r="r" b="b"/>
              <a:pathLst>
                <a:path w="2122" h="459">
                  <a:moveTo>
                    <a:pt x="0" y="459"/>
                  </a:moveTo>
                  <a:lnTo>
                    <a:pt x="0" y="387"/>
                  </a:lnTo>
                  <a:lnTo>
                    <a:pt x="84" y="359"/>
                  </a:lnTo>
                  <a:lnTo>
                    <a:pt x="169" y="330"/>
                  </a:lnTo>
                  <a:lnTo>
                    <a:pt x="253" y="339"/>
                  </a:lnTo>
                  <a:lnTo>
                    <a:pt x="338" y="326"/>
                  </a:lnTo>
                  <a:lnTo>
                    <a:pt x="423" y="258"/>
                  </a:lnTo>
                  <a:lnTo>
                    <a:pt x="507" y="230"/>
                  </a:lnTo>
                  <a:lnTo>
                    <a:pt x="596" y="206"/>
                  </a:lnTo>
                  <a:lnTo>
                    <a:pt x="680" y="214"/>
                  </a:lnTo>
                  <a:lnTo>
                    <a:pt x="765" y="218"/>
                  </a:lnTo>
                  <a:lnTo>
                    <a:pt x="849" y="214"/>
                  </a:lnTo>
                  <a:lnTo>
                    <a:pt x="934" y="129"/>
                  </a:lnTo>
                  <a:lnTo>
                    <a:pt x="1019" y="157"/>
                  </a:lnTo>
                  <a:lnTo>
                    <a:pt x="1103" y="169"/>
                  </a:lnTo>
                  <a:lnTo>
                    <a:pt x="1188" y="161"/>
                  </a:lnTo>
                  <a:lnTo>
                    <a:pt x="1272" y="129"/>
                  </a:lnTo>
                  <a:lnTo>
                    <a:pt x="1357" y="125"/>
                  </a:lnTo>
                  <a:lnTo>
                    <a:pt x="1441" y="105"/>
                  </a:lnTo>
                  <a:lnTo>
                    <a:pt x="1526" y="101"/>
                  </a:lnTo>
                  <a:lnTo>
                    <a:pt x="1615" y="73"/>
                  </a:lnTo>
                  <a:lnTo>
                    <a:pt x="1699" y="81"/>
                  </a:lnTo>
                  <a:lnTo>
                    <a:pt x="1784" y="25"/>
                  </a:lnTo>
                  <a:lnTo>
                    <a:pt x="1868" y="0"/>
                  </a:lnTo>
                  <a:lnTo>
                    <a:pt x="1953" y="29"/>
                  </a:lnTo>
                  <a:lnTo>
                    <a:pt x="2037" y="4"/>
                  </a:lnTo>
                  <a:lnTo>
                    <a:pt x="2122" y="37"/>
                  </a:lnTo>
                  <a:lnTo>
                    <a:pt x="2122" y="77"/>
                  </a:lnTo>
                  <a:lnTo>
                    <a:pt x="2037" y="81"/>
                  </a:lnTo>
                  <a:lnTo>
                    <a:pt x="1953" y="89"/>
                  </a:lnTo>
                  <a:lnTo>
                    <a:pt x="1868" y="93"/>
                  </a:lnTo>
                  <a:lnTo>
                    <a:pt x="1784" y="121"/>
                  </a:lnTo>
                  <a:lnTo>
                    <a:pt x="1699" y="145"/>
                  </a:lnTo>
                  <a:lnTo>
                    <a:pt x="1615" y="129"/>
                  </a:lnTo>
                  <a:lnTo>
                    <a:pt x="1526" y="133"/>
                  </a:lnTo>
                  <a:lnTo>
                    <a:pt x="1441" y="149"/>
                  </a:lnTo>
                  <a:lnTo>
                    <a:pt x="1357" y="161"/>
                  </a:lnTo>
                  <a:lnTo>
                    <a:pt x="1272" y="173"/>
                  </a:lnTo>
                  <a:lnTo>
                    <a:pt x="1188" y="190"/>
                  </a:lnTo>
                  <a:lnTo>
                    <a:pt x="1103" y="202"/>
                  </a:lnTo>
                  <a:lnTo>
                    <a:pt x="1019" y="218"/>
                  </a:lnTo>
                  <a:lnTo>
                    <a:pt x="934" y="230"/>
                  </a:lnTo>
                  <a:lnTo>
                    <a:pt x="849" y="246"/>
                  </a:lnTo>
                  <a:lnTo>
                    <a:pt x="765" y="258"/>
                  </a:lnTo>
                  <a:lnTo>
                    <a:pt x="680" y="274"/>
                  </a:lnTo>
                  <a:lnTo>
                    <a:pt x="596" y="286"/>
                  </a:lnTo>
                  <a:lnTo>
                    <a:pt x="507" y="302"/>
                  </a:lnTo>
                  <a:lnTo>
                    <a:pt x="423" y="314"/>
                  </a:lnTo>
                  <a:lnTo>
                    <a:pt x="338" y="343"/>
                  </a:lnTo>
                  <a:lnTo>
                    <a:pt x="253" y="375"/>
                  </a:lnTo>
                  <a:lnTo>
                    <a:pt x="169" y="403"/>
                  </a:lnTo>
                  <a:lnTo>
                    <a:pt x="84" y="431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00160" y="3794040"/>
              <a:ext cx="3368520" cy="728640"/>
            </a:xfrm>
            <a:custGeom>
              <a:avLst/>
              <a:gdLst/>
              <a:ahLst/>
              <a:rect l="l" t="t" r="r" b="b"/>
              <a:pathLst>
                <a:path w="2122" h="459">
                  <a:moveTo>
                    <a:pt x="0" y="459"/>
                  </a:moveTo>
                  <a:lnTo>
                    <a:pt x="0" y="387"/>
                  </a:lnTo>
                  <a:lnTo>
                    <a:pt x="84" y="359"/>
                  </a:lnTo>
                  <a:lnTo>
                    <a:pt x="169" y="330"/>
                  </a:lnTo>
                  <a:lnTo>
                    <a:pt x="253" y="339"/>
                  </a:lnTo>
                  <a:lnTo>
                    <a:pt x="338" y="326"/>
                  </a:lnTo>
                  <a:lnTo>
                    <a:pt x="423" y="258"/>
                  </a:lnTo>
                  <a:lnTo>
                    <a:pt x="507" y="230"/>
                  </a:lnTo>
                  <a:lnTo>
                    <a:pt x="596" y="206"/>
                  </a:lnTo>
                  <a:lnTo>
                    <a:pt x="680" y="214"/>
                  </a:lnTo>
                  <a:lnTo>
                    <a:pt x="765" y="218"/>
                  </a:lnTo>
                  <a:lnTo>
                    <a:pt x="849" y="214"/>
                  </a:lnTo>
                  <a:lnTo>
                    <a:pt x="934" y="129"/>
                  </a:lnTo>
                  <a:lnTo>
                    <a:pt x="1019" y="157"/>
                  </a:lnTo>
                  <a:lnTo>
                    <a:pt x="1103" y="169"/>
                  </a:lnTo>
                  <a:lnTo>
                    <a:pt x="1188" y="161"/>
                  </a:lnTo>
                  <a:lnTo>
                    <a:pt x="1272" y="129"/>
                  </a:lnTo>
                  <a:lnTo>
                    <a:pt x="1357" y="125"/>
                  </a:lnTo>
                  <a:lnTo>
                    <a:pt x="1441" y="105"/>
                  </a:lnTo>
                  <a:lnTo>
                    <a:pt x="1526" y="101"/>
                  </a:lnTo>
                  <a:lnTo>
                    <a:pt x="1615" y="73"/>
                  </a:lnTo>
                  <a:lnTo>
                    <a:pt x="1699" y="81"/>
                  </a:lnTo>
                  <a:lnTo>
                    <a:pt x="1784" y="25"/>
                  </a:lnTo>
                  <a:lnTo>
                    <a:pt x="1868" y="0"/>
                  </a:lnTo>
                  <a:lnTo>
                    <a:pt x="1953" y="29"/>
                  </a:lnTo>
                  <a:lnTo>
                    <a:pt x="2037" y="4"/>
                  </a:lnTo>
                  <a:lnTo>
                    <a:pt x="2122" y="37"/>
                  </a:lnTo>
                  <a:lnTo>
                    <a:pt x="2122" y="77"/>
                  </a:lnTo>
                  <a:lnTo>
                    <a:pt x="2037" y="81"/>
                  </a:lnTo>
                  <a:lnTo>
                    <a:pt x="1953" y="89"/>
                  </a:lnTo>
                  <a:lnTo>
                    <a:pt x="1868" y="93"/>
                  </a:lnTo>
                  <a:lnTo>
                    <a:pt x="1784" y="121"/>
                  </a:lnTo>
                  <a:lnTo>
                    <a:pt x="1699" y="145"/>
                  </a:lnTo>
                  <a:lnTo>
                    <a:pt x="1615" y="129"/>
                  </a:lnTo>
                  <a:lnTo>
                    <a:pt x="1526" y="133"/>
                  </a:lnTo>
                  <a:lnTo>
                    <a:pt x="1441" y="149"/>
                  </a:lnTo>
                  <a:lnTo>
                    <a:pt x="1357" y="161"/>
                  </a:lnTo>
                  <a:lnTo>
                    <a:pt x="1272" y="173"/>
                  </a:lnTo>
                  <a:lnTo>
                    <a:pt x="1188" y="190"/>
                  </a:lnTo>
                  <a:lnTo>
                    <a:pt x="1103" y="202"/>
                  </a:lnTo>
                  <a:lnTo>
                    <a:pt x="1019" y="218"/>
                  </a:lnTo>
                  <a:lnTo>
                    <a:pt x="934" y="230"/>
                  </a:lnTo>
                  <a:lnTo>
                    <a:pt x="849" y="246"/>
                  </a:lnTo>
                  <a:lnTo>
                    <a:pt x="765" y="258"/>
                  </a:lnTo>
                  <a:lnTo>
                    <a:pt x="680" y="274"/>
                  </a:lnTo>
                  <a:lnTo>
                    <a:pt x="596" y="286"/>
                  </a:lnTo>
                  <a:lnTo>
                    <a:pt x="507" y="302"/>
                  </a:lnTo>
                  <a:lnTo>
                    <a:pt x="423" y="314"/>
                  </a:lnTo>
                  <a:lnTo>
                    <a:pt x="338" y="343"/>
                  </a:lnTo>
                  <a:lnTo>
                    <a:pt x="253" y="375"/>
                  </a:lnTo>
                  <a:lnTo>
                    <a:pt x="169" y="403"/>
                  </a:lnTo>
                  <a:lnTo>
                    <a:pt x="84" y="431"/>
                  </a:lnTo>
                  <a:lnTo>
                    <a:pt x="0" y="45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00160" y="3673440"/>
              <a:ext cx="3368520" cy="735120"/>
            </a:xfrm>
            <a:custGeom>
              <a:avLst/>
              <a:gdLst/>
              <a:ahLst/>
              <a:rect l="l" t="t" r="r" b="b"/>
              <a:pathLst>
                <a:path w="2122" h="463">
                  <a:moveTo>
                    <a:pt x="0" y="463"/>
                  </a:moveTo>
                  <a:lnTo>
                    <a:pt x="0" y="342"/>
                  </a:lnTo>
                  <a:lnTo>
                    <a:pt x="84" y="245"/>
                  </a:lnTo>
                  <a:lnTo>
                    <a:pt x="169" y="302"/>
                  </a:lnTo>
                  <a:lnTo>
                    <a:pt x="253" y="205"/>
                  </a:lnTo>
                  <a:lnTo>
                    <a:pt x="338" y="229"/>
                  </a:lnTo>
                  <a:lnTo>
                    <a:pt x="423" y="173"/>
                  </a:lnTo>
                  <a:lnTo>
                    <a:pt x="507" y="274"/>
                  </a:lnTo>
                  <a:lnTo>
                    <a:pt x="596" y="225"/>
                  </a:lnTo>
                  <a:lnTo>
                    <a:pt x="680" y="225"/>
                  </a:lnTo>
                  <a:lnTo>
                    <a:pt x="765" y="161"/>
                  </a:lnTo>
                  <a:lnTo>
                    <a:pt x="849" y="225"/>
                  </a:lnTo>
                  <a:lnTo>
                    <a:pt x="934" y="205"/>
                  </a:lnTo>
                  <a:lnTo>
                    <a:pt x="1019" y="213"/>
                  </a:lnTo>
                  <a:lnTo>
                    <a:pt x="1103" y="133"/>
                  </a:lnTo>
                  <a:lnTo>
                    <a:pt x="1188" y="153"/>
                  </a:lnTo>
                  <a:lnTo>
                    <a:pt x="1272" y="137"/>
                  </a:lnTo>
                  <a:lnTo>
                    <a:pt x="1357" y="76"/>
                  </a:lnTo>
                  <a:lnTo>
                    <a:pt x="1441" y="133"/>
                  </a:lnTo>
                  <a:lnTo>
                    <a:pt x="1526" y="64"/>
                  </a:lnTo>
                  <a:lnTo>
                    <a:pt x="1615" y="44"/>
                  </a:lnTo>
                  <a:lnTo>
                    <a:pt x="1699" y="117"/>
                  </a:lnTo>
                  <a:lnTo>
                    <a:pt x="1784" y="137"/>
                  </a:lnTo>
                  <a:lnTo>
                    <a:pt x="1868" y="76"/>
                  </a:lnTo>
                  <a:lnTo>
                    <a:pt x="1953" y="44"/>
                  </a:lnTo>
                  <a:lnTo>
                    <a:pt x="2037" y="8"/>
                  </a:lnTo>
                  <a:lnTo>
                    <a:pt x="2122" y="0"/>
                  </a:lnTo>
                  <a:lnTo>
                    <a:pt x="2122" y="113"/>
                  </a:lnTo>
                  <a:lnTo>
                    <a:pt x="2037" y="80"/>
                  </a:lnTo>
                  <a:lnTo>
                    <a:pt x="1953" y="105"/>
                  </a:lnTo>
                  <a:lnTo>
                    <a:pt x="1868" y="76"/>
                  </a:lnTo>
                  <a:lnTo>
                    <a:pt x="1784" y="101"/>
                  </a:lnTo>
                  <a:lnTo>
                    <a:pt x="1699" y="157"/>
                  </a:lnTo>
                  <a:lnTo>
                    <a:pt x="1615" y="149"/>
                  </a:lnTo>
                  <a:lnTo>
                    <a:pt x="1526" y="177"/>
                  </a:lnTo>
                  <a:lnTo>
                    <a:pt x="1441" y="181"/>
                  </a:lnTo>
                  <a:lnTo>
                    <a:pt x="1357" y="201"/>
                  </a:lnTo>
                  <a:lnTo>
                    <a:pt x="1272" y="205"/>
                  </a:lnTo>
                  <a:lnTo>
                    <a:pt x="1188" y="237"/>
                  </a:lnTo>
                  <a:lnTo>
                    <a:pt x="1103" y="245"/>
                  </a:lnTo>
                  <a:lnTo>
                    <a:pt x="1019" y="233"/>
                  </a:lnTo>
                  <a:lnTo>
                    <a:pt x="934" y="205"/>
                  </a:lnTo>
                  <a:lnTo>
                    <a:pt x="849" y="290"/>
                  </a:lnTo>
                  <a:lnTo>
                    <a:pt x="765" y="294"/>
                  </a:lnTo>
                  <a:lnTo>
                    <a:pt x="680" y="290"/>
                  </a:lnTo>
                  <a:lnTo>
                    <a:pt x="596" y="282"/>
                  </a:lnTo>
                  <a:lnTo>
                    <a:pt x="507" y="306"/>
                  </a:lnTo>
                  <a:lnTo>
                    <a:pt x="423" y="334"/>
                  </a:lnTo>
                  <a:lnTo>
                    <a:pt x="338" y="402"/>
                  </a:lnTo>
                  <a:lnTo>
                    <a:pt x="253" y="415"/>
                  </a:lnTo>
                  <a:lnTo>
                    <a:pt x="169" y="406"/>
                  </a:lnTo>
                  <a:lnTo>
                    <a:pt x="84" y="435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00160" y="3673440"/>
              <a:ext cx="3368520" cy="735120"/>
            </a:xfrm>
            <a:custGeom>
              <a:avLst/>
              <a:gdLst/>
              <a:ahLst/>
              <a:rect l="l" t="t" r="r" b="b"/>
              <a:pathLst>
                <a:path w="2122" h="463">
                  <a:moveTo>
                    <a:pt x="0" y="463"/>
                  </a:moveTo>
                  <a:lnTo>
                    <a:pt x="0" y="342"/>
                  </a:lnTo>
                  <a:lnTo>
                    <a:pt x="84" y="245"/>
                  </a:lnTo>
                  <a:lnTo>
                    <a:pt x="169" y="302"/>
                  </a:lnTo>
                  <a:lnTo>
                    <a:pt x="253" y="205"/>
                  </a:lnTo>
                  <a:lnTo>
                    <a:pt x="338" y="229"/>
                  </a:lnTo>
                  <a:lnTo>
                    <a:pt x="423" y="173"/>
                  </a:lnTo>
                  <a:lnTo>
                    <a:pt x="507" y="274"/>
                  </a:lnTo>
                  <a:lnTo>
                    <a:pt x="596" y="225"/>
                  </a:lnTo>
                  <a:lnTo>
                    <a:pt x="680" y="225"/>
                  </a:lnTo>
                  <a:lnTo>
                    <a:pt x="765" y="161"/>
                  </a:lnTo>
                  <a:lnTo>
                    <a:pt x="849" y="225"/>
                  </a:lnTo>
                  <a:lnTo>
                    <a:pt x="934" y="205"/>
                  </a:lnTo>
                  <a:lnTo>
                    <a:pt x="1019" y="213"/>
                  </a:lnTo>
                  <a:lnTo>
                    <a:pt x="1103" y="133"/>
                  </a:lnTo>
                  <a:lnTo>
                    <a:pt x="1188" y="153"/>
                  </a:lnTo>
                  <a:lnTo>
                    <a:pt x="1272" y="137"/>
                  </a:lnTo>
                  <a:lnTo>
                    <a:pt x="1357" y="76"/>
                  </a:lnTo>
                  <a:lnTo>
                    <a:pt x="1441" y="133"/>
                  </a:lnTo>
                  <a:lnTo>
                    <a:pt x="1526" y="64"/>
                  </a:lnTo>
                  <a:lnTo>
                    <a:pt x="1615" y="44"/>
                  </a:lnTo>
                  <a:lnTo>
                    <a:pt x="1699" y="117"/>
                  </a:lnTo>
                  <a:lnTo>
                    <a:pt x="1784" y="137"/>
                  </a:lnTo>
                  <a:lnTo>
                    <a:pt x="1868" y="76"/>
                  </a:lnTo>
                  <a:lnTo>
                    <a:pt x="1953" y="44"/>
                  </a:lnTo>
                  <a:lnTo>
                    <a:pt x="2037" y="8"/>
                  </a:lnTo>
                  <a:lnTo>
                    <a:pt x="2122" y="0"/>
                  </a:lnTo>
                  <a:lnTo>
                    <a:pt x="2122" y="113"/>
                  </a:lnTo>
                  <a:lnTo>
                    <a:pt x="2037" y="80"/>
                  </a:lnTo>
                  <a:lnTo>
                    <a:pt x="1953" y="105"/>
                  </a:lnTo>
                  <a:lnTo>
                    <a:pt x="1868" y="76"/>
                  </a:lnTo>
                  <a:lnTo>
                    <a:pt x="1784" y="101"/>
                  </a:lnTo>
                  <a:lnTo>
                    <a:pt x="1699" y="157"/>
                  </a:lnTo>
                  <a:lnTo>
                    <a:pt x="1615" y="149"/>
                  </a:lnTo>
                  <a:lnTo>
                    <a:pt x="1526" y="177"/>
                  </a:lnTo>
                  <a:lnTo>
                    <a:pt x="1441" y="181"/>
                  </a:lnTo>
                  <a:lnTo>
                    <a:pt x="1357" y="201"/>
                  </a:lnTo>
                  <a:lnTo>
                    <a:pt x="1272" y="205"/>
                  </a:lnTo>
                  <a:lnTo>
                    <a:pt x="1188" y="237"/>
                  </a:lnTo>
                  <a:lnTo>
                    <a:pt x="1103" y="245"/>
                  </a:lnTo>
                  <a:lnTo>
                    <a:pt x="1019" y="233"/>
                  </a:lnTo>
                  <a:lnTo>
                    <a:pt x="934" y="205"/>
                  </a:lnTo>
                  <a:lnTo>
                    <a:pt x="849" y="290"/>
                  </a:lnTo>
                  <a:lnTo>
                    <a:pt x="765" y="294"/>
                  </a:lnTo>
                  <a:lnTo>
                    <a:pt x="680" y="290"/>
                  </a:lnTo>
                  <a:lnTo>
                    <a:pt x="596" y="282"/>
                  </a:lnTo>
                  <a:lnTo>
                    <a:pt x="507" y="306"/>
                  </a:lnTo>
                  <a:lnTo>
                    <a:pt x="423" y="334"/>
                  </a:lnTo>
                  <a:lnTo>
                    <a:pt x="338" y="402"/>
                  </a:lnTo>
                  <a:lnTo>
                    <a:pt x="253" y="415"/>
                  </a:lnTo>
                  <a:lnTo>
                    <a:pt x="169" y="406"/>
                  </a:lnTo>
                  <a:lnTo>
                    <a:pt x="84" y="435"/>
                  </a:lnTo>
                  <a:lnTo>
                    <a:pt x="0" y="46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00160" y="3673440"/>
              <a:ext cx="3368520" cy="542880"/>
            </a:xfrm>
            <a:custGeom>
              <a:avLst/>
              <a:gdLst/>
              <a:ahLst/>
              <a:rect l="l" t="t" r="r" b="b"/>
              <a:pathLst>
                <a:path w="2122" h="342">
                  <a:moveTo>
                    <a:pt x="0" y="342"/>
                  </a:moveTo>
                  <a:lnTo>
                    <a:pt x="0" y="342"/>
                  </a:lnTo>
                  <a:lnTo>
                    <a:pt x="84" y="245"/>
                  </a:lnTo>
                  <a:lnTo>
                    <a:pt x="169" y="302"/>
                  </a:lnTo>
                  <a:lnTo>
                    <a:pt x="253" y="197"/>
                  </a:lnTo>
                  <a:lnTo>
                    <a:pt x="338" y="229"/>
                  </a:lnTo>
                  <a:lnTo>
                    <a:pt x="423" y="173"/>
                  </a:lnTo>
                  <a:lnTo>
                    <a:pt x="507" y="274"/>
                  </a:lnTo>
                  <a:lnTo>
                    <a:pt x="596" y="225"/>
                  </a:lnTo>
                  <a:lnTo>
                    <a:pt x="680" y="225"/>
                  </a:lnTo>
                  <a:lnTo>
                    <a:pt x="765" y="161"/>
                  </a:lnTo>
                  <a:lnTo>
                    <a:pt x="849" y="225"/>
                  </a:lnTo>
                  <a:lnTo>
                    <a:pt x="934" y="205"/>
                  </a:lnTo>
                  <a:lnTo>
                    <a:pt x="1019" y="213"/>
                  </a:lnTo>
                  <a:lnTo>
                    <a:pt x="1103" y="133"/>
                  </a:lnTo>
                  <a:lnTo>
                    <a:pt x="1188" y="153"/>
                  </a:lnTo>
                  <a:lnTo>
                    <a:pt x="1272" y="137"/>
                  </a:lnTo>
                  <a:lnTo>
                    <a:pt x="1357" y="76"/>
                  </a:lnTo>
                  <a:lnTo>
                    <a:pt x="1441" y="133"/>
                  </a:lnTo>
                  <a:lnTo>
                    <a:pt x="1526" y="64"/>
                  </a:lnTo>
                  <a:lnTo>
                    <a:pt x="1615" y="44"/>
                  </a:lnTo>
                  <a:lnTo>
                    <a:pt x="1699" y="117"/>
                  </a:lnTo>
                  <a:lnTo>
                    <a:pt x="1784" y="137"/>
                  </a:lnTo>
                  <a:lnTo>
                    <a:pt x="1868" y="76"/>
                  </a:lnTo>
                  <a:lnTo>
                    <a:pt x="1953" y="44"/>
                  </a:lnTo>
                  <a:lnTo>
                    <a:pt x="2037" y="8"/>
                  </a:lnTo>
                  <a:lnTo>
                    <a:pt x="2122" y="0"/>
                  </a:lnTo>
                  <a:lnTo>
                    <a:pt x="2122" y="0"/>
                  </a:lnTo>
                  <a:lnTo>
                    <a:pt x="2037" y="8"/>
                  </a:lnTo>
                  <a:lnTo>
                    <a:pt x="1953" y="44"/>
                  </a:lnTo>
                  <a:lnTo>
                    <a:pt x="1868" y="76"/>
                  </a:lnTo>
                  <a:lnTo>
                    <a:pt x="1784" y="137"/>
                  </a:lnTo>
                  <a:lnTo>
                    <a:pt x="1699" y="117"/>
                  </a:lnTo>
                  <a:lnTo>
                    <a:pt x="1615" y="44"/>
                  </a:lnTo>
                  <a:lnTo>
                    <a:pt x="1526" y="64"/>
                  </a:lnTo>
                  <a:lnTo>
                    <a:pt x="1441" y="133"/>
                  </a:lnTo>
                  <a:lnTo>
                    <a:pt x="1357" y="76"/>
                  </a:lnTo>
                  <a:lnTo>
                    <a:pt x="1272" y="137"/>
                  </a:lnTo>
                  <a:lnTo>
                    <a:pt x="1188" y="153"/>
                  </a:lnTo>
                  <a:lnTo>
                    <a:pt x="1103" y="133"/>
                  </a:lnTo>
                  <a:lnTo>
                    <a:pt x="1019" y="213"/>
                  </a:lnTo>
                  <a:lnTo>
                    <a:pt x="934" y="205"/>
                  </a:lnTo>
                  <a:lnTo>
                    <a:pt x="849" y="225"/>
                  </a:lnTo>
                  <a:lnTo>
                    <a:pt x="765" y="161"/>
                  </a:lnTo>
                  <a:lnTo>
                    <a:pt x="680" y="225"/>
                  </a:lnTo>
                  <a:lnTo>
                    <a:pt x="596" y="225"/>
                  </a:lnTo>
                  <a:lnTo>
                    <a:pt x="507" y="274"/>
                  </a:lnTo>
                  <a:lnTo>
                    <a:pt x="423" y="173"/>
                  </a:lnTo>
                  <a:lnTo>
                    <a:pt x="338" y="229"/>
                  </a:lnTo>
                  <a:lnTo>
                    <a:pt x="253" y="205"/>
                  </a:lnTo>
                  <a:lnTo>
                    <a:pt x="169" y="302"/>
                  </a:lnTo>
                  <a:lnTo>
                    <a:pt x="84" y="245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00160" y="3673440"/>
              <a:ext cx="3368520" cy="542880"/>
            </a:xfrm>
            <a:custGeom>
              <a:avLst/>
              <a:gdLst/>
              <a:ahLst/>
              <a:rect l="l" t="t" r="r" b="b"/>
              <a:pathLst>
                <a:path w="2122" h="342">
                  <a:moveTo>
                    <a:pt x="0" y="342"/>
                  </a:moveTo>
                  <a:lnTo>
                    <a:pt x="0" y="342"/>
                  </a:lnTo>
                  <a:lnTo>
                    <a:pt x="84" y="245"/>
                  </a:lnTo>
                  <a:lnTo>
                    <a:pt x="169" y="302"/>
                  </a:lnTo>
                  <a:lnTo>
                    <a:pt x="253" y="197"/>
                  </a:lnTo>
                  <a:lnTo>
                    <a:pt x="338" y="229"/>
                  </a:lnTo>
                  <a:lnTo>
                    <a:pt x="423" y="173"/>
                  </a:lnTo>
                  <a:lnTo>
                    <a:pt x="507" y="274"/>
                  </a:lnTo>
                  <a:lnTo>
                    <a:pt x="596" y="225"/>
                  </a:lnTo>
                  <a:lnTo>
                    <a:pt x="680" y="225"/>
                  </a:lnTo>
                  <a:lnTo>
                    <a:pt x="765" y="161"/>
                  </a:lnTo>
                  <a:lnTo>
                    <a:pt x="849" y="225"/>
                  </a:lnTo>
                  <a:lnTo>
                    <a:pt x="934" y="205"/>
                  </a:lnTo>
                  <a:lnTo>
                    <a:pt x="1019" y="213"/>
                  </a:lnTo>
                  <a:lnTo>
                    <a:pt x="1103" y="133"/>
                  </a:lnTo>
                  <a:lnTo>
                    <a:pt x="1188" y="153"/>
                  </a:lnTo>
                  <a:lnTo>
                    <a:pt x="1272" y="137"/>
                  </a:lnTo>
                  <a:lnTo>
                    <a:pt x="1357" y="76"/>
                  </a:lnTo>
                  <a:lnTo>
                    <a:pt x="1441" y="133"/>
                  </a:lnTo>
                  <a:lnTo>
                    <a:pt x="1526" y="64"/>
                  </a:lnTo>
                  <a:lnTo>
                    <a:pt x="1615" y="44"/>
                  </a:lnTo>
                  <a:lnTo>
                    <a:pt x="1699" y="117"/>
                  </a:lnTo>
                  <a:lnTo>
                    <a:pt x="1784" y="137"/>
                  </a:lnTo>
                  <a:lnTo>
                    <a:pt x="1868" y="76"/>
                  </a:lnTo>
                  <a:lnTo>
                    <a:pt x="1953" y="44"/>
                  </a:lnTo>
                  <a:lnTo>
                    <a:pt x="2037" y="8"/>
                  </a:lnTo>
                  <a:lnTo>
                    <a:pt x="2122" y="0"/>
                  </a:lnTo>
                  <a:lnTo>
                    <a:pt x="2122" y="0"/>
                  </a:lnTo>
                  <a:lnTo>
                    <a:pt x="2037" y="8"/>
                  </a:lnTo>
                  <a:lnTo>
                    <a:pt x="1953" y="44"/>
                  </a:lnTo>
                  <a:lnTo>
                    <a:pt x="1868" y="76"/>
                  </a:lnTo>
                  <a:lnTo>
                    <a:pt x="1784" y="137"/>
                  </a:lnTo>
                  <a:lnTo>
                    <a:pt x="1699" y="117"/>
                  </a:lnTo>
                  <a:lnTo>
                    <a:pt x="1615" y="44"/>
                  </a:lnTo>
                  <a:lnTo>
                    <a:pt x="1526" y="64"/>
                  </a:lnTo>
                  <a:lnTo>
                    <a:pt x="1441" y="133"/>
                  </a:lnTo>
                  <a:lnTo>
                    <a:pt x="1357" y="76"/>
                  </a:lnTo>
                  <a:lnTo>
                    <a:pt x="1272" y="137"/>
                  </a:lnTo>
                  <a:lnTo>
                    <a:pt x="1188" y="153"/>
                  </a:lnTo>
                  <a:lnTo>
                    <a:pt x="1103" y="133"/>
                  </a:lnTo>
                  <a:lnTo>
                    <a:pt x="1019" y="213"/>
                  </a:lnTo>
                  <a:lnTo>
                    <a:pt x="934" y="205"/>
                  </a:lnTo>
                  <a:lnTo>
                    <a:pt x="849" y="225"/>
                  </a:lnTo>
                  <a:lnTo>
                    <a:pt x="765" y="161"/>
                  </a:lnTo>
                  <a:lnTo>
                    <a:pt x="680" y="225"/>
                  </a:lnTo>
                  <a:lnTo>
                    <a:pt x="596" y="225"/>
                  </a:lnTo>
                  <a:lnTo>
                    <a:pt x="507" y="274"/>
                  </a:lnTo>
                  <a:lnTo>
                    <a:pt x="423" y="173"/>
                  </a:lnTo>
                  <a:lnTo>
                    <a:pt x="338" y="229"/>
                  </a:lnTo>
                  <a:lnTo>
                    <a:pt x="253" y="205"/>
                  </a:lnTo>
                  <a:lnTo>
                    <a:pt x="169" y="302"/>
                  </a:lnTo>
                  <a:lnTo>
                    <a:pt x="84" y="245"/>
                  </a:lnTo>
                  <a:lnTo>
                    <a:pt x="0" y="34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00160" y="3360600"/>
              <a:ext cx="3368520" cy="855720"/>
            </a:xfrm>
            <a:custGeom>
              <a:avLst/>
              <a:gdLst/>
              <a:ahLst/>
              <a:rect l="l" t="t" r="r" b="b"/>
              <a:pathLst>
                <a:path w="2122" h="539">
                  <a:moveTo>
                    <a:pt x="0" y="539"/>
                  </a:moveTo>
                  <a:lnTo>
                    <a:pt x="0" y="446"/>
                  </a:lnTo>
                  <a:lnTo>
                    <a:pt x="84" y="394"/>
                  </a:lnTo>
                  <a:lnTo>
                    <a:pt x="169" y="362"/>
                  </a:lnTo>
                  <a:lnTo>
                    <a:pt x="253" y="374"/>
                  </a:lnTo>
                  <a:lnTo>
                    <a:pt x="338" y="370"/>
                  </a:lnTo>
                  <a:lnTo>
                    <a:pt x="423" y="298"/>
                  </a:lnTo>
                  <a:lnTo>
                    <a:pt x="507" y="265"/>
                  </a:lnTo>
                  <a:lnTo>
                    <a:pt x="596" y="217"/>
                  </a:lnTo>
                  <a:lnTo>
                    <a:pt x="680" y="225"/>
                  </a:lnTo>
                  <a:lnTo>
                    <a:pt x="765" y="249"/>
                  </a:lnTo>
                  <a:lnTo>
                    <a:pt x="849" y="245"/>
                  </a:lnTo>
                  <a:lnTo>
                    <a:pt x="934" y="157"/>
                  </a:lnTo>
                  <a:lnTo>
                    <a:pt x="1019" y="161"/>
                  </a:lnTo>
                  <a:lnTo>
                    <a:pt x="1103" y="193"/>
                  </a:lnTo>
                  <a:lnTo>
                    <a:pt x="1188" y="181"/>
                  </a:lnTo>
                  <a:lnTo>
                    <a:pt x="1272" y="145"/>
                  </a:lnTo>
                  <a:lnTo>
                    <a:pt x="1357" y="145"/>
                  </a:lnTo>
                  <a:lnTo>
                    <a:pt x="1441" y="124"/>
                  </a:lnTo>
                  <a:lnTo>
                    <a:pt x="1526" y="120"/>
                  </a:lnTo>
                  <a:lnTo>
                    <a:pt x="1615" y="92"/>
                  </a:lnTo>
                  <a:lnTo>
                    <a:pt x="1699" y="100"/>
                  </a:lnTo>
                  <a:lnTo>
                    <a:pt x="1784" y="44"/>
                  </a:lnTo>
                  <a:lnTo>
                    <a:pt x="1868" y="0"/>
                  </a:lnTo>
                  <a:lnTo>
                    <a:pt x="1953" y="32"/>
                  </a:lnTo>
                  <a:lnTo>
                    <a:pt x="2037" y="28"/>
                  </a:lnTo>
                  <a:lnTo>
                    <a:pt x="2122" y="44"/>
                  </a:lnTo>
                  <a:lnTo>
                    <a:pt x="2122" y="197"/>
                  </a:lnTo>
                  <a:lnTo>
                    <a:pt x="2037" y="205"/>
                  </a:lnTo>
                  <a:lnTo>
                    <a:pt x="1953" y="241"/>
                  </a:lnTo>
                  <a:lnTo>
                    <a:pt x="1868" y="273"/>
                  </a:lnTo>
                  <a:lnTo>
                    <a:pt x="1784" y="334"/>
                  </a:lnTo>
                  <a:lnTo>
                    <a:pt x="1699" y="314"/>
                  </a:lnTo>
                  <a:lnTo>
                    <a:pt x="1615" y="241"/>
                  </a:lnTo>
                  <a:lnTo>
                    <a:pt x="1526" y="261"/>
                  </a:lnTo>
                  <a:lnTo>
                    <a:pt x="1441" y="330"/>
                  </a:lnTo>
                  <a:lnTo>
                    <a:pt x="1357" y="273"/>
                  </a:lnTo>
                  <a:lnTo>
                    <a:pt x="1272" y="334"/>
                  </a:lnTo>
                  <a:lnTo>
                    <a:pt x="1188" y="350"/>
                  </a:lnTo>
                  <a:lnTo>
                    <a:pt x="1103" y="330"/>
                  </a:lnTo>
                  <a:lnTo>
                    <a:pt x="1019" y="410"/>
                  </a:lnTo>
                  <a:lnTo>
                    <a:pt x="934" y="402"/>
                  </a:lnTo>
                  <a:lnTo>
                    <a:pt x="849" y="422"/>
                  </a:lnTo>
                  <a:lnTo>
                    <a:pt x="765" y="358"/>
                  </a:lnTo>
                  <a:lnTo>
                    <a:pt x="680" y="422"/>
                  </a:lnTo>
                  <a:lnTo>
                    <a:pt x="596" y="422"/>
                  </a:lnTo>
                  <a:lnTo>
                    <a:pt x="507" y="471"/>
                  </a:lnTo>
                  <a:lnTo>
                    <a:pt x="423" y="370"/>
                  </a:lnTo>
                  <a:lnTo>
                    <a:pt x="338" y="426"/>
                  </a:lnTo>
                  <a:lnTo>
                    <a:pt x="253" y="394"/>
                  </a:lnTo>
                  <a:lnTo>
                    <a:pt x="169" y="499"/>
                  </a:lnTo>
                  <a:lnTo>
                    <a:pt x="84" y="442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00160" y="3360600"/>
              <a:ext cx="3368520" cy="855720"/>
            </a:xfrm>
            <a:custGeom>
              <a:avLst/>
              <a:gdLst/>
              <a:ahLst/>
              <a:rect l="l" t="t" r="r" b="b"/>
              <a:pathLst>
                <a:path w="2122" h="539">
                  <a:moveTo>
                    <a:pt x="0" y="539"/>
                  </a:moveTo>
                  <a:lnTo>
                    <a:pt x="0" y="446"/>
                  </a:lnTo>
                  <a:lnTo>
                    <a:pt x="84" y="394"/>
                  </a:lnTo>
                  <a:lnTo>
                    <a:pt x="169" y="362"/>
                  </a:lnTo>
                  <a:lnTo>
                    <a:pt x="253" y="374"/>
                  </a:lnTo>
                  <a:lnTo>
                    <a:pt x="338" y="370"/>
                  </a:lnTo>
                  <a:lnTo>
                    <a:pt x="423" y="298"/>
                  </a:lnTo>
                  <a:lnTo>
                    <a:pt x="507" y="265"/>
                  </a:lnTo>
                  <a:lnTo>
                    <a:pt x="596" y="217"/>
                  </a:lnTo>
                  <a:lnTo>
                    <a:pt x="680" y="225"/>
                  </a:lnTo>
                  <a:lnTo>
                    <a:pt x="765" y="249"/>
                  </a:lnTo>
                  <a:lnTo>
                    <a:pt x="849" y="245"/>
                  </a:lnTo>
                  <a:lnTo>
                    <a:pt x="934" y="157"/>
                  </a:lnTo>
                  <a:lnTo>
                    <a:pt x="1019" y="161"/>
                  </a:lnTo>
                  <a:lnTo>
                    <a:pt x="1103" y="193"/>
                  </a:lnTo>
                  <a:lnTo>
                    <a:pt x="1188" y="181"/>
                  </a:lnTo>
                  <a:lnTo>
                    <a:pt x="1272" y="145"/>
                  </a:lnTo>
                  <a:lnTo>
                    <a:pt x="1357" y="145"/>
                  </a:lnTo>
                  <a:lnTo>
                    <a:pt x="1441" y="124"/>
                  </a:lnTo>
                  <a:lnTo>
                    <a:pt x="1526" y="120"/>
                  </a:lnTo>
                  <a:lnTo>
                    <a:pt x="1615" y="92"/>
                  </a:lnTo>
                  <a:lnTo>
                    <a:pt x="1699" y="100"/>
                  </a:lnTo>
                  <a:lnTo>
                    <a:pt x="1784" y="44"/>
                  </a:lnTo>
                  <a:lnTo>
                    <a:pt x="1868" y="0"/>
                  </a:lnTo>
                  <a:lnTo>
                    <a:pt x="1953" y="32"/>
                  </a:lnTo>
                  <a:lnTo>
                    <a:pt x="2037" y="28"/>
                  </a:lnTo>
                  <a:lnTo>
                    <a:pt x="2122" y="44"/>
                  </a:lnTo>
                  <a:lnTo>
                    <a:pt x="2122" y="197"/>
                  </a:lnTo>
                  <a:lnTo>
                    <a:pt x="2037" y="205"/>
                  </a:lnTo>
                  <a:lnTo>
                    <a:pt x="1953" y="241"/>
                  </a:lnTo>
                  <a:lnTo>
                    <a:pt x="1868" y="273"/>
                  </a:lnTo>
                  <a:lnTo>
                    <a:pt x="1784" y="334"/>
                  </a:lnTo>
                  <a:lnTo>
                    <a:pt x="1699" y="314"/>
                  </a:lnTo>
                  <a:lnTo>
                    <a:pt x="1615" y="241"/>
                  </a:lnTo>
                  <a:lnTo>
                    <a:pt x="1526" y="261"/>
                  </a:lnTo>
                  <a:lnTo>
                    <a:pt x="1441" y="330"/>
                  </a:lnTo>
                  <a:lnTo>
                    <a:pt x="1357" y="273"/>
                  </a:lnTo>
                  <a:lnTo>
                    <a:pt x="1272" y="334"/>
                  </a:lnTo>
                  <a:lnTo>
                    <a:pt x="1188" y="350"/>
                  </a:lnTo>
                  <a:lnTo>
                    <a:pt x="1103" y="330"/>
                  </a:lnTo>
                  <a:lnTo>
                    <a:pt x="1019" y="410"/>
                  </a:lnTo>
                  <a:lnTo>
                    <a:pt x="934" y="402"/>
                  </a:lnTo>
                  <a:lnTo>
                    <a:pt x="849" y="422"/>
                  </a:lnTo>
                  <a:lnTo>
                    <a:pt x="765" y="358"/>
                  </a:lnTo>
                  <a:lnTo>
                    <a:pt x="680" y="422"/>
                  </a:lnTo>
                  <a:lnTo>
                    <a:pt x="596" y="422"/>
                  </a:lnTo>
                  <a:lnTo>
                    <a:pt x="507" y="471"/>
                  </a:lnTo>
                  <a:lnTo>
                    <a:pt x="423" y="370"/>
                  </a:lnTo>
                  <a:lnTo>
                    <a:pt x="338" y="426"/>
                  </a:lnTo>
                  <a:lnTo>
                    <a:pt x="253" y="394"/>
                  </a:lnTo>
                  <a:lnTo>
                    <a:pt x="169" y="499"/>
                  </a:lnTo>
                  <a:lnTo>
                    <a:pt x="84" y="442"/>
                  </a:lnTo>
                  <a:lnTo>
                    <a:pt x="0" y="53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00160" y="3360600"/>
              <a:ext cx="3368520" cy="708120"/>
            </a:xfrm>
            <a:custGeom>
              <a:avLst/>
              <a:gdLst/>
              <a:ahLst/>
              <a:rect l="l" t="t" r="r" b="b"/>
              <a:pathLst>
                <a:path w="2122" h="446">
                  <a:moveTo>
                    <a:pt x="0" y="446"/>
                  </a:moveTo>
                  <a:lnTo>
                    <a:pt x="0" y="446"/>
                  </a:lnTo>
                  <a:lnTo>
                    <a:pt x="84" y="394"/>
                  </a:lnTo>
                  <a:lnTo>
                    <a:pt x="169" y="362"/>
                  </a:lnTo>
                  <a:lnTo>
                    <a:pt x="253" y="374"/>
                  </a:lnTo>
                  <a:lnTo>
                    <a:pt x="338" y="370"/>
                  </a:lnTo>
                  <a:lnTo>
                    <a:pt x="423" y="298"/>
                  </a:lnTo>
                  <a:lnTo>
                    <a:pt x="507" y="265"/>
                  </a:lnTo>
                  <a:lnTo>
                    <a:pt x="596" y="217"/>
                  </a:lnTo>
                  <a:lnTo>
                    <a:pt x="680" y="225"/>
                  </a:lnTo>
                  <a:lnTo>
                    <a:pt x="765" y="249"/>
                  </a:lnTo>
                  <a:lnTo>
                    <a:pt x="849" y="245"/>
                  </a:lnTo>
                  <a:lnTo>
                    <a:pt x="934" y="157"/>
                  </a:lnTo>
                  <a:lnTo>
                    <a:pt x="1019" y="161"/>
                  </a:lnTo>
                  <a:lnTo>
                    <a:pt x="1103" y="193"/>
                  </a:lnTo>
                  <a:lnTo>
                    <a:pt x="1188" y="181"/>
                  </a:lnTo>
                  <a:lnTo>
                    <a:pt x="1272" y="145"/>
                  </a:lnTo>
                  <a:lnTo>
                    <a:pt x="1357" y="145"/>
                  </a:lnTo>
                  <a:lnTo>
                    <a:pt x="1441" y="124"/>
                  </a:lnTo>
                  <a:lnTo>
                    <a:pt x="1526" y="120"/>
                  </a:lnTo>
                  <a:lnTo>
                    <a:pt x="1615" y="92"/>
                  </a:lnTo>
                  <a:lnTo>
                    <a:pt x="1699" y="100"/>
                  </a:lnTo>
                  <a:lnTo>
                    <a:pt x="1784" y="44"/>
                  </a:lnTo>
                  <a:lnTo>
                    <a:pt x="1868" y="0"/>
                  </a:lnTo>
                  <a:lnTo>
                    <a:pt x="1953" y="32"/>
                  </a:lnTo>
                  <a:lnTo>
                    <a:pt x="2037" y="28"/>
                  </a:lnTo>
                  <a:lnTo>
                    <a:pt x="2122" y="44"/>
                  </a:lnTo>
                  <a:lnTo>
                    <a:pt x="2122" y="44"/>
                  </a:lnTo>
                  <a:lnTo>
                    <a:pt x="2037" y="28"/>
                  </a:lnTo>
                  <a:lnTo>
                    <a:pt x="1953" y="32"/>
                  </a:lnTo>
                  <a:lnTo>
                    <a:pt x="1868" y="0"/>
                  </a:lnTo>
                  <a:lnTo>
                    <a:pt x="1784" y="44"/>
                  </a:lnTo>
                  <a:lnTo>
                    <a:pt x="1699" y="100"/>
                  </a:lnTo>
                  <a:lnTo>
                    <a:pt x="1615" y="92"/>
                  </a:lnTo>
                  <a:lnTo>
                    <a:pt x="1526" y="120"/>
                  </a:lnTo>
                  <a:lnTo>
                    <a:pt x="1441" y="124"/>
                  </a:lnTo>
                  <a:lnTo>
                    <a:pt x="1357" y="145"/>
                  </a:lnTo>
                  <a:lnTo>
                    <a:pt x="1272" y="145"/>
                  </a:lnTo>
                  <a:lnTo>
                    <a:pt x="1188" y="181"/>
                  </a:lnTo>
                  <a:lnTo>
                    <a:pt x="1103" y="193"/>
                  </a:lnTo>
                  <a:lnTo>
                    <a:pt x="1019" y="161"/>
                  </a:lnTo>
                  <a:lnTo>
                    <a:pt x="934" y="157"/>
                  </a:lnTo>
                  <a:lnTo>
                    <a:pt x="849" y="245"/>
                  </a:lnTo>
                  <a:lnTo>
                    <a:pt x="765" y="249"/>
                  </a:lnTo>
                  <a:lnTo>
                    <a:pt x="680" y="225"/>
                  </a:lnTo>
                  <a:lnTo>
                    <a:pt x="596" y="217"/>
                  </a:lnTo>
                  <a:lnTo>
                    <a:pt x="507" y="265"/>
                  </a:lnTo>
                  <a:lnTo>
                    <a:pt x="423" y="298"/>
                  </a:lnTo>
                  <a:lnTo>
                    <a:pt x="338" y="370"/>
                  </a:lnTo>
                  <a:lnTo>
                    <a:pt x="253" y="374"/>
                  </a:lnTo>
                  <a:lnTo>
                    <a:pt x="169" y="362"/>
                  </a:lnTo>
                  <a:lnTo>
                    <a:pt x="84" y="394"/>
                  </a:lnTo>
                  <a:lnTo>
                    <a:pt x="0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00160" y="3360600"/>
              <a:ext cx="3368520" cy="708120"/>
            </a:xfrm>
            <a:custGeom>
              <a:avLst/>
              <a:gdLst/>
              <a:ahLst/>
              <a:rect l="l" t="t" r="r" b="b"/>
              <a:pathLst>
                <a:path w="2122" h="446">
                  <a:moveTo>
                    <a:pt x="0" y="446"/>
                  </a:moveTo>
                  <a:lnTo>
                    <a:pt x="0" y="446"/>
                  </a:lnTo>
                  <a:lnTo>
                    <a:pt x="84" y="394"/>
                  </a:lnTo>
                  <a:lnTo>
                    <a:pt x="169" y="362"/>
                  </a:lnTo>
                  <a:lnTo>
                    <a:pt x="253" y="374"/>
                  </a:lnTo>
                  <a:lnTo>
                    <a:pt x="338" y="370"/>
                  </a:lnTo>
                  <a:lnTo>
                    <a:pt x="423" y="298"/>
                  </a:lnTo>
                  <a:lnTo>
                    <a:pt x="507" y="265"/>
                  </a:lnTo>
                  <a:lnTo>
                    <a:pt x="596" y="217"/>
                  </a:lnTo>
                  <a:lnTo>
                    <a:pt x="680" y="225"/>
                  </a:lnTo>
                  <a:lnTo>
                    <a:pt x="765" y="249"/>
                  </a:lnTo>
                  <a:lnTo>
                    <a:pt x="849" y="245"/>
                  </a:lnTo>
                  <a:lnTo>
                    <a:pt x="934" y="157"/>
                  </a:lnTo>
                  <a:lnTo>
                    <a:pt x="1019" y="161"/>
                  </a:lnTo>
                  <a:lnTo>
                    <a:pt x="1103" y="193"/>
                  </a:lnTo>
                  <a:lnTo>
                    <a:pt x="1188" y="181"/>
                  </a:lnTo>
                  <a:lnTo>
                    <a:pt x="1272" y="145"/>
                  </a:lnTo>
                  <a:lnTo>
                    <a:pt x="1357" y="145"/>
                  </a:lnTo>
                  <a:lnTo>
                    <a:pt x="1441" y="124"/>
                  </a:lnTo>
                  <a:lnTo>
                    <a:pt x="1526" y="120"/>
                  </a:lnTo>
                  <a:lnTo>
                    <a:pt x="1615" y="92"/>
                  </a:lnTo>
                  <a:lnTo>
                    <a:pt x="1699" y="100"/>
                  </a:lnTo>
                  <a:lnTo>
                    <a:pt x="1784" y="44"/>
                  </a:lnTo>
                  <a:lnTo>
                    <a:pt x="1868" y="0"/>
                  </a:lnTo>
                  <a:lnTo>
                    <a:pt x="1953" y="32"/>
                  </a:lnTo>
                  <a:lnTo>
                    <a:pt x="2037" y="28"/>
                  </a:lnTo>
                  <a:lnTo>
                    <a:pt x="2122" y="44"/>
                  </a:lnTo>
                  <a:lnTo>
                    <a:pt x="2122" y="44"/>
                  </a:lnTo>
                  <a:lnTo>
                    <a:pt x="2037" y="28"/>
                  </a:lnTo>
                  <a:lnTo>
                    <a:pt x="1953" y="32"/>
                  </a:lnTo>
                  <a:lnTo>
                    <a:pt x="1868" y="0"/>
                  </a:lnTo>
                  <a:lnTo>
                    <a:pt x="1784" y="44"/>
                  </a:lnTo>
                  <a:lnTo>
                    <a:pt x="1699" y="100"/>
                  </a:lnTo>
                  <a:lnTo>
                    <a:pt x="1615" y="92"/>
                  </a:lnTo>
                  <a:lnTo>
                    <a:pt x="1526" y="120"/>
                  </a:lnTo>
                  <a:lnTo>
                    <a:pt x="1441" y="124"/>
                  </a:lnTo>
                  <a:lnTo>
                    <a:pt x="1357" y="145"/>
                  </a:lnTo>
                  <a:lnTo>
                    <a:pt x="1272" y="145"/>
                  </a:lnTo>
                  <a:lnTo>
                    <a:pt x="1188" y="181"/>
                  </a:lnTo>
                  <a:lnTo>
                    <a:pt x="1103" y="193"/>
                  </a:lnTo>
                  <a:lnTo>
                    <a:pt x="1019" y="161"/>
                  </a:lnTo>
                  <a:lnTo>
                    <a:pt x="934" y="157"/>
                  </a:lnTo>
                  <a:lnTo>
                    <a:pt x="849" y="245"/>
                  </a:lnTo>
                  <a:lnTo>
                    <a:pt x="765" y="249"/>
                  </a:lnTo>
                  <a:lnTo>
                    <a:pt x="680" y="225"/>
                  </a:lnTo>
                  <a:lnTo>
                    <a:pt x="596" y="217"/>
                  </a:lnTo>
                  <a:lnTo>
                    <a:pt x="507" y="265"/>
                  </a:lnTo>
                  <a:lnTo>
                    <a:pt x="423" y="298"/>
                  </a:lnTo>
                  <a:lnTo>
                    <a:pt x="338" y="370"/>
                  </a:lnTo>
                  <a:lnTo>
                    <a:pt x="253" y="374"/>
                  </a:lnTo>
                  <a:lnTo>
                    <a:pt x="169" y="362"/>
                  </a:lnTo>
                  <a:lnTo>
                    <a:pt x="84" y="394"/>
                  </a:lnTo>
                  <a:lnTo>
                    <a:pt x="0" y="44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00160" y="5405400"/>
              <a:ext cx="3368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136836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50192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63656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77156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90512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04624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1798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31444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4480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25830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71764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512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9862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1194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2544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3876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5226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6640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7972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9322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0654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2004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33404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4686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48600" y="5311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61200" y="5056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8320" y="4794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8320" y="45385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8320" y="4281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78320" y="40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78320" y="3763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78320" y="35020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3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78320" y="3246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9424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56564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4352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91528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9316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456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46640" y="569592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-40320" y="4119120"/>
              <a:ext cx="138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Annual supply (taf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52840" y="517536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ecycl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83360" y="467028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Ground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12560" y="384660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Im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669120" y="35784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urpl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61520" y="440856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ocal Suppl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0480" y="4194000"/>
              <a:ext cx="101520" cy="196920"/>
            </a:xfrm>
            <a:custGeom>
              <a:avLst/>
              <a:gdLst/>
              <a:ahLst/>
              <a:rect l="l" t="t" r="r" b="b"/>
              <a:pathLst>
                <a:path w="253" h="493">
                  <a:moveTo>
                    <a:pt x="231" y="485"/>
                  </a:moveTo>
                  <a:lnTo>
                    <a:pt x="23" y="69"/>
                  </a:lnTo>
                  <a:cubicBezTo>
                    <a:pt x="20" y="64"/>
                    <a:pt x="22" y="57"/>
                    <a:pt x="28" y="55"/>
                  </a:cubicBezTo>
                  <a:cubicBezTo>
                    <a:pt x="33" y="52"/>
                    <a:pt x="39" y="54"/>
                    <a:pt x="42" y="59"/>
                  </a:cubicBezTo>
                  <a:lnTo>
                    <a:pt x="250" y="476"/>
                  </a:lnTo>
                  <a:cubicBezTo>
                    <a:pt x="253" y="481"/>
                    <a:pt x="251" y="487"/>
                    <a:pt x="245" y="490"/>
                  </a:cubicBezTo>
                  <a:cubicBezTo>
                    <a:pt x="240" y="493"/>
                    <a:pt x="234" y="491"/>
                    <a:pt x="231" y="485"/>
                  </a:cubicBezTo>
                  <a:close/>
                  <a:moveTo>
                    <a:pt x="0" y="144"/>
                  </a:moveTo>
                  <a:lnTo>
                    <a:pt x="0" y="0"/>
                  </a:lnTo>
                  <a:lnTo>
                    <a:pt x="115" y="8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31960" y="4194000"/>
              <a:ext cx="52560" cy="196920"/>
            </a:xfrm>
            <a:custGeom>
              <a:avLst/>
              <a:gdLst/>
              <a:ahLst/>
              <a:rect l="l" t="t" r="r" b="b"/>
              <a:pathLst>
                <a:path w="128" h="491">
                  <a:moveTo>
                    <a:pt x="65" y="481"/>
                  </a:moveTo>
                  <a:lnTo>
                    <a:pt x="51" y="72"/>
                  </a:lnTo>
                  <a:cubicBezTo>
                    <a:pt x="51" y="66"/>
                    <a:pt x="56" y="61"/>
                    <a:pt x="61" y="61"/>
                  </a:cubicBezTo>
                  <a:cubicBezTo>
                    <a:pt x="67" y="61"/>
                    <a:pt x="72" y="65"/>
                    <a:pt x="72" y="71"/>
                  </a:cubicBezTo>
                  <a:lnTo>
                    <a:pt x="86" y="480"/>
                  </a:lnTo>
                  <a:cubicBezTo>
                    <a:pt x="86" y="486"/>
                    <a:pt x="82" y="491"/>
                    <a:pt x="76" y="491"/>
                  </a:cubicBezTo>
                  <a:cubicBezTo>
                    <a:pt x="70" y="491"/>
                    <a:pt x="65" y="487"/>
                    <a:pt x="65" y="481"/>
                  </a:cubicBezTo>
                  <a:close/>
                  <a:moveTo>
                    <a:pt x="0" y="131"/>
                  </a:moveTo>
                  <a:lnTo>
                    <a:pt x="59" y="0"/>
                  </a:lnTo>
                  <a:lnTo>
                    <a:pt x="128" y="126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092240" y="541512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225440" y="541512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Many Uncertain Factors Could Impact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he Performance of Current IEUA Pla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533520" y="1765440"/>
          <a:ext cx="8051760" cy="4440240"/>
        </p:xfrm>
        <a:graphic>
          <a:graphicData uri="http://schemas.openxmlformats.org/drawingml/2006/table">
            <a:tbl>
              <a:tblPr/>
              <a:tblGrid>
                <a:gridCol w="2280960"/>
                <a:gridCol w="5770800"/>
              </a:tblGrid>
              <a:tr h="1415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c64"/>
                    </a:solidFill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temper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in groundwater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c64"/>
                    </a:solidFill>
                  </a:tcPr>
                </a:tc>
              </a:tr>
              <a:tr h="1622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of Management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of aggressive waste-water recycling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of groundwater replenish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 of Future Supplies and Management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ed suppl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use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1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Planners in S. California, for Instance, Face a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ange of Possible Future Climate Condition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65360" y="2079720"/>
            <a:ext cx="435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Summer-time temperatur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(2000- 20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95680" y="3095640"/>
            <a:ext cx="3914640" cy="6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08240" y="2962440"/>
            <a:ext cx="0" cy="280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06880" y="3200400"/>
            <a:ext cx="7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+.1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838840" y="323676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+2.1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989440" y="322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289320" y="2965320"/>
            <a:ext cx="2944800" cy="201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ikely</a:t>
            </a:r>
            <a:r>
              <a:rPr b="1" lang="en-US" sz="1400" spc="-1" strike="noStrike">
                <a:solidFill>
                  <a:srgbClr val="f6f000"/>
                </a:solidFill>
                <a:latin typeface="Arial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785960" y="5626080"/>
            <a:ext cx="562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based on statistical summary of 21 of the world’s best Global 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994120" y="3962520"/>
            <a:ext cx="34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Winter-time precipitation change (2000 - 20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865480" y="494352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+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28600" y="49402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1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657520" y="4822920"/>
            <a:ext cx="3914640" cy="6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108400" y="4572000"/>
            <a:ext cx="0" cy="420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978440" y="5060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301920" y="4680000"/>
            <a:ext cx="289584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ikely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52400" y="2284560"/>
            <a:ext cx="7835400" cy="3160080"/>
            <a:chOff x="752400" y="2284560"/>
            <a:chExt cx="7835400" cy="3160080"/>
          </a:xfrm>
        </p:grpSpPr>
        <p:grpSp>
          <p:nvGrpSpPr>
            <p:cNvPr id="719" name=""/>
            <p:cNvGrpSpPr/>
            <p:nvPr/>
          </p:nvGrpSpPr>
          <p:grpSpPr>
            <a:xfrm>
              <a:off x="752400" y="2457360"/>
              <a:ext cx="2993040" cy="1042200"/>
              <a:chOff x="752400" y="2457360"/>
              <a:chExt cx="2993040" cy="1042200"/>
            </a:xfrm>
          </p:grpSpPr>
          <p:sp>
            <p:nvSpPr>
              <p:cNvPr id="720" name=""/>
              <p:cNvSpPr/>
              <p:nvPr/>
            </p:nvSpPr>
            <p:spPr>
              <a:xfrm>
                <a:off x="2530080" y="2457360"/>
                <a:ext cx="121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69fd2"/>
                    </a:solidFill>
                    <a:latin typeface="Arial"/>
                    <a:ea typeface="Arial Unicode MS"/>
                  </a:rPr>
                  <a:t>No chan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2400" y="2517120"/>
                <a:ext cx="1485720" cy="982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2" name=""/>
            <p:cNvGrpSpPr/>
            <p:nvPr/>
          </p:nvGrpSpPr>
          <p:grpSpPr>
            <a:xfrm>
              <a:off x="5812920" y="2284560"/>
              <a:ext cx="2633760" cy="1431720"/>
              <a:chOff x="5812920" y="2284560"/>
              <a:chExt cx="2633760" cy="1431720"/>
            </a:xfrm>
          </p:grpSpPr>
          <p:sp>
            <p:nvSpPr>
              <p:cNvPr id="723" name=""/>
              <p:cNvSpPr/>
              <p:nvPr/>
            </p:nvSpPr>
            <p:spPr>
              <a:xfrm>
                <a:off x="5812920" y="245736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69fd2"/>
                    </a:solidFill>
                    <a:latin typeface="Arial"/>
                    <a:ea typeface="Arial Unicode MS"/>
                  </a:rPr>
                  <a:t>Hot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14960" y="2284560"/>
                <a:ext cx="1431720" cy="143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5" name=""/>
            <p:cNvGrpSpPr/>
            <p:nvPr/>
          </p:nvGrpSpPr>
          <p:grpSpPr>
            <a:xfrm>
              <a:off x="5756400" y="4155840"/>
              <a:ext cx="2831400" cy="1244520"/>
              <a:chOff x="5756400" y="4155840"/>
              <a:chExt cx="2831400" cy="1244520"/>
            </a:xfrm>
          </p:grpSpPr>
          <p:sp>
            <p:nvSpPr>
              <p:cNvPr id="726" name=""/>
              <p:cNvSpPr/>
              <p:nvPr/>
            </p:nvSpPr>
            <p:spPr>
              <a:xfrm>
                <a:off x="5756400" y="43621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69fd2"/>
                    </a:solidFill>
                    <a:latin typeface="Arial"/>
                    <a:ea typeface="Arial Unicode MS"/>
                  </a:rPr>
                  <a:t>Wet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7480" y="4155840"/>
                <a:ext cx="1660320" cy="1244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8" name=""/>
            <p:cNvGrpSpPr/>
            <p:nvPr/>
          </p:nvGrpSpPr>
          <p:grpSpPr>
            <a:xfrm>
              <a:off x="1114200" y="3976560"/>
              <a:ext cx="2591280" cy="1468080"/>
              <a:chOff x="1114200" y="3976560"/>
              <a:chExt cx="2591280" cy="1468080"/>
            </a:xfrm>
          </p:grpSpPr>
          <p:sp>
            <p:nvSpPr>
              <p:cNvPr id="729" name=""/>
              <p:cNvSpPr/>
              <p:nvPr/>
            </p:nvSpPr>
            <p:spPr>
              <a:xfrm>
                <a:off x="2488320" y="4361760"/>
                <a:ext cx="121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69fd2"/>
                    </a:solidFill>
                    <a:latin typeface="Arial"/>
                    <a:ea typeface="Arial Unicode MS"/>
                  </a:rPr>
                  <a:t>Much dri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4200" y="3976560"/>
                <a:ext cx="1095120" cy="146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1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Many Uncertain Factors Could Impact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he Performance of Current IEUA Pla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1765440"/>
          <a:ext cx="8051760" cy="4440240"/>
        </p:xfrm>
        <a:graphic>
          <a:graphicData uri="http://schemas.openxmlformats.org/drawingml/2006/table">
            <a:tbl>
              <a:tblPr/>
              <a:tblGrid>
                <a:gridCol w="2280960"/>
                <a:gridCol w="5770800"/>
              </a:tblGrid>
              <a:tr h="1415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temper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s in groundwater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2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of Management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of aggressive waste-water recycling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of groundwater replenish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 of Future Supplies and Management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ed suppl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use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959200" y="2311560"/>
            <a:ext cx="101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09960" y="4361040"/>
            <a:ext cx="613872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09960" y="3139920"/>
            <a:ext cx="6138720" cy="180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109960" y="1905120"/>
            <a:ext cx="613872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699000" y="1803240"/>
            <a:ext cx="1440" cy="390708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86520" y="1803240"/>
            <a:ext cx="1440" cy="390708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59640" y="1803240"/>
            <a:ext cx="1440" cy="390708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134200" y="1803240"/>
            <a:ext cx="1800" cy="390708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932360" y="3305160"/>
            <a:ext cx="7632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932360" y="33051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185920" y="373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185920" y="37368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09960" y="1803240"/>
            <a:ext cx="1440" cy="390708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033640" y="5583240"/>
            <a:ext cx="76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046240" y="4361040"/>
            <a:ext cx="6372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033640" y="3127320"/>
            <a:ext cx="763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46240" y="1905120"/>
            <a:ext cx="6372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2033640" y="1905120"/>
            <a:ext cx="76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109960" y="5710320"/>
            <a:ext cx="613872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6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224080" y="5710320"/>
            <a:ext cx="144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006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24080" y="5697360"/>
            <a:ext cx="144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699000" y="5710320"/>
            <a:ext cx="144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006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173560" y="5697360"/>
            <a:ext cx="180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659640" y="5710320"/>
            <a:ext cx="144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006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134200" y="571032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006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31920" y="5824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27280" y="57880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027760" y="57974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512040" y="57974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942320" y="58104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607200" y="6119640"/>
            <a:ext cx="342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hortage cost 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65360" y="54450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65360" y="4216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639800" y="30146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63560" y="17193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28240" y="3008160"/>
            <a:ext cx="1299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uppl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163320" y="3675240"/>
            <a:ext cx="1059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c00"/>
                </a:solidFill>
                <a:latin typeface="Arial"/>
              </a:rPr>
              <a:t>Scenari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2438280" y="3774960"/>
            <a:ext cx="470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970240" y="3255840"/>
            <a:ext cx="1059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c00"/>
                </a:solidFill>
                <a:latin typeface="Arial"/>
              </a:rPr>
              <a:t>Scenario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411880" y="3618000"/>
            <a:ext cx="2171520" cy="1422360"/>
          </a:xfrm>
          <a:prstGeom prst="rect">
            <a:avLst/>
          </a:prstGeom>
          <a:solidFill>
            <a:srgbClr val="040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verse 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3.4 billion in supply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1.9 billion in shortage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244840" y="3355920"/>
            <a:ext cx="469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037960" y="1460520"/>
            <a:ext cx="60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urrent IEUA 2005 Urban Water Manag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46320" y="3699000"/>
            <a:ext cx="17784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889520" y="3254400"/>
            <a:ext cx="17784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355840" y="4017960"/>
            <a:ext cx="2171880" cy="1422360"/>
          </a:xfrm>
          <a:prstGeom prst="rect">
            <a:avLst/>
          </a:prstGeom>
          <a:solidFill>
            <a:srgbClr val="040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nign 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3.3 billion in supply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0 in shortage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180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Scenario Maps” Help Decision Makers Visualize How Plans Evolve Over Many Futur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905120" y="6477120"/>
            <a:ext cx="5879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vid G. Groves, Robert J. Lempert, Debra Knopman, Sandra H. Berry: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Preparing for an Uncertain Climate Future: Identifying Robust Water Management Strategie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RAND DB-550-NSF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274840" y="564372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274840" y="440856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74840" y="318780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274840" y="195264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389320" y="1851120"/>
            <a:ext cx="144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86388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35140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2452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8299440" y="1851120"/>
            <a:ext cx="144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452680" y="393876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452680" y="393876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37280" y="42051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37280" y="42051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351160" y="503244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351160" y="503244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16240" y="36194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216240" y="36194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924280" y="35434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924280" y="354348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401920" y="4027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01920" y="4027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694480" y="34923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694480" y="34923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114720" y="294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114720" y="29448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097600" y="335268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97600" y="335268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81800" y="48164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481800" y="48164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643120" y="3594240"/>
            <a:ext cx="777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43120" y="35942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452680" y="475308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452680" y="475308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394080" y="4192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394080" y="4192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41800" y="4510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41800" y="45100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457440" y="470232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57440" y="470232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376360" y="3568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376360" y="35686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851280" y="370836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851280" y="370836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32440" y="4624560"/>
            <a:ext cx="7776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032440" y="462456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0668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40668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351160" y="39639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351160" y="39639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956120" y="33400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956120" y="33400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6840" y="3809880"/>
            <a:ext cx="777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706840" y="380988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711600" y="3809880"/>
            <a:ext cx="633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711600" y="380988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20880" y="4370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720880" y="43704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351160" y="505764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351160" y="505764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410000" y="4027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410000" y="4027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706840" y="4332240"/>
            <a:ext cx="648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706840" y="4332240"/>
            <a:ext cx="6480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706840" y="4255920"/>
            <a:ext cx="777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706840" y="425592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41600" y="2627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541600" y="2627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660840" y="41544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660840" y="41544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610080" y="41925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610080" y="41925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639200" y="440856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639200" y="440856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40080" y="470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440080" y="470232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156200" y="398952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156200" y="398952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351160" y="4879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351160" y="48798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67160" y="4446720"/>
            <a:ext cx="633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567160" y="4446720"/>
            <a:ext cx="63360" cy="7596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25720" y="3340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25720" y="3340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292560" y="304632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292560" y="304632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898720" y="40910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898720" y="40910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930920" y="45734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930920" y="45734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8360" y="4994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8360" y="49942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809800" y="495612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09800" y="495612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295880" y="3122640"/>
            <a:ext cx="7596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295880" y="312264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3"/>
                </a:lnTo>
                <a:lnTo>
                  <a:pt x="48" y="33"/>
                </a:lnTo>
                <a:lnTo>
                  <a:pt x="40" y="33"/>
                </a:lnTo>
                <a:lnTo>
                  <a:pt x="40" y="33"/>
                </a:lnTo>
                <a:lnTo>
                  <a:pt x="40" y="33"/>
                </a:lnTo>
                <a:lnTo>
                  <a:pt x="40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24" y="41"/>
                </a:lnTo>
                <a:lnTo>
                  <a:pt x="24" y="41"/>
                </a:lnTo>
                <a:lnTo>
                  <a:pt x="24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8" y="41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0" y="33"/>
                </a:lnTo>
                <a:lnTo>
                  <a:pt x="0" y="33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978360" y="401472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978360" y="401472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952800" y="33400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952800" y="33400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330720" y="379728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330720" y="379728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584520" y="375912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584520" y="375912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87640" y="4243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987640" y="4243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981680" y="3925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981680" y="39258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498920" y="458640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498920" y="45864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346640" y="468936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346640" y="46893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749760" y="364500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749760" y="36450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305160" y="398952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305160" y="398952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59360" y="4676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859360" y="4676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99096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99096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279600" y="34164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79600" y="34164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19640" y="4522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45226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257720" y="443376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257720" y="443376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435560" y="419256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35560" y="419256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537080" y="4446720"/>
            <a:ext cx="633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537080" y="444672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702320" y="5222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702320" y="52228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949480" y="36450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949480" y="36450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278400" y="4676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278400" y="4676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17920" y="396396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617920" y="396396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604960" y="309708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604960" y="309708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51160" y="395136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51160" y="395136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952800" y="477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952800" y="4778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51160" y="48290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51160" y="48290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962440" y="36068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962440" y="36068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847960" y="37083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47960" y="37083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381480" y="3695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81480" y="3695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706840" y="3390840"/>
            <a:ext cx="648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706840" y="3390840"/>
            <a:ext cx="6480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724200" y="420516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724200" y="420516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83000" y="429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483000" y="4294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898720" y="4243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98720" y="4243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822400" y="459900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22400" y="45990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724200" y="31878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24200" y="31878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686040" y="3695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686040" y="3695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592360" y="3925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592360" y="39258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62268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62268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351160" y="37846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51160" y="378468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851280" y="498168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51280" y="498168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720880" y="3976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720880" y="3976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292560" y="3695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292560" y="3695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592360" y="41036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92360" y="41036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533760" y="395136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533760" y="395136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52680" y="36450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452680" y="36450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33840" y="41925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33840" y="41925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257720" y="40910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257720" y="40910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483000" y="4611600"/>
            <a:ext cx="6336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351160" y="2716200"/>
            <a:ext cx="4600080" cy="2354040"/>
            <a:chOff x="2351160" y="2716200"/>
            <a:chExt cx="4600080" cy="2354040"/>
          </a:xfrm>
        </p:grpSpPr>
        <p:sp>
          <p:nvSpPr>
            <p:cNvPr id="971" name=""/>
            <p:cNvSpPr/>
            <p:nvPr/>
          </p:nvSpPr>
          <p:spPr>
            <a:xfrm>
              <a:off x="3482640" y="4611600"/>
              <a:ext cx="63360" cy="777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98640" y="3517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98640" y="3517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22320" y="43448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22320" y="43448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82640" y="4116240"/>
              <a:ext cx="633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482640" y="411624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558960" y="374652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58960" y="374652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5000" y="426852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835000" y="426852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749400" y="407808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749400" y="407808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9520" y="3619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79520" y="3619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87480" y="42051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87480" y="4205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98640" y="419256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698640" y="419256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800160" y="395100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00160" y="395100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08120" y="363204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08120" y="363204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79400" y="35686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9400" y="35686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51160" y="44845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51160" y="44845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28640" y="4624200"/>
              <a:ext cx="7596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528640" y="462420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17680" y="45100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17680" y="45100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67000" y="440820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67000" y="4408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70320" y="42177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70320" y="42177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952800" y="433224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52800" y="433224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39920" y="3771720"/>
              <a:ext cx="6300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139920" y="3771720"/>
              <a:ext cx="6300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03560" y="37335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03560" y="37335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52320" y="36446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52320" y="36446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57640" y="472752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057640" y="472752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33480" y="38098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33480" y="38098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30760" y="4294080"/>
              <a:ext cx="630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30760" y="4294080"/>
              <a:ext cx="6300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27120" y="48798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27120" y="48798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09720" y="44593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609720" y="44593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546360" y="42433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546360" y="42433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85760" y="346716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85760" y="346716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490480" y="4002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490480" y="40021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19680" y="414180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19680" y="41418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358880" y="372096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58880" y="372096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727520" y="325116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27520" y="325116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528880" y="476568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528880" y="476568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46080" y="47275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46080" y="47275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36800" y="32637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736800" y="32637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6080" y="4002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46080" y="40021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51160" y="35431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51160" y="35431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98720" y="499428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98720" y="499428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063600" y="3568680"/>
              <a:ext cx="633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063600" y="3568680"/>
              <a:ext cx="6336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498920" y="442116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498920" y="442116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803480" y="3492360"/>
              <a:ext cx="633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803480" y="349236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76480" y="40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876480" y="409104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58680" y="4535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58680" y="4535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95600" y="3135240"/>
              <a:ext cx="630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495600" y="3135240"/>
              <a:ext cx="63000" cy="777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152520" y="48546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152520" y="48546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02160" y="433224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402160" y="433224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22600" y="474012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22600" y="474012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351160" y="39510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351160" y="39510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15880" y="4611600"/>
              <a:ext cx="7596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15880" y="461160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33800" y="486720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833800" y="486720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351160" y="4714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351160" y="4714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55720" y="445932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55720" y="445932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60560" y="321300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60560" y="32130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63800" y="3135240"/>
              <a:ext cx="6336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63800" y="3135240"/>
              <a:ext cx="633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643120" y="3581280"/>
              <a:ext cx="774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43120" y="3581280"/>
              <a:ext cx="7740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52520" y="3581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52520" y="3581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41760" y="46893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41760" y="46893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60560" y="33271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60560" y="33271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127320" y="419256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27320" y="419256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46080" y="4535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46080" y="4535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51160" y="402732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51160" y="402732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04960" y="349236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604960" y="349236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14520" y="409104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14520" y="409104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20880" y="454824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720880" y="454824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78120" y="482904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78120" y="482904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351160" y="43322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51160" y="43322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16040" y="39765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16040" y="39765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927240" y="43956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27240" y="4395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35280" y="389880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35280" y="3898800"/>
              <a:ext cx="7560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8" y="9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63880" y="412884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63880" y="412884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95600" y="47019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495600" y="47019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617560" y="4357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617560" y="4357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97120" y="39891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97120" y="39891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181400" y="459900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81400" y="4599000"/>
              <a:ext cx="7560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723000" y="4981320"/>
              <a:ext cx="6300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23000" y="4981320"/>
              <a:ext cx="6300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236920" y="3695760"/>
              <a:ext cx="630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36920" y="3695760"/>
              <a:ext cx="6300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63800" y="44593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63800" y="44593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460760" y="370836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60760" y="370836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516040" y="346716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16040" y="346716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155840" y="37843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55840" y="37843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351160" y="43322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51160" y="43322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152520" y="41796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152520" y="4179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63800" y="430668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63800" y="430668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444480" y="3619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444480" y="3619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36800" y="36446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36800" y="36446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8280" y="37717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78280" y="37717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714560" y="49305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714560" y="49305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03560" y="304632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03560" y="304632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875280" y="48546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875280" y="48546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39720" y="369576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39720" y="369576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00160" y="426852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00160" y="426852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17560" y="39891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17560" y="3989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97120" y="271620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97120" y="27162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566800" y="437040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566800" y="437040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80920" y="4765680"/>
              <a:ext cx="648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80920" y="4765680"/>
              <a:ext cx="6480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822400" y="3517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822400" y="3517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57640" y="414180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57640" y="414180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203280" y="43830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203280" y="43830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05080" y="39765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05080" y="39765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24200" y="314784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3724200" y="3147840"/>
            <a:ext cx="76320" cy="7812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25"/>
                </a:lnTo>
                <a:lnTo>
                  <a:pt x="48" y="25"/>
                </a:lnTo>
                <a:lnTo>
                  <a:pt x="48" y="25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987640" y="429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987640" y="4294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317760" y="4192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317760" y="4192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978360" y="359424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978360" y="359424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138720" y="44211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138720" y="44211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873520" y="41162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873520" y="41162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473720" y="3263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473720" y="3263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118040" y="412920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118040" y="41292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401920" y="3365640"/>
            <a:ext cx="633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401920" y="336564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876840" y="485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876840" y="48546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279600" y="40528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279600" y="40528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27484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198520" y="5630760"/>
            <a:ext cx="763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11480" y="4408560"/>
            <a:ext cx="6336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2198520" y="3174840"/>
            <a:ext cx="763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11480" y="1952640"/>
            <a:ext cx="6336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2198520" y="1952640"/>
            <a:ext cx="76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74840" y="575784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389320" y="5757840"/>
            <a:ext cx="144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389320" y="5745240"/>
            <a:ext cx="144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86388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35140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82452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286840" y="5745240"/>
            <a:ext cx="144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297160" y="5872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692520" y="58356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192640" y="5845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676920" y="5845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107200" y="5857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772080" y="6167520"/>
            <a:ext cx="342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hortage cost 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830240" y="54928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30240" y="4264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805040" y="30621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828800" y="17668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93480" y="3056040"/>
            <a:ext cx="1299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uppl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11560" y="3746520"/>
            <a:ext cx="1774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054760" y="3301920"/>
            <a:ext cx="1774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265280" y="1447920"/>
            <a:ext cx="220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urrent IEUA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199920" y="5270400"/>
            <a:ext cx="23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7160" indent="-227160">
              <a:lnSpc>
                <a:spcPct val="9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00 Scenar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0" y="180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Scenario Maps” Help Decision Makers Visualize How Plans Evolve Over Many Futur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67080" y="6553080"/>
            <a:ext cx="184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2274840" y="564372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274840" y="440856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274840" y="318780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246400" y="1937160"/>
            <a:ext cx="6138720" cy="428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389320" y="1851120"/>
            <a:ext cx="144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86388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35140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2452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299440" y="1851120"/>
            <a:ext cx="144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452680" y="393876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452680" y="393876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237280" y="42051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37280" y="42051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351160" y="503244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351160" y="503244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216240" y="36194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216240" y="36194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924280" y="35434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924280" y="354348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401920" y="4027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401920" y="4027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694480" y="34923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694480" y="34923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114720" y="294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114720" y="29448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097600" y="335268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097600" y="335268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481800" y="48164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481800" y="48164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643120" y="3594240"/>
            <a:ext cx="777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643120" y="35942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452680" y="475308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452680" y="475308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394080" y="4192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394080" y="4192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241800" y="4510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241800" y="45100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457440" y="470232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457440" y="470232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376360" y="3568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376360" y="35686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851280" y="370836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851280" y="370836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032440" y="4624560"/>
            <a:ext cx="7776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032440" y="462456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40668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40668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351160" y="39639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351160" y="39639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956120" y="33400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956120" y="33400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706840" y="3809880"/>
            <a:ext cx="777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706840" y="380988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711600" y="3809880"/>
            <a:ext cx="633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711600" y="380988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720880" y="4370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720880" y="43704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351160" y="505764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351160" y="505764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410000" y="4027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410000" y="4027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706840" y="4332240"/>
            <a:ext cx="648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706840" y="4332240"/>
            <a:ext cx="6480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706840" y="4255920"/>
            <a:ext cx="777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706840" y="425592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541600" y="2627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541600" y="2627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660840" y="41544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660840" y="41544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610080" y="41925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610080" y="41925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639200" y="440856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7639200" y="440856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440080" y="470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440080" y="470232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156200" y="398952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156200" y="398952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351160" y="4879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351160" y="48798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567160" y="4446720"/>
            <a:ext cx="633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567160" y="4446720"/>
            <a:ext cx="63360" cy="7596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825720" y="3340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825720" y="3340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292560" y="304632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292560" y="304632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898720" y="40910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898720" y="40910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930920" y="45734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930920" y="45734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148360" y="4994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148360" y="49942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809800" y="495612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809800" y="495612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95880" y="3122640"/>
            <a:ext cx="7596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295880" y="312264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3"/>
                </a:lnTo>
                <a:lnTo>
                  <a:pt x="48" y="33"/>
                </a:lnTo>
                <a:lnTo>
                  <a:pt x="40" y="33"/>
                </a:lnTo>
                <a:lnTo>
                  <a:pt x="40" y="33"/>
                </a:lnTo>
                <a:lnTo>
                  <a:pt x="40" y="33"/>
                </a:lnTo>
                <a:lnTo>
                  <a:pt x="40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24" y="41"/>
                </a:lnTo>
                <a:lnTo>
                  <a:pt x="24" y="41"/>
                </a:lnTo>
                <a:lnTo>
                  <a:pt x="24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8" y="41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0" y="33"/>
                </a:lnTo>
                <a:lnTo>
                  <a:pt x="0" y="33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978360" y="401472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78360" y="401472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952800" y="33400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52800" y="33400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330720" y="379728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330720" y="379728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584520" y="375912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584520" y="375912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987640" y="4243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87640" y="4243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981680" y="3925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981680" y="39258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498920" y="458640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498920" y="45864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346640" y="468936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346640" y="46893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749760" y="364500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49760" y="36450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305160" y="398952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305160" y="398952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859360" y="4676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859360" y="4676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99096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99096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79600" y="34164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79600" y="34164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419640" y="4522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419640" y="45226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257720" y="443376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257720" y="443376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435560" y="419256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435560" y="419256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537080" y="4446720"/>
            <a:ext cx="633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537080" y="444672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702320" y="5222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702320" y="52228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949480" y="36450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949480" y="36450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6278400" y="4676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278400" y="4676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617920" y="396396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617920" y="396396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604960" y="309708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604960" y="309708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351160" y="395136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351160" y="395136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952800" y="477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952800" y="4778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351160" y="48290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351160" y="48290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962440" y="36068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962440" y="36068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847960" y="37083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847960" y="37083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381480" y="3695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381480" y="3695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706840" y="3390840"/>
            <a:ext cx="648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706840" y="3390840"/>
            <a:ext cx="6480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724200" y="420516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724200" y="420516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483000" y="429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483000" y="4294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898720" y="4243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898720" y="4243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822400" y="459900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822400" y="45990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724200" y="31878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4200" y="31878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686040" y="3695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686040" y="3695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592360" y="3925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592360" y="39258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62268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2268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351160" y="37846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351160" y="378468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851280" y="498168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851280" y="498168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720880" y="3976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720880" y="3976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292560" y="3695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292560" y="3695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592360" y="41036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592360" y="41036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533760" y="395136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533760" y="395136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452680" y="36450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452680" y="36450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33840" y="41925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733840" y="41925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257720" y="40910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257720" y="40910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483000" y="4611600"/>
            <a:ext cx="6336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351160" y="2716200"/>
            <a:ext cx="4600080" cy="2354040"/>
            <a:chOff x="2351160" y="2716200"/>
            <a:chExt cx="4600080" cy="2354040"/>
          </a:xfrm>
        </p:grpSpPr>
        <p:sp>
          <p:nvSpPr>
            <p:cNvPr id="1411" name=""/>
            <p:cNvSpPr/>
            <p:nvPr/>
          </p:nvSpPr>
          <p:spPr>
            <a:xfrm>
              <a:off x="3482640" y="4611600"/>
              <a:ext cx="63360" cy="777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698640" y="3517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698640" y="3517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622320" y="43448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622320" y="43448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482640" y="4116240"/>
              <a:ext cx="633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482640" y="411624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58960" y="374652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58960" y="374652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35000" y="426852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35000" y="426852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749400" y="407808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749400" y="407808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79520" y="3619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079520" y="3619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587480" y="42051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587480" y="4205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698640" y="419256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698640" y="419256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800160" y="395100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800160" y="395100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308120" y="363204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308120" y="363204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79400" y="35686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579400" y="35686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351160" y="44845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351160" y="44845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28640" y="4624200"/>
              <a:ext cx="7596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528640" y="462420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17680" y="45100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117680" y="45100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267000" y="440820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267000" y="4408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270320" y="42177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270320" y="42177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952800" y="433224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952800" y="433224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39920" y="3771720"/>
              <a:ext cx="6300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139920" y="3771720"/>
              <a:ext cx="6300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03560" y="37335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03560" y="37335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452320" y="36446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452320" y="36446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057640" y="472752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057640" y="472752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33480" y="38098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733480" y="38098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630760" y="4294080"/>
              <a:ext cx="630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630760" y="4294080"/>
              <a:ext cx="6300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427120" y="48798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427120" y="48798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609720" y="44593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609720" y="44593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546360" y="42433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546360" y="42433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885760" y="346716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885760" y="346716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490480" y="4002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90480" y="40021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19680" y="414180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19680" y="41418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58880" y="372096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358880" y="372096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727520" y="325116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727520" y="325116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528880" y="476568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528880" y="476568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746080" y="47275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46080" y="47275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736800" y="32637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736800" y="32637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746080" y="4002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746080" y="40021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351160" y="35431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351160" y="35431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98720" y="499428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98720" y="499428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063600" y="3568680"/>
              <a:ext cx="633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63600" y="3568680"/>
              <a:ext cx="6336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98920" y="442116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98920" y="442116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3480" y="3492360"/>
              <a:ext cx="633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3480" y="349236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876480" y="40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876480" y="409104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758680" y="4535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758680" y="4535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495600" y="3135240"/>
              <a:ext cx="630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495600" y="3135240"/>
              <a:ext cx="63000" cy="777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152520" y="48546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152520" y="48546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402160" y="433224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402160" y="433224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22600" y="474012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22600" y="474012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1160" y="39510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351160" y="39510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215880" y="4611600"/>
              <a:ext cx="7596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215880" y="461160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833800" y="486720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833800" y="486720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351160" y="4714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351160" y="4714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655720" y="445932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655720" y="445932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860560" y="321300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860560" y="32130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663800" y="3135240"/>
              <a:ext cx="6336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663800" y="3135240"/>
              <a:ext cx="633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643120" y="3581280"/>
              <a:ext cx="774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643120" y="3581280"/>
              <a:ext cx="7740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152520" y="3581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152520" y="3581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341760" y="46893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41760" y="46893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60560" y="33271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60560" y="33271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127320" y="419256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127320" y="419256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746080" y="4535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746080" y="4535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351160" y="402732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351160" y="402732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04960" y="349236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604960" y="349236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14520" y="409104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414520" y="409104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720880" y="454824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720880" y="454824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478120" y="482904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478120" y="482904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351160" y="43322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351160" y="43322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516040" y="39765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516040" y="39765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927240" y="43956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927240" y="4395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635280" y="389880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635280" y="3898800"/>
              <a:ext cx="7560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8" y="9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863880" y="412884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863880" y="412884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495600" y="47019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495600" y="47019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617560" y="4357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617560" y="4357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597120" y="39891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597120" y="39891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81400" y="459900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181400" y="4599000"/>
              <a:ext cx="7560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23000" y="4981320"/>
              <a:ext cx="6300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23000" y="4981320"/>
              <a:ext cx="6300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36920" y="3695760"/>
              <a:ext cx="630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236920" y="3695760"/>
              <a:ext cx="6300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63800" y="44593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663800" y="44593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460760" y="370836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460760" y="370836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516040" y="346716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516040" y="346716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155840" y="37843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155840" y="37843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351160" y="43322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351160" y="43322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52520" y="41796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52520" y="4179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63800" y="430668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663800" y="430668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444480" y="3619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444480" y="3619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36800" y="36446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736800" y="36446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78280" y="37717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78280" y="37717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714560" y="49305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714560" y="49305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003560" y="304632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03560" y="304632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875280" y="48546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875280" y="48546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439720" y="369576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439720" y="369576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800160" y="426852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00160" y="426852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617560" y="39891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617560" y="3989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97120" y="271620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97120" y="27162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66800" y="437040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566800" y="437040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680920" y="4765680"/>
              <a:ext cx="648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680920" y="4765680"/>
              <a:ext cx="6480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822400" y="3517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822400" y="3517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057640" y="414180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057640" y="414180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03280" y="43830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03280" y="43830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105080" y="39765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105080" y="39765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724200" y="314784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3724200" y="3147840"/>
            <a:ext cx="76320" cy="7812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25"/>
                </a:lnTo>
                <a:lnTo>
                  <a:pt x="48" y="25"/>
                </a:lnTo>
                <a:lnTo>
                  <a:pt x="48" y="25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987640" y="429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2987640" y="4294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317760" y="4192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317760" y="4192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978360" y="359424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978360" y="359424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138720" y="44211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138720" y="44211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873520" y="41162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873520" y="41162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4473720" y="3263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4473720" y="3263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118040" y="412920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4118040" y="41292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401920" y="3365640"/>
            <a:ext cx="633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401920" y="336564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3876840" y="485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3876840" y="48546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3279600" y="40528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279600" y="40528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7484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2198520" y="5630760"/>
            <a:ext cx="763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211480" y="4408560"/>
            <a:ext cx="6336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2198520" y="3174840"/>
            <a:ext cx="763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211480" y="1952640"/>
            <a:ext cx="6336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2198520" y="1952640"/>
            <a:ext cx="76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2274840" y="575784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389320" y="5757840"/>
            <a:ext cx="144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2389320" y="5745240"/>
            <a:ext cx="144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86388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35140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82452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286840" y="5745240"/>
            <a:ext cx="144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2297160" y="5872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692520" y="58356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192640" y="5845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6676920" y="5845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8107200" y="5857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772080" y="6167520"/>
            <a:ext cx="342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hortage cost 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830240" y="54928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830240" y="4264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1805040" y="30621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828800" y="17668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393480" y="3056040"/>
            <a:ext cx="1299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uppl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311560" y="3746520"/>
            <a:ext cx="1774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5054760" y="3301920"/>
            <a:ext cx="1774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341240" y="1447920"/>
            <a:ext cx="220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urrent IEUA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314440" y="2540160"/>
            <a:ext cx="2260800" cy="3174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373480" y="2016000"/>
            <a:ext cx="5930640" cy="3708360"/>
          </a:xfrm>
          <a:custGeom>
            <a:avLst/>
            <a:gdLst/>
            <a:ahLst/>
            <a:rect l="l" t="t" r="r" b="b"/>
            <a:pathLst>
              <a:path w="3800" h="2464">
                <a:moveTo>
                  <a:pt x="0" y="0"/>
                </a:moveTo>
                <a:lnTo>
                  <a:pt x="0" y="384"/>
                </a:lnTo>
                <a:lnTo>
                  <a:pt x="1408" y="2464"/>
                </a:lnTo>
                <a:lnTo>
                  <a:pt x="3800" y="2464"/>
                </a:lnTo>
                <a:lnTo>
                  <a:pt x="37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3086280" y="5246640"/>
            <a:ext cx="1290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$3.75 billion cost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867280" y="2060640"/>
            <a:ext cx="2409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 plan generates high costs in 120 of 200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0" y="180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Scenario Maps” Help Decision Makers Visualize How Plans Evolve Over Many Futur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267080" y="6553080"/>
            <a:ext cx="184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recasting the Unpredictable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an Contribute  to Bad Decision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14760" y="1460520"/>
            <a:ext cx="5064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oss national product (trillions of 1958 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63880" y="1811160"/>
            <a:ext cx="476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5960" y="204948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5960" y="230508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550960"/>
            <a:ext cx="806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7640" y="2800440"/>
            <a:ext cx="452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5960" y="305424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9440" y="3322800"/>
            <a:ext cx="45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6040" y="3565440"/>
            <a:ext cx="384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08600" y="3827520"/>
            <a:ext cx="331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520" y="4081320"/>
            <a:ext cx="323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06800" y="4330800"/>
            <a:ext cx="333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57560" y="4584600"/>
            <a:ext cx="282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86720" y="4746600"/>
            <a:ext cx="557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86240" y="1946160"/>
            <a:ext cx="4514760" cy="27781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71840" y="5030640"/>
            <a:ext cx="45054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ergy use (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Btu per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828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22880" y="219564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22880" y="24480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22880" y="270036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22880" y="295128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22880" y="320364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22880" y="34560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22880" y="370512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22880" y="396072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22880" y="42102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22880" y="446256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86900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372280" y="472248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87700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7848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85000" y="470664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38972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89156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39484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516560" y="3533400"/>
            <a:ext cx="1995480" cy="1181160"/>
          </a:xfrm>
          <a:prstGeom prst="line">
            <a:avLst/>
          </a:prstGeom>
          <a:ln w="28440">
            <a:solidFill>
              <a:srgbClr val="ff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78480" y="2241720"/>
            <a:ext cx="2319480" cy="137304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318360" y="2257560"/>
            <a:ext cx="1944720" cy="138096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7960" y="2265480"/>
            <a:ext cx="1438200" cy="1349280"/>
          </a:xfrm>
          <a:custGeom>
            <a:avLst/>
            <a:gdLst/>
            <a:ahLst/>
            <a:rect l="l" t="t" r="r" b="b"/>
            <a:pathLst>
              <a:path w="1136" h="1344">
                <a:moveTo>
                  <a:pt x="0" y="1344"/>
                </a:moveTo>
                <a:lnTo>
                  <a:pt x="597" y="691"/>
                </a:lnTo>
                <a:lnTo>
                  <a:pt x="896" y="336"/>
                </a:lnTo>
                <a:lnTo>
                  <a:pt x="1136" y="0"/>
                </a:lnTo>
              </a:path>
            </a:pathLst>
          </a:custGeom>
          <a:noFill/>
          <a:ln w="28440">
            <a:solidFill>
              <a:srgbClr val="ffd47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13320" y="2249640"/>
            <a:ext cx="1121040" cy="1393560"/>
          </a:xfrm>
          <a:custGeom>
            <a:avLst/>
            <a:gdLst/>
            <a:ahLst/>
            <a:rect l="l" t="t" r="r" b="b"/>
            <a:pathLst>
              <a:path w="885" h="1389">
                <a:moveTo>
                  <a:pt x="0" y="1389"/>
                </a:moveTo>
                <a:lnTo>
                  <a:pt x="325" y="957"/>
                </a:lnTo>
                <a:lnTo>
                  <a:pt x="573" y="544"/>
                </a:lnTo>
                <a:lnTo>
                  <a:pt x="885" y="0"/>
                </a:lnTo>
              </a:path>
            </a:pathLst>
          </a:custGeom>
          <a:noFill/>
          <a:ln w="28440">
            <a:solidFill>
              <a:srgbClr val="ffd47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34360" y="2249640"/>
            <a:ext cx="1224000" cy="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0600" y="3652920"/>
            <a:ext cx="3780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88040" y="3686040"/>
            <a:ext cx="381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75440" y="372744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26120" y="371628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6520" y="3781440"/>
            <a:ext cx="363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59520" y="380376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10120" y="383076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86440" y="379728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70440" y="388296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35600" y="385596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27520" y="3989520"/>
            <a:ext cx="3672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81520" y="3936960"/>
            <a:ext cx="367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92880" y="4086360"/>
            <a:ext cx="3636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5400" y="4637160"/>
            <a:ext cx="3960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613400"/>
            <a:ext cx="363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0880" y="416088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1000" y="4151160"/>
            <a:ext cx="3672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80200" y="4125960"/>
            <a:ext cx="3960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30960" y="4119480"/>
            <a:ext cx="363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52920" y="4086360"/>
            <a:ext cx="3492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3920" y="403236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94400" y="402264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29320" y="4532400"/>
            <a:ext cx="3780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49840" y="4568760"/>
            <a:ext cx="3960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49920" y="4510080"/>
            <a:ext cx="3960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2760" y="451008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67400" y="4589640"/>
            <a:ext cx="3780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97360" y="4557600"/>
            <a:ext cx="3672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9960" y="4487760"/>
            <a:ext cx="3672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25880" y="449748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11840" y="447048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33880" y="432756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0480" y="432756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30840" y="445932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8360" y="4444920"/>
            <a:ext cx="3672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65840" y="4459320"/>
            <a:ext cx="3780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46760" y="441648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92560" y="428292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29280" y="426888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2360" y="430524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1880" y="4246560"/>
            <a:ext cx="367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6880" y="437508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76880" y="422604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35400" y="4302000"/>
            <a:ext cx="381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62400" y="432288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02360" y="425916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03880" y="4248000"/>
            <a:ext cx="3492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48440" y="4210200"/>
            <a:ext cx="34920" cy="252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4480" bIns="-244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91280" y="418788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70360" y="4514760"/>
            <a:ext cx="381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1360" y="454032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130440" y="381492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41480" y="4019400"/>
            <a:ext cx="1040040" cy="1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279760" y="4186080"/>
            <a:ext cx="919080" cy="1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036760" y="4356000"/>
            <a:ext cx="101916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7619760" y="2917080"/>
            <a:ext cx="328680" cy="16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3760" y="36543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13320" y="3805200"/>
            <a:ext cx="152280" cy="819360"/>
          </a:xfrm>
          <a:custGeom>
            <a:avLst/>
            <a:gdLst/>
            <a:ahLst/>
            <a:rect l="l" t="t" r="r" b="b"/>
            <a:pathLst>
              <a:path w="112" h="593">
                <a:moveTo>
                  <a:pt x="112" y="1"/>
                </a:moveTo>
                <a:lnTo>
                  <a:pt x="0" y="0"/>
                </a:lnTo>
                <a:lnTo>
                  <a:pt x="1" y="5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3949560"/>
            <a:ext cx="139680" cy="668520"/>
          </a:xfrm>
          <a:custGeom>
            <a:avLst/>
            <a:gdLst/>
            <a:ahLst/>
            <a:rect l="l" t="t" r="r" b="b"/>
            <a:pathLst>
              <a:path w="112" h="593">
                <a:moveTo>
                  <a:pt x="112" y="1"/>
                </a:moveTo>
                <a:lnTo>
                  <a:pt x="0" y="0"/>
                </a:lnTo>
                <a:lnTo>
                  <a:pt x="1" y="5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81680" y="4479840"/>
            <a:ext cx="812520" cy="42840"/>
          </a:xfrm>
          <a:custGeom>
            <a:avLst/>
            <a:gdLst/>
            <a:ahLst/>
            <a:rect l="l" t="t" r="r" b="b"/>
            <a:pathLst>
              <a:path w="641" h="51">
                <a:moveTo>
                  <a:pt x="641" y="50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89520" y="4552920"/>
            <a:ext cx="538200" cy="47520"/>
          </a:xfrm>
          <a:custGeom>
            <a:avLst/>
            <a:gdLst/>
            <a:ahLst/>
            <a:rect l="l" t="t" r="r" b="b"/>
            <a:pathLst>
              <a:path w="427" h="51">
                <a:moveTo>
                  <a:pt x="427" y="48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91240" y="4597560"/>
            <a:ext cx="201600" cy="53640"/>
          </a:xfrm>
          <a:custGeom>
            <a:avLst/>
            <a:gdLst/>
            <a:ahLst/>
            <a:rect l="l" t="t" r="r" b="b"/>
            <a:pathLst>
              <a:path w="158" h="53">
                <a:moveTo>
                  <a:pt x="158" y="53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7960" y="3073320"/>
            <a:ext cx="13176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al trend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3672000"/>
            <a:ext cx="12049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83080" y="4479840"/>
            <a:ext cx="519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46680" y="4403880"/>
            <a:ext cx="6526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4880" y="4214880"/>
            <a:ext cx="519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61040" y="4075200"/>
            <a:ext cx="569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99080" y="3894120"/>
            <a:ext cx="5270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69000" y="4572000"/>
            <a:ext cx="7142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2040" y="3530520"/>
            <a:ext cx="56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9160" y="4032360"/>
            <a:ext cx="568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51200" y="3824280"/>
            <a:ext cx="5670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05480" y="3654360"/>
            <a:ext cx="56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1808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11640" y="4748040"/>
            <a:ext cx="514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2464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8200" y="4748040"/>
            <a:ext cx="517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22920" y="4748040"/>
            <a:ext cx="51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26200" y="4748040"/>
            <a:ext cx="515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1280" y="4748040"/>
            <a:ext cx="515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34200" y="4748040"/>
            <a:ext cx="51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3600" y="2201760"/>
            <a:ext cx="1328760" cy="7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503600" y="2266920"/>
            <a:ext cx="4149720" cy="24494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9116600">
            <a:off x="4784400" y="4041360"/>
            <a:ext cx="479520" cy="3016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43360" y="2028960"/>
            <a:ext cx="14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5 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40600" y="3652920"/>
            <a:ext cx="3780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88040" y="3686040"/>
            <a:ext cx="381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73760" y="365436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0800" y="1967040"/>
            <a:ext cx="10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21080" y="4708440"/>
            <a:ext cx="10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8877240" y="472392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398840" y="472392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900080"/>
            <a:ext cx="348588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In the early 1970s forecasters made projections of U.S energy use based on a century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0" y="17604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Discover Key Scenarios </a:t>
            </a:r>
            <a:br>
              <a:rPr sz="2800"/>
            </a:b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in Ensembles of Many Model Runs</a:t>
            </a:r>
            <a:endParaRPr b="1" i="1" lang="en-US" sz="28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717480" y="1368000"/>
            <a:ext cx="7881840" cy="19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 the model 200 times under different combinations of uncertain factors (e.g. temperature and precipitation trends and other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statistical algorithms to identify conditions that lead to 2005 UWMP to perform poorly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become key driving forces for “policy-relevant” scenario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7" name=""/>
          <p:cNvGrpSpPr/>
          <p:nvPr/>
        </p:nvGrpSpPr>
        <p:grpSpPr>
          <a:xfrm>
            <a:off x="1066680" y="3352680"/>
            <a:ext cx="4114800" cy="3011760"/>
            <a:chOff x="1066680" y="3352680"/>
            <a:chExt cx="4114800" cy="3011760"/>
          </a:xfrm>
        </p:grpSpPr>
        <p:pic>
          <p:nvPicPr>
            <p:cNvPr id="1668" name="" descr=""/>
            <p:cNvPicPr/>
            <p:nvPr/>
          </p:nvPicPr>
          <p:blipFill>
            <a:blip r:embed="rId1"/>
            <a:stretch/>
          </p:blipFill>
          <p:spPr>
            <a:xfrm>
              <a:off x="1066680" y="3352680"/>
              <a:ext cx="41148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 rot="16200000">
              <a:off x="-119520" y="4710960"/>
              <a:ext cx="26668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umber of run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2655720" y="3654360"/>
            <a:ext cx="5934240" cy="2406600"/>
            <a:chOff x="2655720" y="3654360"/>
            <a:chExt cx="5934240" cy="2406600"/>
          </a:xfrm>
        </p:grpSpPr>
        <p:sp>
          <p:nvSpPr>
            <p:cNvPr id="1671" name=""/>
            <p:cNvSpPr/>
            <p:nvPr/>
          </p:nvSpPr>
          <p:spPr>
            <a:xfrm>
              <a:off x="3557160" y="4143240"/>
              <a:ext cx="12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High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(120 run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029280" y="3654360"/>
              <a:ext cx="2560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ffff"/>
                  </a:solidFill>
                  <a:latin typeface="Arial"/>
                  <a:ea typeface="Arial Unicode MS"/>
                </a:rPr>
                <a:t>Statistical analysis suggests factors that contribute most to these undesirable out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4251240" y="4449600"/>
              <a:ext cx="1860480" cy="694080"/>
            </a:xfrm>
            <a:prstGeom prst="line">
              <a:avLst/>
            </a:prstGeom>
            <a:ln w="31680">
              <a:solidFill>
                <a:srgbClr val="00eb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2655720" y="3772080"/>
              <a:ext cx="0" cy="228888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4267080" y="6553080"/>
            <a:ext cx="184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1084320" y="6066000"/>
            <a:ext cx="44704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084320" y="5091120"/>
            <a:ext cx="44704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084320" y="4127400"/>
            <a:ext cx="4470480" cy="180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1063800" y="3141720"/>
            <a:ext cx="4470120" cy="3312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168560" y="3073320"/>
            <a:ext cx="144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241720" y="3073320"/>
            <a:ext cx="144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3325680" y="3073320"/>
            <a:ext cx="36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397400" y="3073320"/>
            <a:ext cx="144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472000" y="3073320"/>
            <a:ext cx="36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214280" y="4721400"/>
            <a:ext cx="5580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214280" y="4721400"/>
            <a:ext cx="5580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241800" y="493092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241800" y="493092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139760" y="558324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139760" y="558324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1770120" y="446868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770120" y="446868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557360" y="440856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1557360" y="440856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177920" y="479124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177920" y="479124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575160" y="436896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575160" y="436896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1697040" y="393552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697040" y="393552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139920" y="425772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139920" y="425772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148280" y="541332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148280" y="541332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352520" y="4448160"/>
            <a:ext cx="572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1352520" y="4448160"/>
            <a:ext cx="57240" cy="60480"/>
          </a:xfrm>
          <a:custGeom>
            <a:avLst/>
            <a:gdLst/>
            <a:ahLst/>
            <a:rect l="l" t="t" r="r" b="b"/>
            <a:pathLst>
              <a:path w="49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214280" y="5364000"/>
            <a:ext cx="55800" cy="5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214280" y="5364000"/>
            <a:ext cx="55800" cy="59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900080" y="49212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1900080" y="49212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789200" y="517212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789200" y="517212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946160" y="532296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946160" y="532296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158840" y="442908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158840" y="442908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2232000" y="4538520"/>
            <a:ext cx="55440" cy="5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232000" y="4538520"/>
            <a:ext cx="55440" cy="511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092400" y="5262480"/>
            <a:ext cx="572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092400" y="5262480"/>
            <a:ext cx="57240" cy="6048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909800" y="520236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909800" y="520236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139760" y="474012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139760" y="474012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036960" y="4248000"/>
            <a:ext cx="460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036960" y="4248000"/>
            <a:ext cx="46080" cy="6048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400040" y="461952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400040" y="4619520"/>
            <a:ext cx="55800" cy="6048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130480" y="4619520"/>
            <a:ext cx="4752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130480" y="4619520"/>
            <a:ext cx="47520" cy="493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409760" y="506088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409760" y="506088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139760" y="560376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139760" y="560376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639880" y="479124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639880" y="479124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400040" y="5030640"/>
            <a:ext cx="460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400040" y="5030640"/>
            <a:ext cx="46080" cy="60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400040" y="497052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400040" y="4970520"/>
            <a:ext cx="55800" cy="6012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279440" y="3686040"/>
            <a:ext cx="55800" cy="5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279440" y="3686040"/>
            <a:ext cx="55800" cy="59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093760" y="489096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093760" y="489096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057400" y="492120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057400" y="492120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4991040" y="509112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4991040" y="509112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204920" y="532296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204920" y="532296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454120" y="4761000"/>
            <a:ext cx="55800" cy="4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454120" y="4761000"/>
            <a:ext cx="55800" cy="489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139760" y="546408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139760" y="546408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297080" y="5121360"/>
            <a:ext cx="4752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297080" y="5121360"/>
            <a:ext cx="47520" cy="601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2214720" y="424800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214720" y="424800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825560" y="4016520"/>
            <a:ext cx="460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1825560" y="4016520"/>
            <a:ext cx="46080" cy="601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539720" y="48402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539720" y="48402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019320" y="522144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019320" y="522144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176640" y="5554800"/>
            <a:ext cx="554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176640" y="5554800"/>
            <a:ext cx="5544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474920" y="5524560"/>
            <a:ext cx="5544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474920" y="5524560"/>
            <a:ext cx="55440" cy="493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556000" y="4076640"/>
            <a:ext cx="5544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2556000" y="4076640"/>
            <a:ext cx="55440" cy="50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3"/>
                </a:lnTo>
                <a:lnTo>
                  <a:pt x="48" y="33"/>
                </a:lnTo>
                <a:lnTo>
                  <a:pt x="40" y="33"/>
                </a:lnTo>
                <a:lnTo>
                  <a:pt x="40" y="33"/>
                </a:lnTo>
                <a:lnTo>
                  <a:pt x="40" y="33"/>
                </a:lnTo>
                <a:lnTo>
                  <a:pt x="40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24" y="41"/>
                </a:lnTo>
                <a:lnTo>
                  <a:pt x="24" y="41"/>
                </a:lnTo>
                <a:lnTo>
                  <a:pt x="24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8" y="41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0" y="33"/>
                </a:lnTo>
                <a:lnTo>
                  <a:pt x="0" y="33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2325600" y="478008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2325600" y="478008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306520" y="4248000"/>
            <a:ext cx="460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06520" y="4248000"/>
            <a:ext cx="46080" cy="6048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854360" y="4608360"/>
            <a:ext cx="55440" cy="5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854360" y="4608360"/>
            <a:ext cx="55440" cy="511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2038320" y="4578480"/>
            <a:ext cx="460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2038320" y="4578480"/>
            <a:ext cx="46080" cy="601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603440" y="496080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603440" y="496080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056040" y="471024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056040" y="471024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2705040" y="5232240"/>
            <a:ext cx="540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705040" y="5232240"/>
            <a:ext cx="54000" cy="6048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593800" y="531324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593800" y="531324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2158920" y="4489560"/>
            <a:ext cx="5580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2158920" y="4489560"/>
            <a:ext cx="5580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835280" y="4761000"/>
            <a:ext cx="55440" cy="4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835280" y="4761000"/>
            <a:ext cx="55440" cy="489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695760" y="5303880"/>
            <a:ext cx="5400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695760" y="5303880"/>
            <a:ext cx="54000" cy="493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335320" y="5202360"/>
            <a:ext cx="540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2335320" y="5202360"/>
            <a:ext cx="540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816200" y="430848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816200" y="430848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917720" y="518148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917720" y="518148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529000" y="5111640"/>
            <a:ext cx="5544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529000" y="5111640"/>
            <a:ext cx="55440" cy="493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2657520" y="4921200"/>
            <a:ext cx="4752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657520" y="4921200"/>
            <a:ext cx="47520" cy="6048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2732040" y="5121360"/>
            <a:ext cx="460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2732040" y="5121360"/>
            <a:ext cx="46080" cy="507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852640" y="573408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2852640" y="573408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1576440" y="4489560"/>
            <a:ext cx="554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576440" y="4489560"/>
            <a:ext cx="5544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000680" y="5303880"/>
            <a:ext cx="5544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000680" y="5303880"/>
            <a:ext cx="55440" cy="493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335240" y="4740120"/>
            <a:ext cx="4572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335240" y="4740120"/>
            <a:ext cx="45720" cy="6048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325520" y="4056120"/>
            <a:ext cx="5544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325520" y="4056120"/>
            <a:ext cx="55440" cy="6192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139760" y="473076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139760" y="473076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306520" y="538308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306520" y="538308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139760" y="542304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139760" y="542304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585800" y="4459320"/>
            <a:ext cx="5580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585800" y="4459320"/>
            <a:ext cx="5580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501920" y="453852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501920" y="453852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890720" y="45291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890720" y="452916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400040" y="4287960"/>
            <a:ext cx="460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400040" y="4287960"/>
            <a:ext cx="46080" cy="601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139840" y="4930920"/>
            <a:ext cx="460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2139840" y="4930920"/>
            <a:ext cx="46080" cy="601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965240" y="5000760"/>
            <a:ext cx="540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965240" y="5000760"/>
            <a:ext cx="540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539720" y="49608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539720" y="49608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484280" y="5241960"/>
            <a:ext cx="5544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484280" y="5241960"/>
            <a:ext cx="55440" cy="6192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2139840" y="41274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2139840" y="41274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2112840" y="4529160"/>
            <a:ext cx="5580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2112840" y="4529160"/>
            <a:ext cx="55800" cy="493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316160" y="471024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316160" y="471024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066760" y="520236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2066760" y="520236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39760" y="45990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39760" y="45990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232000" y="554364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2232000" y="554364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409760" y="4751280"/>
            <a:ext cx="554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409760" y="4751280"/>
            <a:ext cx="5544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825560" y="452916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825560" y="452916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316160" y="48513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16160" y="485136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001960" y="47307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001960" y="473076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14280" y="4489560"/>
            <a:ext cx="5580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14280" y="4489560"/>
            <a:ext cx="5580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419120" y="49212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419120" y="49212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529000" y="484020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529000" y="484020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965240" y="5251320"/>
            <a:ext cx="4608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1139760" y="3755880"/>
            <a:ext cx="3349440" cy="1857240"/>
            <a:chOff x="1139760" y="3755880"/>
            <a:chExt cx="3349440" cy="1857240"/>
          </a:xfrm>
        </p:grpSpPr>
        <p:sp>
          <p:nvSpPr>
            <p:cNvPr id="1865" name=""/>
            <p:cNvSpPr/>
            <p:nvPr/>
          </p:nvSpPr>
          <p:spPr>
            <a:xfrm>
              <a:off x="1963800" y="5251320"/>
              <a:ext cx="46080" cy="6120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121120" y="43884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121120" y="43884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65320" y="50410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065320" y="50410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963800" y="4860360"/>
              <a:ext cx="46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63800" y="4860360"/>
              <a:ext cx="46080" cy="49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019240" y="4568760"/>
              <a:ext cx="46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019240" y="4568760"/>
              <a:ext cx="46080" cy="597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492200" y="498060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92200" y="498060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157840" y="4830480"/>
              <a:ext cx="5544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157840" y="4830480"/>
              <a:ext cx="55440" cy="50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398320" y="446832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398320" y="446832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768040" y="493056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768040" y="493056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121120" y="492084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121120" y="492084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194920" y="473004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194920" y="473004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564640" y="447840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564640" y="447840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306080" y="442836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306080" y="442836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39760" y="515124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139760" y="515124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269000" y="5261400"/>
              <a:ext cx="5544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9000" y="5261400"/>
              <a:ext cx="55440" cy="612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426040" y="51714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426040" y="51714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806840" y="509076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806840" y="509076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537280" y="494064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537280" y="494064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306160" y="5031000"/>
              <a:ext cx="46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306160" y="5031000"/>
              <a:ext cx="46080" cy="597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714320" y="4588560"/>
              <a:ext cx="460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714320" y="4588560"/>
              <a:ext cx="46080" cy="50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342880" y="455868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42880" y="455868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213560" y="44884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13560" y="44884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110400" y="5342760"/>
              <a:ext cx="5652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110400" y="5342760"/>
              <a:ext cx="56520" cy="597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418040" y="46188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418040" y="46188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527640" y="500076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27640" y="500076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195200" y="54630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195200" y="54630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056320" y="513144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056320" y="513144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010240" y="496080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010240" y="496080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528920" y="434844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528920" y="434844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241280" y="477036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241280" y="477036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592440" y="488088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592440" y="488088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601720" y="454860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601720" y="454860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869920" y="417780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869920" y="417780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453480" y="537300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53480" y="537300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427400" y="534276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427400" y="534276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148840" y="41878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148840" y="41878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427400" y="477036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427400" y="477036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39760" y="44082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39760" y="44082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538640" y="555336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38640" y="555336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658520" y="4428360"/>
              <a:ext cx="46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658520" y="4428360"/>
              <a:ext cx="46080" cy="597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703600" y="5101200"/>
              <a:ext cx="55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703600" y="5101200"/>
              <a:ext cx="5508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925360" y="4368240"/>
              <a:ext cx="46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925360" y="4368240"/>
              <a:ext cx="46080" cy="49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250360" y="484056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250360" y="484056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36400" y="51912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36400" y="51912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973160" y="4086360"/>
              <a:ext cx="4608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73160" y="4086360"/>
              <a:ext cx="46080" cy="6120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723320" y="54432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723320" y="54432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361320" y="503100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361320" y="503100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648160" y="535284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648160" y="535284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39760" y="473004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39760" y="473004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769400" y="5251320"/>
              <a:ext cx="5544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769400" y="5251320"/>
              <a:ext cx="55440" cy="612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675600" y="545328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675600" y="545328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39760" y="533304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39760" y="533304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361520" y="5131440"/>
              <a:ext cx="5652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361520" y="5131440"/>
              <a:ext cx="56520" cy="597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510920" y="414792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10920" y="414792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823840" y="4086360"/>
              <a:ext cx="4608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823840" y="4086360"/>
              <a:ext cx="46080" cy="5112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352520" y="4438440"/>
              <a:ext cx="5652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352520" y="4438440"/>
              <a:ext cx="56520" cy="601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3320" y="443844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723320" y="443844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045320" y="53128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045320" y="53128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510920" y="423792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510920" y="423792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704960" y="4920840"/>
              <a:ext cx="46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704960" y="4920840"/>
              <a:ext cx="46080" cy="597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427400" y="51912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427400" y="51912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139760" y="4790520"/>
              <a:ext cx="5544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139760" y="4790520"/>
              <a:ext cx="55440" cy="50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324800" y="4368240"/>
              <a:ext cx="55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324800" y="4368240"/>
              <a:ext cx="5508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185840" y="4840560"/>
              <a:ext cx="55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185840" y="4840560"/>
              <a:ext cx="5508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409040" y="520128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409040" y="520128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416760" y="542304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416760" y="542304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139760" y="50310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139760" y="50310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260000" y="475020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260000" y="475020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287440" y="508104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287440" y="508104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074680" y="4689000"/>
              <a:ext cx="5508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74680" y="4689000"/>
              <a:ext cx="55080" cy="612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8" y="9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241360" y="487044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241360" y="487044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973160" y="532260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973160" y="532260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333800" y="50508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333800" y="50508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046960" y="476028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046960" y="476028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472480" y="5241600"/>
              <a:ext cx="5508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472480" y="5241600"/>
              <a:ext cx="55080" cy="612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322880" y="5543280"/>
              <a:ext cx="460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322880" y="5543280"/>
              <a:ext cx="46080" cy="50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241080" y="4528800"/>
              <a:ext cx="46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241080" y="4528800"/>
              <a:ext cx="46080" cy="49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823840" y="513144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823840" y="513144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675880" y="4538520"/>
              <a:ext cx="46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675880" y="4538520"/>
              <a:ext cx="46080" cy="597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260000" y="434844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260000" y="434844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453760" y="459864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453760" y="459864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139760" y="50310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139760" y="50310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723320" y="49104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723320" y="49104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823840" y="5010840"/>
              <a:ext cx="5544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823840" y="5010840"/>
              <a:ext cx="55440" cy="50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936080" y="446832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936080" y="446832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148840" y="44884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148840" y="44884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907000" y="458856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907000" y="458856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60560" y="550332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860560" y="550332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342880" y="4016160"/>
              <a:ext cx="55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342880" y="4016160"/>
              <a:ext cx="5508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433760" y="54432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433760" y="54432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04200" y="452880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204200" y="452880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194920" y="498060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194920" y="498060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333800" y="47602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333800" y="47602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046960" y="375588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046960" y="375588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296720" y="506124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296720" y="506124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379880" y="5373000"/>
              <a:ext cx="4716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379880" y="5373000"/>
              <a:ext cx="47160" cy="597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482840" y="43884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482840" y="43884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110400" y="4880880"/>
              <a:ext cx="5652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110400" y="4880880"/>
              <a:ext cx="56520" cy="597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760400" y="507096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760400" y="507096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417040" y="47502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417040" y="47502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139480" y="4096440"/>
              <a:ext cx="5508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5" name=""/>
          <p:cNvSpPr/>
          <p:nvPr/>
        </p:nvSpPr>
        <p:spPr>
          <a:xfrm>
            <a:off x="2139840" y="4095720"/>
            <a:ext cx="55800" cy="6192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25"/>
                </a:lnTo>
                <a:lnTo>
                  <a:pt x="48" y="25"/>
                </a:lnTo>
                <a:lnTo>
                  <a:pt x="48" y="25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603440" y="500076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603440" y="500076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44640" y="492120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844640" y="492120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325600" y="444816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325600" y="444816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3898800" y="5102280"/>
            <a:ext cx="5580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898800" y="5102280"/>
            <a:ext cx="5580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521000" y="486108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1521000" y="486108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685960" y="418788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685960" y="418788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27120" y="487044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427120" y="487044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1177920" y="4268880"/>
            <a:ext cx="46080" cy="4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1177920" y="4268880"/>
            <a:ext cx="46080" cy="489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2251080" y="54435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251080" y="544356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1816200" y="4809960"/>
            <a:ext cx="460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1816200" y="4809960"/>
            <a:ext cx="46080" cy="6048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1084320" y="3073320"/>
            <a:ext cx="144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1030320" y="6056280"/>
            <a:ext cx="5400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1038240" y="5091120"/>
            <a:ext cx="4608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1030320" y="4118040"/>
            <a:ext cx="540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038240" y="3152880"/>
            <a:ext cx="4608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1030320" y="3152880"/>
            <a:ext cx="540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1084320" y="6156360"/>
            <a:ext cx="44704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1168560" y="6156360"/>
            <a:ext cx="1440" cy="507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168560" y="6146640"/>
            <a:ext cx="1440" cy="60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241720" y="6156360"/>
            <a:ext cx="1440" cy="507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3325680" y="6156360"/>
            <a:ext cx="360" cy="507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4397400" y="6156360"/>
            <a:ext cx="1440" cy="507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5462640" y="6146640"/>
            <a:ext cx="1440" cy="60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101240" y="6246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2117160" y="62182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3209040" y="6226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4288680" y="6226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5330160" y="6235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221200" y="6478560"/>
            <a:ext cx="2399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V shortage cost ($ bill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761400" y="59482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761400" y="4978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742320" y="40291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759600" y="30067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 rot="16200000">
            <a:off x="-904680" y="4465440"/>
            <a:ext cx="2973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V supply cost ($ bill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111320" y="4568760"/>
            <a:ext cx="129960" cy="1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108240" y="4218120"/>
            <a:ext cx="130320" cy="12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2283840" y="2895480"/>
            <a:ext cx="1546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urrent IEUA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1114560" y="3616200"/>
            <a:ext cx="1644480" cy="250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157400" y="3203640"/>
            <a:ext cx="4317840" cy="2927160"/>
          </a:xfrm>
          <a:custGeom>
            <a:avLst/>
            <a:gdLst/>
            <a:ahLst/>
            <a:rect l="l" t="t" r="r" b="b"/>
            <a:pathLst>
              <a:path w="3800" h="2464">
                <a:moveTo>
                  <a:pt x="0" y="0"/>
                </a:moveTo>
                <a:lnTo>
                  <a:pt x="0" y="384"/>
                </a:lnTo>
                <a:lnTo>
                  <a:pt x="1408" y="2464"/>
                </a:lnTo>
                <a:lnTo>
                  <a:pt x="3800" y="2464"/>
                </a:lnTo>
                <a:lnTo>
                  <a:pt x="37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0" y="180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Statistical Analysis Suggests Key Factor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hat Create Vulnerabilities for Existing Pla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2116" name=""/>
          <p:cNvGraphicFramePr/>
          <p:nvPr/>
        </p:nvGraphicFramePr>
        <p:xfrm>
          <a:off x="3962520" y="1523880"/>
          <a:ext cx="4800600" cy="3011760"/>
        </p:xfrm>
        <a:graphic>
          <a:graphicData uri="http://schemas.openxmlformats.org/drawingml/2006/table">
            <a:tbl>
              <a:tblPr/>
              <a:tblGrid>
                <a:gridCol w="1562040"/>
                <a:gridCol w="3238560"/>
              </a:tblGrid>
              <a:tr h="12276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751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c2d0"/>
                          </a:solidFill>
                          <a:latin typeface="Arial"/>
                        </a:rPr>
                        <a:t>Future temper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876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8000"/>
                          </a:solidFill>
                          <a:latin typeface="Arial"/>
                        </a:rPr>
                        <a:t>Future precipi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876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8000"/>
                          </a:solidFill>
                          <a:latin typeface="Arial"/>
                        </a:rPr>
                        <a:t>Changes in groundwater proce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69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of Management Strateg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876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8000"/>
                          </a:solidFill>
                          <a:latin typeface="Arial"/>
                        </a:rPr>
                        <a:t>Development of aggressive waste-water recycling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751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c2d0"/>
                          </a:solidFill>
                          <a:latin typeface="Arial"/>
                        </a:rPr>
                        <a:t>Implementation of groundwater replenish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3044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 of Future Supplies and Management Activiti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751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c2d0"/>
                          </a:solidFill>
                          <a:latin typeface="Arial"/>
                        </a:rPr>
                        <a:t>Imported suppl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751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c2d0"/>
                          </a:solidFill>
                          <a:latin typeface="Arial"/>
                        </a:rPr>
                        <a:t>Water use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117" name=""/>
          <p:cNvSpPr/>
          <p:nvPr/>
        </p:nvSpPr>
        <p:spPr>
          <a:xfrm>
            <a:off x="5943600" y="4876920"/>
            <a:ext cx="26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three factors explain 70% of vulnerabilities of IEUA’s current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487692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-76320" y="15228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esponse Options May Help IEUA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ddress These Vulnerabiliti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pic>
        <p:nvPicPr>
          <p:cNvPr id="2120" name="" descr=""/>
          <p:cNvPicPr/>
          <p:nvPr/>
        </p:nvPicPr>
        <p:blipFill>
          <a:blip r:embed="rId1"/>
          <a:stretch/>
        </p:blipFill>
        <p:spPr>
          <a:xfrm>
            <a:off x="838080" y="1673280"/>
            <a:ext cx="7543800" cy="4248000"/>
          </a:xfrm>
          <a:prstGeom prst="rect">
            <a:avLst/>
          </a:prstGeom>
          <a:ln w="0">
            <a:noFill/>
          </a:ln>
        </p:spPr>
      </p:pic>
      <p:sp>
        <p:nvSpPr>
          <p:cNvPr id="2121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Can Quantify Some, But Not All, Of These Costs</a:t>
            </a:r>
            <a:endParaRPr b="1" i="1" lang="en-US" sz="28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943360" y="6140520"/>
            <a:ext cx="31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7160" indent="-227160" algn="ctr">
              <a:spcBef>
                <a:spcPts val="67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Arial Unicode MS"/>
              </a:rPr>
              <a:t>Costs increase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658800" y="1496880"/>
            <a:ext cx="7813800" cy="4405320"/>
          </a:xfrm>
          <a:prstGeom prst="rect">
            <a:avLst/>
          </a:prstGeom>
          <a:ln w="0">
            <a:noFill/>
          </a:ln>
        </p:spPr>
      </p:pic>
      <p:sp>
        <p:nvSpPr>
          <p:cNvPr id="2125" name=""/>
          <p:cNvSpPr/>
          <p:nvPr/>
        </p:nvSpPr>
        <p:spPr>
          <a:xfrm>
            <a:off x="402588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4160" y="177480"/>
            <a:ext cx="88898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Should IEUA Act Now or Later to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educe Potential Climate Vulnerabilities?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355680" y="3268080"/>
            <a:ext cx="1592280" cy="11408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t now to aug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05 Pl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1877760" y="1863720"/>
            <a:ext cx="6699600" cy="1974960"/>
            <a:chOff x="1877760" y="1863720"/>
            <a:chExt cx="6699600" cy="1974960"/>
          </a:xfrm>
        </p:grpSpPr>
        <p:cxnSp>
          <p:nvCxnSpPr>
            <p:cNvPr id="2129" name=""/>
            <p:cNvCxnSpPr>
              <a:stCxn id="2127" idx="3"/>
              <a:endCxn id="2130" idx="1"/>
            </p:cNvCxnSpPr>
            <p:nvPr/>
          </p:nvCxnSpPr>
          <p:spPr>
            <a:xfrm flipV="1">
              <a:off x="1949400" y="2871360"/>
              <a:ext cx="882000" cy="967680"/>
            </a:xfrm>
            <a:prstGeom prst="straightConnector1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</p:cxnSp>
        <p:grpSp>
          <p:nvGrpSpPr>
            <p:cNvPr id="2131" name=""/>
            <p:cNvGrpSpPr/>
            <p:nvPr/>
          </p:nvGrpSpPr>
          <p:grpSpPr>
            <a:xfrm>
              <a:off x="1877760" y="1863720"/>
              <a:ext cx="6699600" cy="1696680"/>
              <a:chOff x="1877760" y="1863720"/>
              <a:chExt cx="6699600" cy="1696680"/>
            </a:xfrm>
          </p:grpSpPr>
          <p:sp>
            <p:nvSpPr>
              <p:cNvPr id="2132" name=""/>
              <p:cNvSpPr/>
              <p:nvPr/>
            </p:nvSpPr>
            <p:spPr>
              <a:xfrm>
                <a:off x="4959360" y="2857680"/>
                <a:ext cx="3618000" cy="14040"/>
              </a:xfrm>
              <a:prstGeom prst="line">
                <a:avLst/>
              </a:prstGeom>
              <a:ln w="50760">
                <a:solidFill>
                  <a:srgbClr val="ff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877760" y="2797200"/>
                <a:ext cx="34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 Unicode MS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830680" y="2183400"/>
                <a:ext cx="2119320" cy="1377000"/>
              </a:xfrm>
              <a:prstGeom prst="octagon">
                <a:avLst>
                  <a:gd name="adj" fmla="val 29287"/>
                </a:avLst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Monitor, and take additional action if supplies drop too lo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908800" y="1863720"/>
                <a:ext cx="2187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  <a:ea typeface="Arial Unicode MS"/>
                  </a:rPr>
                  <a:t>In 2015, 2020, 2025, …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499000" y="2308320"/>
                <a:ext cx="6476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36" name=""/>
          <p:cNvGrpSpPr/>
          <p:nvPr/>
        </p:nvGrpSpPr>
        <p:grpSpPr>
          <a:xfrm>
            <a:off x="1939680" y="3838320"/>
            <a:ext cx="6867720" cy="1867680"/>
            <a:chOff x="1939680" y="3838320"/>
            <a:chExt cx="6867720" cy="1867680"/>
          </a:xfrm>
        </p:grpSpPr>
        <p:grpSp>
          <p:nvGrpSpPr>
            <p:cNvPr id="2137" name=""/>
            <p:cNvGrpSpPr/>
            <p:nvPr/>
          </p:nvGrpSpPr>
          <p:grpSpPr>
            <a:xfrm>
              <a:off x="1939680" y="3838320"/>
              <a:ext cx="2608560" cy="1848240"/>
              <a:chOff x="1939680" y="3838320"/>
              <a:chExt cx="2608560" cy="1848240"/>
            </a:xfrm>
          </p:grpSpPr>
          <p:sp>
            <p:nvSpPr>
              <p:cNvPr id="2138" name=""/>
              <p:cNvSpPr/>
              <p:nvPr/>
            </p:nvSpPr>
            <p:spPr>
              <a:xfrm>
                <a:off x="1939680" y="4603680"/>
                <a:ext cx="457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 Unicode MS"/>
                  </a:rPr>
                  <a:t>Y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9" name=""/>
              <p:cNvCxnSpPr>
                <a:stCxn id="2127" idx="3"/>
                <a:endCxn id="2140" idx="1"/>
              </p:cNvCxnSpPr>
              <p:nvPr/>
            </p:nvCxnSpPr>
            <p:spPr>
              <a:xfrm>
                <a:off x="1949400" y="3838320"/>
                <a:ext cx="891360" cy="1205640"/>
              </a:xfrm>
              <a:prstGeom prst="straightConnector1">
                <a:avLst/>
              </a:prstGeom>
              <a:ln w="50760">
                <a:solidFill>
                  <a:srgbClr val="ffff66"/>
                </a:solidFill>
                <a:miter/>
                <a:tailEnd len="med" type="triangle" w="med"/>
              </a:ln>
            </p:spPr>
          </p:cxnSp>
          <p:sp>
            <p:nvSpPr>
              <p:cNvPr id="2140" name=""/>
              <p:cNvSpPr/>
              <p:nvPr/>
            </p:nvSpPr>
            <p:spPr>
              <a:xfrm>
                <a:off x="2840040" y="4400640"/>
                <a:ext cx="1708200" cy="12859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Implement additional efficiency, recycling, and replenish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1" name=""/>
            <p:cNvSpPr/>
            <p:nvPr/>
          </p:nvSpPr>
          <p:spPr>
            <a:xfrm>
              <a:off x="7058160" y="5038560"/>
              <a:ext cx="1749240" cy="972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2" name=""/>
            <p:cNvCxnSpPr>
              <a:stCxn id="2140" idx="3"/>
            </p:cNvCxnSpPr>
            <p:nvPr/>
          </p:nvCxnSpPr>
          <p:spPr>
            <a:xfrm>
              <a:off x="4547880" y="5043240"/>
              <a:ext cx="579960" cy="1080"/>
            </a:xfrm>
            <a:prstGeom prst="straightConnector1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</p:cxnSp>
        <p:sp>
          <p:nvSpPr>
            <p:cNvPr id="2143" name=""/>
            <p:cNvSpPr/>
            <p:nvPr/>
          </p:nvSpPr>
          <p:spPr>
            <a:xfrm>
              <a:off x="5118840" y="3956040"/>
              <a:ext cx="21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In 2015, 2020, 2025, …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078520" y="4329000"/>
              <a:ext cx="2119320" cy="137700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onitor, and take additional action if supplies drop too 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mpare Nine Strategies Over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200 Scenarios Reflecting Key Uncertainti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4484520" y="1676520"/>
            <a:ext cx="3905280" cy="1440"/>
          </a:xfrm>
          <a:custGeom>
            <a:avLst/>
            <a:gdLst/>
            <a:ahLst/>
            <a:rect l="l" t="t" r="r" b="b"/>
            <a:pathLst>
              <a:path w="2969" h="0">
                <a:moveTo>
                  <a:pt x="0" y="0"/>
                </a:moveTo>
                <a:lnTo>
                  <a:pt x="29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4484520" y="5394240"/>
            <a:ext cx="3905280" cy="1800"/>
          </a:xfrm>
          <a:custGeom>
            <a:avLst/>
            <a:gdLst/>
            <a:ahLst/>
            <a:rect l="l" t="t" r="r" b="b"/>
            <a:pathLst>
              <a:path w="2969" h="0">
                <a:moveTo>
                  <a:pt x="2969" y="0"/>
                </a:moveTo>
                <a:lnTo>
                  <a:pt x="0" y="0"/>
                </a:lnTo>
                <a:lnTo>
                  <a:pt x="2969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4484520" y="1676520"/>
            <a:ext cx="1800" cy="3717720"/>
          </a:xfrm>
          <a:custGeom>
            <a:avLst/>
            <a:gdLst/>
            <a:ahLst/>
            <a:rect l="l" t="t" r="r" b="b"/>
            <a:pathLst>
              <a:path w="0" h="1958">
                <a:moveTo>
                  <a:pt x="0" y="1958"/>
                </a:moveTo>
                <a:lnTo>
                  <a:pt x="0" y="0"/>
                </a:lnTo>
                <a:lnTo>
                  <a:pt x="0" y="1958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484520" y="5394240"/>
            <a:ext cx="39052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4484520" y="1676520"/>
            <a:ext cx="1800" cy="3717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4484520" y="1795320"/>
            <a:ext cx="3775320" cy="169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4484520" y="5394240"/>
            <a:ext cx="3905280" cy="1800"/>
          </a:xfrm>
          <a:custGeom>
            <a:avLst/>
            <a:gdLst/>
            <a:ahLst/>
            <a:rect l="l" t="t" r="r" b="b"/>
            <a:pathLst>
              <a:path w="2969" h="0">
                <a:moveTo>
                  <a:pt x="0" y="0"/>
                </a:moveTo>
                <a:lnTo>
                  <a:pt x="296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4484520" y="1795320"/>
            <a:ext cx="3775320" cy="169920"/>
          </a:xfrm>
          <a:custGeom>
            <a:avLst/>
            <a:gdLst/>
            <a:ahLst/>
            <a:rect l="l" t="t" r="r" b="b"/>
            <a:pathLst>
              <a:path w="2870" h="89">
                <a:moveTo>
                  <a:pt x="0" y="0"/>
                </a:moveTo>
                <a:lnTo>
                  <a:pt x="2870" y="0"/>
                </a:lnTo>
                <a:lnTo>
                  <a:pt x="2870" y="89"/>
                </a:lnTo>
                <a:lnTo>
                  <a:pt x="0" y="8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4484520" y="5394240"/>
            <a:ext cx="39052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448452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13540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8452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13540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78628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643716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8628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43716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708804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773892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708804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773892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4484520" y="1676520"/>
            <a:ext cx="1800" cy="3717720"/>
          </a:xfrm>
          <a:custGeom>
            <a:avLst/>
            <a:gdLst/>
            <a:ahLst/>
            <a:rect l="l" t="t" r="r" b="b"/>
            <a:pathLst>
              <a:path w="0" h="1958">
                <a:moveTo>
                  <a:pt x="0" y="0"/>
                </a:moveTo>
                <a:lnTo>
                  <a:pt x="0" y="195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4484520" y="1676160"/>
            <a:ext cx="1800" cy="3717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4437000" y="5394240"/>
            <a:ext cx="4752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437000" y="4983120"/>
            <a:ext cx="47520" cy="32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 flipH="1">
            <a:off x="4437000" y="5394240"/>
            <a:ext cx="47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4437000" y="4983120"/>
            <a:ext cx="475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4437000" y="4573440"/>
            <a:ext cx="4752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4437000" y="414828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4437000" y="4573440"/>
            <a:ext cx="47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4437000" y="414828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4437000" y="373860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4437000" y="333072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flipH="1">
            <a:off x="4437000" y="373860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4437000" y="333072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4437000" y="2919240"/>
            <a:ext cx="47520" cy="32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4437000" y="2494080"/>
            <a:ext cx="47520" cy="288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437000" y="2919240"/>
            <a:ext cx="475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4437000" y="2494080"/>
            <a:ext cx="47520" cy="2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4437000" y="208440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4437000" y="167652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flipH="1">
            <a:off x="4437000" y="208440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H="1">
            <a:off x="4437000" y="167652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4345200" y="545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585400" y="5457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6912720" y="5457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215760" y="5457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7479720" y="5457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8111520" y="5457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955040" y="5457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7242120" y="4762440"/>
            <a:ext cx="158760" cy="1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7410600" y="466884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ic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7242120" y="5035680"/>
            <a:ext cx="158760" cy="168120"/>
          </a:xfrm>
          <a:prstGeom prst="rect">
            <a:avLst/>
          </a:prstGeom>
          <a:solidFill>
            <a:srgbClr val="569fd2"/>
          </a:solidFill>
          <a:ln w="9360">
            <a:solidFill>
              <a:srgbClr val="569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7402680" y="49766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date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8380440" y="5394240"/>
            <a:ext cx="144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4457880" y="5788080"/>
            <a:ext cx="46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mber of Scenarios (PV Costs &gt; $3.75 bill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2437200" y="1752480"/>
            <a:ext cx="202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fore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1303200" y="2147760"/>
            <a:ext cx="3218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DYY and recyc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617120" y="2587680"/>
            <a:ext cx="284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replenish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1976400" y="3008160"/>
            <a:ext cx="254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55760" y="3825720"/>
            <a:ext cx="40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replenishment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2039400" y="4229280"/>
            <a:ext cx="24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effici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820800" y="4648320"/>
            <a:ext cx="364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efficiency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28440" y="3403440"/>
            <a:ext cx="443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DYY and recycling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376640" y="5048280"/>
            <a:ext cx="314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all enhance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Just Allowing IEUA’s Current Plan to Update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educes Vulnerability Substantially 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4345560" y="1676520"/>
            <a:ext cx="4802040" cy="4449240"/>
            <a:chOff x="4345560" y="1676520"/>
            <a:chExt cx="4802040" cy="4449240"/>
          </a:xfrm>
        </p:grpSpPr>
        <p:sp>
          <p:nvSpPr>
            <p:cNvPr id="2215" name=""/>
            <p:cNvSpPr/>
            <p:nvPr/>
          </p:nvSpPr>
          <p:spPr>
            <a:xfrm>
              <a:off x="4484160" y="1676520"/>
              <a:ext cx="3905640" cy="1800"/>
            </a:xfrm>
            <a:custGeom>
              <a:avLst/>
              <a:gdLst/>
              <a:ahLst/>
              <a:rect l="l" t="t" r="r" b="b"/>
              <a:pathLst>
                <a:path w="2969" h="0">
                  <a:moveTo>
                    <a:pt x="0" y="0"/>
                  </a:moveTo>
                  <a:lnTo>
                    <a:pt x="29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484160" y="5394600"/>
              <a:ext cx="3905640" cy="1440"/>
            </a:xfrm>
            <a:custGeom>
              <a:avLst/>
              <a:gdLst/>
              <a:ahLst/>
              <a:rect l="l" t="t" r="r" b="b"/>
              <a:pathLst>
                <a:path w="2969" h="0">
                  <a:moveTo>
                    <a:pt x="2969" y="0"/>
                  </a:moveTo>
                  <a:lnTo>
                    <a:pt x="0" y="0"/>
                  </a:lnTo>
                  <a:lnTo>
                    <a:pt x="2969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484160" y="1676520"/>
              <a:ext cx="1080" cy="3718080"/>
            </a:xfrm>
            <a:custGeom>
              <a:avLst/>
              <a:gdLst/>
              <a:ahLst/>
              <a:rect l="l" t="t" r="r" b="b"/>
              <a:pathLst>
                <a:path w="0" h="1958">
                  <a:moveTo>
                    <a:pt x="0" y="1958"/>
                  </a:moveTo>
                  <a:lnTo>
                    <a:pt x="0" y="0"/>
                  </a:lnTo>
                  <a:lnTo>
                    <a:pt x="0" y="1958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484160" y="5394600"/>
              <a:ext cx="390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484160" y="1676520"/>
              <a:ext cx="1080" cy="371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484160" y="3040200"/>
              <a:ext cx="1041120" cy="169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484160" y="3040200"/>
              <a:ext cx="1041120" cy="169920"/>
            </a:xfrm>
            <a:custGeom>
              <a:avLst/>
              <a:gdLst/>
              <a:ahLst/>
              <a:rect l="l" t="t" r="r" b="b"/>
              <a:pathLst>
                <a:path w="792" h="90">
                  <a:moveTo>
                    <a:pt x="0" y="0"/>
                  </a:moveTo>
                  <a:lnTo>
                    <a:pt x="792" y="0"/>
                  </a:lnTo>
                  <a:lnTo>
                    <a:pt x="792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fd2"/>
            </a:solidFill>
            <a:ln w="14400">
              <a:solidFill>
                <a:srgbClr val="569f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484160" y="1795680"/>
              <a:ext cx="3774960" cy="169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484160" y="5394600"/>
              <a:ext cx="3905640" cy="1440"/>
            </a:xfrm>
            <a:custGeom>
              <a:avLst/>
              <a:gdLst/>
              <a:ahLst/>
              <a:rect l="l" t="t" r="r" b="b"/>
              <a:pathLst>
                <a:path w="2969" h="0">
                  <a:moveTo>
                    <a:pt x="0" y="0"/>
                  </a:moveTo>
                  <a:lnTo>
                    <a:pt x="29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484160" y="1795680"/>
              <a:ext cx="3774960" cy="169920"/>
            </a:xfrm>
            <a:custGeom>
              <a:avLst/>
              <a:gdLst/>
              <a:ahLst/>
              <a:rect l="l" t="t" r="r" b="b"/>
              <a:pathLst>
                <a:path w="2870" h="89">
                  <a:moveTo>
                    <a:pt x="0" y="0"/>
                  </a:moveTo>
                  <a:lnTo>
                    <a:pt x="2870" y="0"/>
                  </a:lnTo>
                  <a:lnTo>
                    <a:pt x="2870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4483800" y="5394600"/>
              <a:ext cx="390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484160" y="5394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135760" y="5394600"/>
              <a:ext cx="144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484160" y="5394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135760" y="5394600"/>
              <a:ext cx="144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785920" y="5394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437160" y="5394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785920" y="5394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437160" y="5394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087320" y="5394600"/>
              <a:ext cx="144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738920" y="5394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87320" y="5394600"/>
              <a:ext cx="144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738920" y="5394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484160" y="1676520"/>
              <a:ext cx="1080" cy="3718080"/>
            </a:xfrm>
            <a:custGeom>
              <a:avLst/>
              <a:gdLst/>
              <a:ahLst/>
              <a:rect l="l" t="t" r="r" b="b"/>
              <a:pathLst>
                <a:path w="0" h="1958">
                  <a:moveTo>
                    <a:pt x="0" y="0"/>
                  </a:moveTo>
                  <a:lnTo>
                    <a:pt x="0" y="19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4484160" y="1676520"/>
              <a:ext cx="1080" cy="371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437360" y="5394600"/>
              <a:ext cx="4680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437360" y="4983480"/>
              <a:ext cx="46800" cy="32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4437360" y="5394600"/>
              <a:ext cx="46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H="1">
              <a:off x="4437360" y="4983480"/>
              <a:ext cx="46800" cy="3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437360" y="4573800"/>
              <a:ext cx="4680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437360" y="4148280"/>
              <a:ext cx="4680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4437360" y="4573800"/>
              <a:ext cx="46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4437360" y="4148280"/>
              <a:ext cx="4680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37360" y="3738960"/>
              <a:ext cx="4680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437360" y="3330720"/>
              <a:ext cx="4680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4437360" y="3738960"/>
              <a:ext cx="46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4437360" y="3330720"/>
              <a:ext cx="4680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437360" y="2919600"/>
              <a:ext cx="46800" cy="32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437360" y="2494080"/>
              <a:ext cx="46800" cy="32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>
              <a:off x="4437360" y="2919600"/>
              <a:ext cx="46800" cy="3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4437360" y="2494080"/>
              <a:ext cx="46800" cy="3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437360" y="2084760"/>
              <a:ext cx="4680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437360" y="1676520"/>
              <a:ext cx="4680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437360" y="2084760"/>
              <a:ext cx="46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437360" y="1676520"/>
              <a:ext cx="4680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345560" y="5457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85040" y="5457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914160" y="5457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215760" y="5457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479000" y="5457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111520" y="5457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954680" y="5457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241400" y="4762800"/>
              <a:ext cx="158400" cy="1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09160" y="4669200"/>
              <a:ext cx="135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tic 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241400" y="5035680"/>
              <a:ext cx="158400" cy="168480"/>
            </a:xfrm>
            <a:prstGeom prst="rect">
              <a:avLst/>
            </a:prstGeom>
            <a:solidFill>
              <a:srgbClr val="569fd2"/>
            </a:solidFill>
            <a:ln w="9360">
              <a:solidFill>
                <a:srgbClr val="569f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401600" y="497700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pdate 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379720" y="5394600"/>
              <a:ext cx="144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5665320" y="2027520"/>
              <a:ext cx="2564640" cy="11304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85080" y="2422800"/>
              <a:ext cx="140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rom 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own to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457520" y="5788440"/>
              <a:ext cx="469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mber of Scenarios (PV Costs &gt; $3.75 bill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5" name=""/>
          <p:cNvSpPr/>
          <p:nvPr/>
        </p:nvSpPr>
        <p:spPr>
          <a:xfrm>
            <a:off x="2437200" y="1752480"/>
            <a:ext cx="202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fore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1298520" y="2147760"/>
            <a:ext cx="3218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DYY and recyc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1617120" y="2587680"/>
            <a:ext cx="284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replenish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1971720" y="3008160"/>
            <a:ext cx="254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451080" y="3825720"/>
            <a:ext cx="40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replenishment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2039400" y="4229280"/>
            <a:ext cx="24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effici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820800" y="4648320"/>
            <a:ext cx="364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efficiency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28440" y="3403440"/>
            <a:ext cx="443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DYY and recycling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371600" y="5048280"/>
            <a:ext cx="314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all enhance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cting Now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educes Future Vulnerabilities Even More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1969920" y="1849320"/>
            <a:ext cx="254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49280" y="2666880"/>
            <a:ext cx="40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replenishment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2090160" y="3070080"/>
            <a:ext cx="24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effici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871560" y="3489480"/>
            <a:ext cx="364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efficiency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79200" y="2244600"/>
            <a:ext cx="443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DYY and recycling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370160" y="3889440"/>
            <a:ext cx="314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all enhance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4486320" y="1600200"/>
            <a:ext cx="3962520" cy="1440"/>
          </a:xfrm>
          <a:custGeom>
            <a:avLst/>
            <a:gdLst/>
            <a:ahLst/>
            <a:rect l="l" t="t" r="r" b="b"/>
            <a:pathLst>
              <a:path w="2969" h="0">
                <a:moveTo>
                  <a:pt x="0" y="0"/>
                </a:moveTo>
                <a:lnTo>
                  <a:pt x="29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4486320" y="4233240"/>
            <a:ext cx="2649600" cy="42840"/>
          </a:xfrm>
          <a:custGeom>
            <a:avLst/>
            <a:gdLst/>
            <a:ahLst/>
            <a:rect l="l" t="t" r="r" b="b"/>
            <a:pathLst>
              <a:path w="2969" h="0">
                <a:moveTo>
                  <a:pt x="2969" y="0"/>
                </a:moveTo>
                <a:lnTo>
                  <a:pt x="0" y="0"/>
                </a:lnTo>
                <a:lnTo>
                  <a:pt x="2969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4486320" y="3960720"/>
            <a:ext cx="36360" cy="16992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4486320" y="3549600"/>
            <a:ext cx="228600" cy="17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4486320" y="3960720"/>
            <a:ext cx="203040" cy="169920"/>
          </a:xfrm>
          <a:custGeom>
            <a:avLst/>
            <a:gdLst/>
            <a:ahLst/>
            <a:rect l="l" t="t" r="r" b="b"/>
            <a:pathLst>
              <a:path w="27" h="90">
                <a:moveTo>
                  <a:pt x="0" y="0"/>
                </a:moveTo>
                <a:lnTo>
                  <a:pt x="27" y="0"/>
                </a:lnTo>
                <a:lnTo>
                  <a:pt x="27" y="90"/>
                </a:lnTo>
                <a:lnTo>
                  <a:pt x="0" y="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4486320" y="3549600"/>
            <a:ext cx="550800" cy="171360"/>
          </a:xfrm>
          <a:custGeom>
            <a:avLst/>
            <a:gdLst/>
            <a:ahLst/>
            <a:rect l="l" t="t" r="r" b="b"/>
            <a:pathLst>
              <a:path w="171" h="90">
                <a:moveTo>
                  <a:pt x="0" y="0"/>
                </a:moveTo>
                <a:lnTo>
                  <a:pt x="171" y="0"/>
                </a:lnTo>
                <a:lnTo>
                  <a:pt x="171" y="90"/>
                </a:lnTo>
                <a:lnTo>
                  <a:pt x="0" y="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69fd2"/>
          </a:solidFill>
          <a:ln w="14400">
            <a:solidFill>
              <a:srgbClr val="569f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4486320" y="3125880"/>
            <a:ext cx="396720" cy="18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4486320" y="2714760"/>
            <a:ext cx="528480" cy="17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4486320" y="3125880"/>
            <a:ext cx="850680" cy="187200"/>
          </a:xfrm>
          <a:custGeom>
            <a:avLst/>
            <a:gdLst/>
            <a:ahLst/>
            <a:rect l="l" t="t" r="r" b="b"/>
            <a:pathLst>
              <a:path w="297" h="99">
                <a:moveTo>
                  <a:pt x="0" y="0"/>
                </a:moveTo>
                <a:lnTo>
                  <a:pt x="297" y="0"/>
                </a:lnTo>
                <a:lnTo>
                  <a:pt x="297" y="99"/>
                </a:lnTo>
                <a:lnTo>
                  <a:pt x="0" y="9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4486320" y="2714760"/>
            <a:ext cx="1077840" cy="171360"/>
          </a:xfrm>
          <a:custGeom>
            <a:avLst/>
            <a:gdLst/>
            <a:ahLst/>
            <a:rect l="l" t="t" r="r" b="b"/>
            <a:pathLst>
              <a:path w="396" h="90">
                <a:moveTo>
                  <a:pt x="0" y="0"/>
                </a:moveTo>
                <a:lnTo>
                  <a:pt x="396" y="0"/>
                </a:lnTo>
                <a:lnTo>
                  <a:pt x="396" y="90"/>
                </a:lnTo>
                <a:lnTo>
                  <a:pt x="0" y="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69fd2"/>
          </a:solidFill>
          <a:ln w="14400">
            <a:solidFill>
              <a:srgbClr val="569f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4486320" y="2306520"/>
            <a:ext cx="757080" cy="171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4486320" y="1897200"/>
            <a:ext cx="1057320" cy="169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486320" y="2306520"/>
            <a:ext cx="1603440" cy="184320"/>
          </a:xfrm>
          <a:custGeom>
            <a:avLst/>
            <a:gdLst/>
            <a:ahLst/>
            <a:rect l="l" t="t" r="r" b="b"/>
            <a:pathLst>
              <a:path w="567" h="90">
                <a:moveTo>
                  <a:pt x="0" y="0"/>
                </a:moveTo>
                <a:lnTo>
                  <a:pt x="567" y="0"/>
                </a:lnTo>
                <a:lnTo>
                  <a:pt x="567" y="90"/>
                </a:lnTo>
                <a:lnTo>
                  <a:pt x="0" y="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69fd2"/>
          </a:solidFill>
          <a:ln w="14400">
            <a:solidFill>
              <a:srgbClr val="569f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4486320" y="1897200"/>
            <a:ext cx="1915920" cy="169560"/>
          </a:xfrm>
          <a:custGeom>
            <a:avLst/>
            <a:gdLst/>
            <a:ahLst/>
            <a:rect l="l" t="t" r="r" b="b"/>
            <a:pathLst>
              <a:path w="792" h="90">
                <a:moveTo>
                  <a:pt x="0" y="0"/>
                </a:moveTo>
                <a:lnTo>
                  <a:pt x="792" y="0"/>
                </a:lnTo>
                <a:lnTo>
                  <a:pt x="792" y="90"/>
                </a:lnTo>
                <a:lnTo>
                  <a:pt x="0" y="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486320" y="4251240"/>
            <a:ext cx="144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148360" y="4251240"/>
            <a:ext cx="36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4486320" y="4251240"/>
            <a:ext cx="144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148360" y="4251240"/>
            <a:ext cx="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5807160" y="4251240"/>
            <a:ext cx="144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6467400" y="4251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807160" y="4251240"/>
            <a:ext cx="144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6467400" y="4251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7128000" y="4251240"/>
            <a:ext cx="144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7128000" y="4251240"/>
            <a:ext cx="144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4438800" y="4251240"/>
            <a:ext cx="4752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4438800" y="3840120"/>
            <a:ext cx="47520" cy="32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4438800" y="4251240"/>
            <a:ext cx="47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H="1">
            <a:off x="4438800" y="3840120"/>
            <a:ext cx="475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4438800" y="3430440"/>
            <a:ext cx="4752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4438800" y="300528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4438800" y="3430440"/>
            <a:ext cx="47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flipH="1">
            <a:off x="4438800" y="300528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438800" y="259560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4438800" y="218772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4438800" y="259560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4438800" y="218772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4438800" y="1776240"/>
            <a:ext cx="47520" cy="32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flipH="1">
            <a:off x="4438800" y="1776240"/>
            <a:ext cx="475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345200" y="43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603040" y="43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6949080" y="43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6242760" y="43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4962960" y="43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5767560" y="3263760"/>
            <a:ext cx="161640" cy="1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5940360" y="31701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ic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767560" y="3537000"/>
            <a:ext cx="161640" cy="168120"/>
          </a:xfrm>
          <a:prstGeom prst="rect">
            <a:avLst/>
          </a:prstGeom>
          <a:solidFill>
            <a:srgbClr val="569fd2"/>
          </a:solidFill>
          <a:ln w="9360">
            <a:solidFill>
              <a:srgbClr val="569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931000" y="347832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date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4731120" y="464508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mber of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PV Costs &gt; $3.75 bill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4486320" y="1765080"/>
            <a:ext cx="1440" cy="24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4897080" y="2166840"/>
            <a:ext cx="1538280" cy="184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cting Now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educes Future Vulnerabilities Even More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969920" y="1849320"/>
            <a:ext cx="254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449280" y="2666880"/>
            <a:ext cx="40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replenishment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2090160" y="3070080"/>
            <a:ext cx="24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effici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871560" y="3489480"/>
            <a:ext cx="364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efficiency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79200" y="2244600"/>
            <a:ext cx="443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DYY and recycling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370160" y="3889440"/>
            <a:ext cx="314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all enhance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0" name=""/>
          <p:cNvGrpSpPr/>
          <p:nvPr/>
        </p:nvGrpSpPr>
        <p:grpSpPr>
          <a:xfrm>
            <a:off x="4345560" y="1600200"/>
            <a:ext cx="4557240" cy="3625560"/>
            <a:chOff x="4345560" y="1600200"/>
            <a:chExt cx="4557240" cy="3625560"/>
          </a:xfrm>
        </p:grpSpPr>
        <p:sp>
          <p:nvSpPr>
            <p:cNvPr id="2351" name=""/>
            <p:cNvSpPr/>
            <p:nvPr/>
          </p:nvSpPr>
          <p:spPr>
            <a:xfrm>
              <a:off x="4486320" y="1600200"/>
              <a:ext cx="3962160" cy="1800"/>
            </a:xfrm>
            <a:custGeom>
              <a:avLst/>
              <a:gdLst/>
              <a:ahLst/>
              <a:rect l="l" t="t" r="r" b="b"/>
              <a:pathLst>
                <a:path w="2969" h="0">
                  <a:moveTo>
                    <a:pt x="0" y="0"/>
                  </a:moveTo>
                  <a:lnTo>
                    <a:pt x="29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V="1">
              <a:off x="4486320" y="4233240"/>
              <a:ext cx="2649600" cy="42840"/>
            </a:xfrm>
            <a:custGeom>
              <a:avLst/>
              <a:gdLst/>
              <a:ahLst/>
              <a:rect l="l" t="t" r="r" b="b"/>
              <a:pathLst>
                <a:path w="2969" h="0">
                  <a:moveTo>
                    <a:pt x="2969" y="0"/>
                  </a:moveTo>
                  <a:lnTo>
                    <a:pt x="0" y="0"/>
                  </a:lnTo>
                  <a:lnTo>
                    <a:pt x="2969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486320" y="3961080"/>
              <a:ext cx="35640" cy="16956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486320" y="3549600"/>
              <a:ext cx="228240" cy="171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486320" y="3961080"/>
              <a:ext cx="202680" cy="169560"/>
            </a:xfrm>
            <a:custGeom>
              <a:avLst/>
              <a:gdLst/>
              <a:ahLst/>
              <a:rect l="l" t="t" r="r" b="b"/>
              <a:pathLst>
                <a:path w="27" h="90">
                  <a:moveTo>
                    <a:pt x="0" y="0"/>
                  </a:moveTo>
                  <a:lnTo>
                    <a:pt x="27" y="0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486320" y="3549600"/>
              <a:ext cx="550440" cy="1717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0" y="0"/>
                  </a:moveTo>
                  <a:lnTo>
                    <a:pt x="171" y="0"/>
                  </a:lnTo>
                  <a:lnTo>
                    <a:pt x="171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fd2"/>
            </a:solidFill>
            <a:ln w="14400">
              <a:solidFill>
                <a:srgbClr val="569f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486320" y="3125880"/>
              <a:ext cx="396720" cy="187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486320" y="2714760"/>
              <a:ext cx="528120" cy="171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486320" y="3125880"/>
              <a:ext cx="849960" cy="187200"/>
            </a:xfrm>
            <a:custGeom>
              <a:avLst/>
              <a:gdLst/>
              <a:ahLst/>
              <a:rect l="l" t="t" r="r" b="b"/>
              <a:pathLst>
                <a:path w="297" h="99">
                  <a:moveTo>
                    <a:pt x="0" y="0"/>
                  </a:moveTo>
                  <a:lnTo>
                    <a:pt x="297" y="0"/>
                  </a:lnTo>
                  <a:lnTo>
                    <a:pt x="297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486320" y="2714760"/>
              <a:ext cx="1077120" cy="171360"/>
            </a:xfrm>
            <a:custGeom>
              <a:avLst/>
              <a:gdLst/>
              <a:ahLst/>
              <a:rect l="l" t="t" r="r" b="b"/>
              <a:pathLst>
                <a:path w="396" h="90">
                  <a:moveTo>
                    <a:pt x="0" y="0"/>
                  </a:moveTo>
                  <a:lnTo>
                    <a:pt x="396" y="0"/>
                  </a:lnTo>
                  <a:lnTo>
                    <a:pt x="396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fd2"/>
            </a:solidFill>
            <a:ln w="14400">
              <a:solidFill>
                <a:srgbClr val="569f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486320" y="2306880"/>
              <a:ext cx="756360" cy="171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486320" y="1897200"/>
              <a:ext cx="1056240" cy="169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486320" y="2306880"/>
              <a:ext cx="1603440" cy="183960"/>
            </a:xfrm>
            <a:custGeom>
              <a:avLst/>
              <a:gdLst/>
              <a:ahLst/>
              <a:rect l="l" t="t" r="r" b="b"/>
              <a:pathLst>
                <a:path w="567" h="90">
                  <a:moveTo>
                    <a:pt x="0" y="0"/>
                  </a:moveTo>
                  <a:lnTo>
                    <a:pt x="567" y="0"/>
                  </a:lnTo>
                  <a:lnTo>
                    <a:pt x="567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fd2"/>
            </a:solidFill>
            <a:ln w="14400">
              <a:solidFill>
                <a:srgbClr val="569f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486320" y="1897200"/>
              <a:ext cx="1915560" cy="169920"/>
            </a:xfrm>
            <a:custGeom>
              <a:avLst/>
              <a:gdLst/>
              <a:ahLst/>
              <a:rect l="l" t="t" r="r" b="b"/>
              <a:pathLst>
                <a:path w="792" h="90">
                  <a:moveTo>
                    <a:pt x="0" y="0"/>
                  </a:moveTo>
                  <a:lnTo>
                    <a:pt x="792" y="0"/>
                  </a:lnTo>
                  <a:lnTo>
                    <a:pt x="792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486320" y="4251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146920" y="4251600"/>
              <a:ext cx="144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486320" y="4251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146920" y="4251600"/>
              <a:ext cx="144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806800" y="4251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467760" y="4251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806800" y="4251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467760" y="4251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126920" y="4251600"/>
              <a:ext cx="144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126920" y="4251600"/>
              <a:ext cx="144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438800" y="4251600"/>
              <a:ext cx="4752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438800" y="3840120"/>
              <a:ext cx="47520" cy="32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4438800" y="4251600"/>
              <a:ext cx="47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4438800" y="3840120"/>
              <a:ext cx="47520" cy="3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438800" y="3430800"/>
              <a:ext cx="4752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438800" y="3005280"/>
              <a:ext cx="4752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4438800" y="3430800"/>
              <a:ext cx="47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4438800" y="3005280"/>
              <a:ext cx="47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438800" y="2595600"/>
              <a:ext cx="475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438800" y="2187720"/>
              <a:ext cx="4752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4438800" y="2595600"/>
              <a:ext cx="4752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4438800" y="2187720"/>
              <a:ext cx="47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438800" y="1776600"/>
              <a:ext cx="47520" cy="32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4438800" y="1776600"/>
              <a:ext cx="47520" cy="3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345560" y="4314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602320" y="4314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948720" y="4314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242400" y="4314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962960" y="4314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767920" y="3264120"/>
              <a:ext cx="160920" cy="1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940360" y="3170520"/>
              <a:ext cx="135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tic 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767920" y="3537000"/>
              <a:ext cx="160920" cy="168480"/>
            </a:xfrm>
            <a:prstGeom prst="rect">
              <a:avLst/>
            </a:prstGeom>
            <a:solidFill>
              <a:srgbClr val="569fd2"/>
            </a:solidFill>
            <a:ln w="9360">
              <a:solidFill>
                <a:srgbClr val="569f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930640" y="347832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pdate 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730760" y="4645080"/>
              <a:ext cx="259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mber of Scen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PV Costs &gt; $3.75 bill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4486320" y="1765440"/>
              <a:ext cx="1080" cy="248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4896720" y="2167200"/>
              <a:ext cx="1539360" cy="18414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535160" y="2646360"/>
              <a:ext cx="13676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mplemen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ecom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mo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halleng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450920" y="2014560"/>
              <a:ext cx="0" cy="213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3" name=""/>
          <p:cNvSpPr/>
          <p:nvPr/>
        </p:nvSpPr>
        <p:spPr>
          <a:xfrm>
            <a:off x="609480" y="5638680"/>
            <a:ext cx="8028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This analysis helped IEUA decide to make more near-term efficiency investments, and to monitor performance and adapt as needed dow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6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7c00"/>
                </a:solidFill>
                <a:latin typeface="Arial"/>
              </a:rPr>
              <a:t>Outline</a:t>
            </a:r>
            <a:endParaRPr b="1" i="1" lang="en-US" sz="36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584280" y="2209680"/>
            <a:ext cx="7858080" cy="32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bust Decision Making (RD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vulnerability and response option analysis for Inland Empire Utilities Agency (IEU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recasting the Unpredictable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an Contribute  to Bad Decision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14760" y="1460520"/>
            <a:ext cx="5064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oss national product (trillions of 1958 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63880" y="1811160"/>
            <a:ext cx="476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5960" y="204948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55960" y="230508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33760" y="2550960"/>
            <a:ext cx="806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7640" y="2800440"/>
            <a:ext cx="452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5960" y="305424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9440" y="3322800"/>
            <a:ext cx="45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6040" y="3565440"/>
            <a:ext cx="384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08600" y="3827520"/>
            <a:ext cx="331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16520" y="4081320"/>
            <a:ext cx="323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06800" y="4330800"/>
            <a:ext cx="333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57560" y="4584600"/>
            <a:ext cx="282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586720" y="4746600"/>
            <a:ext cx="557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86240" y="1946160"/>
            <a:ext cx="4514760" cy="27781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37360" y="2187720"/>
            <a:ext cx="446040" cy="1481040"/>
          </a:xfrm>
          <a:custGeom>
            <a:avLst/>
            <a:gdLst/>
            <a:ahLst/>
            <a:rect l="l" t="t" r="r" b="b"/>
            <a:pathLst>
              <a:path w="352" h="1364">
                <a:moveTo>
                  <a:pt x="20" y="1364"/>
                </a:moveTo>
                <a:lnTo>
                  <a:pt x="0" y="1120"/>
                </a:lnTo>
                <a:lnTo>
                  <a:pt x="352" y="0"/>
                </a:lnTo>
              </a:path>
            </a:pathLst>
          </a:custGeom>
          <a:noFill/>
          <a:ln w="28440">
            <a:solidFill>
              <a:srgbClr val="ff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71840" y="5030640"/>
            <a:ext cx="45054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ergy use (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Btu per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828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219564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22880" y="24480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70036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22880" y="295128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22880" y="320364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22880" y="34560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22880" y="370512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22880" y="396072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22880" y="42102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2880" y="446256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86900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372280" y="472248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87700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37848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885000" y="470664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38972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89156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39484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516560" y="3533400"/>
            <a:ext cx="1995480" cy="1181160"/>
          </a:xfrm>
          <a:prstGeom prst="line">
            <a:avLst/>
          </a:prstGeom>
          <a:ln w="28440">
            <a:solidFill>
              <a:srgbClr val="ff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8480" y="2241720"/>
            <a:ext cx="2319480" cy="137304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318360" y="2257560"/>
            <a:ext cx="1944720" cy="138096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57960" y="2265480"/>
            <a:ext cx="1438200" cy="1349280"/>
          </a:xfrm>
          <a:custGeom>
            <a:avLst/>
            <a:gdLst/>
            <a:ahLst/>
            <a:rect l="l" t="t" r="r" b="b"/>
            <a:pathLst>
              <a:path w="1136" h="1344">
                <a:moveTo>
                  <a:pt x="0" y="1344"/>
                </a:moveTo>
                <a:lnTo>
                  <a:pt x="597" y="691"/>
                </a:lnTo>
                <a:lnTo>
                  <a:pt x="896" y="336"/>
                </a:lnTo>
                <a:lnTo>
                  <a:pt x="1136" y="0"/>
                </a:lnTo>
              </a:path>
            </a:pathLst>
          </a:custGeom>
          <a:noFill/>
          <a:ln w="28440">
            <a:solidFill>
              <a:srgbClr val="ffd47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13320" y="2249640"/>
            <a:ext cx="1121040" cy="1393560"/>
          </a:xfrm>
          <a:custGeom>
            <a:avLst/>
            <a:gdLst/>
            <a:ahLst/>
            <a:rect l="l" t="t" r="r" b="b"/>
            <a:pathLst>
              <a:path w="885" h="1389">
                <a:moveTo>
                  <a:pt x="0" y="1389"/>
                </a:moveTo>
                <a:lnTo>
                  <a:pt x="325" y="957"/>
                </a:lnTo>
                <a:lnTo>
                  <a:pt x="573" y="544"/>
                </a:lnTo>
                <a:lnTo>
                  <a:pt x="885" y="0"/>
                </a:lnTo>
              </a:path>
            </a:pathLst>
          </a:custGeom>
          <a:noFill/>
          <a:ln w="28440">
            <a:solidFill>
              <a:srgbClr val="ffd47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34360" y="2249640"/>
            <a:ext cx="1224000" cy="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0600" y="3652920"/>
            <a:ext cx="3780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88040" y="3686040"/>
            <a:ext cx="381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75440" y="372744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26120" y="371628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86520" y="3781440"/>
            <a:ext cx="363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59520" y="380376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10120" y="383076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86440" y="379728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70440" y="388296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35600" y="385596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27520" y="3989520"/>
            <a:ext cx="3672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81520" y="3936960"/>
            <a:ext cx="367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92880" y="4086360"/>
            <a:ext cx="3636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05400" y="4637160"/>
            <a:ext cx="3960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5240" y="4613400"/>
            <a:ext cx="363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0880" y="416088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91000" y="4151160"/>
            <a:ext cx="3672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80200" y="4125960"/>
            <a:ext cx="3960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30960" y="4119480"/>
            <a:ext cx="363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52920" y="4086360"/>
            <a:ext cx="3492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33920" y="403236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94400" y="402264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29320" y="4532400"/>
            <a:ext cx="3780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49840" y="4568760"/>
            <a:ext cx="3960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49920" y="4510080"/>
            <a:ext cx="3960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92760" y="451008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67400" y="4589640"/>
            <a:ext cx="3780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97360" y="4557600"/>
            <a:ext cx="3672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09960" y="4487760"/>
            <a:ext cx="3672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25880" y="449748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11840" y="447048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33880" y="432756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00480" y="432756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0840" y="445932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78360" y="4444920"/>
            <a:ext cx="3672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65840" y="4459320"/>
            <a:ext cx="3780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46760" y="441648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92560" y="428292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29280" y="426888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02360" y="430524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1880" y="4246560"/>
            <a:ext cx="367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06880" y="437508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76880" y="422604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35400" y="4302000"/>
            <a:ext cx="381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62400" y="432288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02360" y="425916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03880" y="4248000"/>
            <a:ext cx="3492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48440" y="4210200"/>
            <a:ext cx="34920" cy="252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4480" bIns="-244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1280" y="418788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70360" y="4514760"/>
            <a:ext cx="381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1360" y="454032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130440" y="381492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541480" y="4019400"/>
            <a:ext cx="1040040" cy="1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279760" y="4186080"/>
            <a:ext cx="919080" cy="1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036760" y="4356000"/>
            <a:ext cx="101916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7619760" y="2917080"/>
            <a:ext cx="328680" cy="16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73760" y="36543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13320" y="3805200"/>
            <a:ext cx="152280" cy="819360"/>
          </a:xfrm>
          <a:custGeom>
            <a:avLst/>
            <a:gdLst/>
            <a:ahLst/>
            <a:rect l="l" t="t" r="r" b="b"/>
            <a:pathLst>
              <a:path w="112" h="593">
                <a:moveTo>
                  <a:pt x="112" y="1"/>
                </a:moveTo>
                <a:lnTo>
                  <a:pt x="0" y="0"/>
                </a:lnTo>
                <a:lnTo>
                  <a:pt x="1" y="5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99000" y="3949560"/>
            <a:ext cx="139680" cy="668520"/>
          </a:xfrm>
          <a:custGeom>
            <a:avLst/>
            <a:gdLst/>
            <a:ahLst/>
            <a:rect l="l" t="t" r="r" b="b"/>
            <a:pathLst>
              <a:path w="112" h="593">
                <a:moveTo>
                  <a:pt x="112" y="1"/>
                </a:moveTo>
                <a:lnTo>
                  <a:pt x="0" y="0"/>
                </a:lnTo>
                <a:lnTo>
                  <a:pt x="1" y="5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1680" y="4479840"/>
            <a:ext cx="812520" cy="42840"/>
          </a:xfrm>
          <a:custGeom>
            <a:avLst/>
            <a:gdLst/>
            <a:ahLst/>
            <a:rect l="l" t="t" r="r" b="b"/>
            <a:pathLst>
              <a:path w="641" h="51">
                <a:moveTo>
                  <a:pt x="641" y="50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89520" y="4552920"/>
            <a:ext cx="538200" cy="47520"/>
          </a:xfrm>
          <a:custGeom>
            <a:avLst/>
            <a:gdLst/>
            <a:ahLst/>
            <a:rect l="l" t="t" r="r" b="b"/>
            <a:pathLst>
              <a:path w="427" h="51">
                <a:moveTo>
                  <a:pt x="427" y="48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91240" y="4597560"/>
            <a:ext cx="201600" cy="53640"/>
          </a:xfrm>
          <a:custGeom>
            <a:avLst/>
            <a:gdLst/>
            <a:ahLst/>
            <a:rect l="l" t="t" r="r" b="b"/>
            <a:pathLst>
              <a:path w="158" h="53">
                <a:moveTo>
                  <a:pt x="158" y="53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27960" y="3073320"/>
            <a:ext cx="13176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al trend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67440" y="3672000"/>
            <a:ext cx="12049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83080" y="4479840"/>
            <a:ext cx="519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46680" y="4403880"/>
            <a:ext cx="6526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14880" y="4214880"/>
            <a:ext cx="519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61040" y="4075200"/>
            <a:ext cx="569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99080" y="3894120"/>
            <a:ext cx="5270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69000" y="4572000"/>
            <a:ext cx="7142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42040" y="3530520"/>
            <a:ext cx="56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99160" y="4032360"/>
            <a:ext cx="568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51200" y="3824280"/>
            <a:ext cx="5670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05480" y="3654360"/>
            <a:ext cx="56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1808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11640" y="4748040"/>
            <a:ext cx="514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2464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18200" y="4748040"/>
            <a:ext cx="517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22920" y="4748040"/>
            <a:ext cx="51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26200" y="4748040"/>
            <a:ext cx="515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631280" y="4748040"/>
            <a:ext cx="515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34200" y="4748040"/>
            <a:ext cx="51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42000" y="2157480"/>
            <a:ext cx="87480" cy="7452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02440" y="3446640"/>
            <a:ext cx="87120" cy="7272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97760" y="3346560"/>
            <a:ext cx="85680" cy="7596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89640" y="2822400"/>
            <a:ext cx="85680" cy="730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39120" y="2075040"/>
            <a:ext cx="1163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80680" y="2685960"/>
            <a:ext cx="5691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67840" y="3262320"/>
            <a:ext cx="5691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67840" y="3416400"/>
            <a:ext cx="5691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435640" y="2058840"/>
            <a:ext cx="1382760" cy="1608120"/>
            <a:chOff x="5435640" y="2058840"/>
            <a:chExt cx="1382760" cy="1608120"/>
          </a:xfrm>
        </p:grpSpPr>
        <p:sp>
          <p:nvSpPr>
            <p:cNvPr id="370" name=""/>
            <p:cNvSpPr/>
            <p:nvPr/>
          </p:nvSpPr>
          <p:spPr>
            <a:xfrm>
              <a:off x="5435640" y="2058840"/>
              <a:ext cx="1382760" cy="870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956600">
              <a:off x="5967720" y="2784960"/>
              <a:ext cx="553680" cy="795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8600" y="3382560"/>
              <a:ext cx="496800" cy="209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7383600" y="2201760"/>
            <a:ext cx="1328760" cy="7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503600" y="2266920"/>
            <a:ext cx="4149720" cy="24494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9116600">
            <a:off x="4784400" y="4041360"/>
            <a:ext cx="479520" cy="3016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3360" y="2028960"/>
            <a:ext cx="14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5 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37360" y="2187720"/>
            <a:ext cx="446040" cy="1482480"/>
          </a:xfrm>
          <a:custGeom>
            <a:avLst/>
            <a:gdLst/>
            <a:ahLst/>
            <a:rect l="l" t="t" r="r" b="b"/>
            <a:pathLst>
              <a:path w="352" h="1364">
                <a:moveTo>
                  <a:pt x="20" y="1364"/>
                </a:moveTo>
                <a:lnTo>
                  <a:pt x="0" y="1120"/>
                </a:lnTo>
                <a:lnTo>
                  <a:pt x="352" y="0"/>
                </a:lnTo>
              </a:path>
            </a:pathLst>
          </a:custGeom>
          <a:noFill/>
          <a:ln w="28440">
            <a:solidFill>
              <a:srgbClr val="ff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240600" y="3652920"/>
            <a:ext cx="3780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8040" y="3686040"/>
            <a:ext cx="381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73760" y="365436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42000" y="2155680"/>
            <a:ext cx="87480" cy="74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02440" y="3446640"/>
            <a:ext cx="87120" cy="712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97760" y="3349800"/>
            <a:ext cx="85680" cy="7272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89640" y="2822400"/>
            <a:ext cx="85680" cy="730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73600" y="2062080"/>
            <a:ext cx="1023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10480" y="2725560"/>
            <a:ext cx="51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84840" y="3213000"/>
            <a:ext cx="51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1960" y="3384720"/>
            <a:ext cx="51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30800" y="1967040"/>
            <a:ext cx="10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21080" y="4708440"/>
            <a:ext cx="10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877240" y="472392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398840" y="472392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900080"/>
            <a:ext cx="348588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In the early 1970s forecasters made projections of U.S energy use based on a century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   … 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they all were wro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nducted Elicitations Among IEUA’s Planners and Community to Estimate Likelihood of Achieving Goal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pic>
        <p:nvPicPr>
          <p:cNvPr id="2408" name="" descr=""/>
          <p:cNvPicPr/>
          <p:nvPr/>
        </p:nvPicPr>
        <p:blipFill>
          <a:blip r:embed="rId1"/>
          <a:stretch/>
        </p:blipFill>
        <p:spPr>
          <a:xfrm>
            <a:off x="644400" y="3424320"/>
            <a:ext cx="3354480" cy="2463840"/>
          </a:xfrm>
          <a:prstGeom prst="rect">
            <a:avLst/>
          </a:prstGeom>
          <a:ln w="0">
            <a:noFill/>
          </a:ln>
        </p:spPr>
      </p:pic>
      <p:pic>
        <p:nvPicPr>
          <p:cNvPr id="2409" name="" descr=""/>
          <p:cNvPicPr/>
          <p:nvPr/>
        </p:nvPicPr>
        <p:blipFill>
          <a:blip r:embed="rId2"/>
          <a:stretch/>
        </p:blipFill>
        <p:spPr>
          <a:xfrm>
            <a:off x="5214960" y="3452760"/>
            <a:ext cx="3354480" cy="246384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/>
          <p:nvPr/>
        </p:nvSpPr>
        <p:spPr>
          <a:xfrm>
            <a:off x="1697760" y="29718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5869440" y="297180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le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3187800" y="3598920"/>
            <a:ext cx="9360" cy="19144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3219480" y="356868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7064280" y="3637080"/>
            <a:ext cx="9720" cy="19144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7125840" y="3568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1959120" y="3586320"/>
            <a:ext cx="9360" cy="1914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1231920" y="3619440"/>
            <a:ext cx="7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6337440" y="3643200"/>
            <a:ext cx="0" cy="1905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5650200" y="356724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905120" y="198108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robability of meeting UWMP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3348000" y="6157800"/>
            <a:ext cx="1986120" cy="623880"/>
            <a:chOff x="3348000" y="6157800"/>
            <a:chExt cx="1986120" cy="623880"/>
          </a:xfrm>
        </p:grpSpPr>
        <p:sp>
          <p:nvSpPr>
            <p:cNvPr id="2422" name=""/>
            <p:cNvSpPr/>
            <p:nvPr/>
          </p:nvSpPr>
          <p:spPr>
            <a:xfrm>
              <a:off x="3348000" y="6157800"/>
              <a:ext cx="1986120" cy="623880"/>
            </a:xfrm>
            <a:prstGeom prst="rect">
              <a:avLst/>
            </a:prstGeom>
            <a:solidFill>
              <a:srgbClr val="c0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3642840" y="6340320"/>
              <a:ext cx="51588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>
              <a:off x="3641400" y="6586560"/>
              <a:ext cx="522360" cy="46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270680" y="6203880"/>
              <a:ext cx="9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et Go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270320" y="64515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ss Go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7" name=""/>
          <p:cNvSpPr/>
          <p:nvPr/>
        </p:nvSpPr>
        <p:spPr>
          <a:xfrm>
            <a:off x="6324480" y="647712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Many Uncertain Factors Could Impact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he Performance of Current IEUA Pla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2429" name=""/>
          <p:cNvGraphicFramePr/>
          <p:nvPr/>
        </p:nvGraphicFramePr>
        <p:xfrm>
          <a:off x="533520" y="1765440"/>
          <a:ext cx="8051760" cy="4440240"/>
        </p:xfrm>
        <a:graphic>
          <a:graphicData uri="http://schemas.openxmlformats.org/drawingml/2006/table">
            <a:tbl>
              <a:tblPr/>
              <a:tblGrid>
                <a:gridCol w="2280960"/>
                <a:gridCol w="5770800"/>
              </a:tblGrid>
              <a:tr h="1415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temper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s in groundwater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2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of Management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of aggressive waste-water recycling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of groundwater replenish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 of Future Supplies and Management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c64"/>
                    </a:solidFill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ed suppl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use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c64"/>
                    </a:solidFill>
                  </a:tcPr>
                </a:tc>
              </a:tr>
            </a:tbl>
          </a:graphicData>
        </a:graphic>
      </p:graphicFrame>
      <p:sp>
        <p:nvSpPr>
          <p:cNvPr id="2430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"/>
          <p:cNvSpPr/>
          <p:nvPr/>
        </p:nvSpPr>
        <p:spPr>
          <a:xfrm>
            <a:off x="952560" y="2639880"/>
            <a:ext cx="2332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et recycling g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et replenishment g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ture 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w con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colation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mate on 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724200" y="2781360"/>
            <a:ext cx="3586320" cy="3051720"/>
            <a:chOff x="3724200" y="2781360"/>
            <a:chExt cx="3586320" cy="3051720"/>
          </a:xfrm>
        </p:grpSpPr>
        <p:sp>
          <p:nvSpPr>
            <p:cNvPr id="2433" name=""/>
            <p:cNvSpPr/>
            <p:nvPr/>
          </p:nvSpPr>
          <p:spPr>
            <a:xfrm>
              <a:off x="3962520" y="278136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725280" y="28591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506640" y="285912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xce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194080" y="28591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e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962520" y="331488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725280" y="339264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506640" y="339264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xce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194080" y="339264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e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962520" y="384804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724200" y="392580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r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505920" y="392580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e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962520" y="438156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725280" y="44593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07360" y="44593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+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962520" y="491508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724920" y="499284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07000" y="49928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962520" y="544824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726000" y="5526000"/>
              <a:ext cx="64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ea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507000" y="552600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r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3483720" y="5945040"/>
            <a:ext cx="32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ff"/>
                </a:solidFill>
                <a:latin typeface="Arial"/>
              </a:rPr>
              <a:t>Explains 70% of high cost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85852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nalysis Suggests Factors That Cause Severe Shortages for IEUA’s 20 Year Pla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2055600" y="1925640"/>
            <a:ext cx="4267080" cy="27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mate-related uncertainties facing IEU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3936960" y="3848040"/>
            <a:ext cx="1193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3949560" y="2768760"/>
            <a:ext cx="1536840" cy="12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3962520" y="4915080"/>
            <a:ext cx="2450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9566280" y="594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4267080" y="6553080"/>
            <a:ext cx="184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705960" y="236520"/>
            <a:ext cx="7820280" cy="10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RDM Enables Effective Planning </a:t>
            </a:r>
            <a:br>
              <a:rPr sz="2800"/>
            </a:b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Based on Multiple Views of Future</a:t>
            </a:r>
            <a:endParaRPr b="1" i="1" lang="en-US" sz="28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590400" y="1314000"/>
            <a:ext cx="7994880" cy="394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 fontScale="94000"/>
          </a:bodyPr>
          <a:p>
            <a:pPr marL="266760" indent="-266760">
              <a:lnSpc>
                <a:spcPct val="90000"/>
              </a:lnSpc>
              <a:spcBef>
                <a:spcPts val="1250"/>
              </a:spcBef>
              <a:spcAft>
                <a:spcPts val="1125"/>
              </a:spcAft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any scenarios to imagine the fu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50000"/>
              </a:lnSpc>
              <a:spcBef>
                <a:spcPts val="1125"/>
              </a:spcBef>
              <a:spcAft>
                <a:spcPts val="1012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a single forecas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250"/>
              </a:spcBef>
              <a:spcAft>
                <a:spcPts val="1125"/>
              </a:spcAft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k robust strategies that do well across many scenarios assessed according to several val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50000"/>
              </a:lnSpc>
              <a:spcBef>
                <a:spcPts val="1125"/>
              </a:spcBef>
              <a:spcAft>
                <a:spcPts val="1012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optimal strate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250"/>
              </a:spcBef>
              <a:spcAft>
                <a:spcPts val="1125"/>
              </a:spcAft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 strategies that evolve over time in response to changing cond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50000"/>
              </a:lnSpc>
              <a:spcBef>
                <a:spcPts val="1125"/>
              </a:spcBef>
              <a:spcAft>
                <a:spcPts val="1012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"fixed" strate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250"/>
              </a:spcBef>
              <a:spcAft>
                <a:spcPts val="1125"/>
              </a:spcAft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uter as “prosthesis for the imagination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50000"/>
              </a:lnSpc>
              <a:spcBef>
                <a:spcPts val="1125"/>
              </a:spcBef>
              <a:spcAft>
                <a:spcPts val="1012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a calcula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More Informatio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758880" y="1103400"/>
            <a:ext cx="7772400" cy="343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 fontScale="76000"/>
          </a:bodyPr>
          <a:p>
            <a:pPr marL="21708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vid G. Groves, Robert J. Lempert, Debra Knopman, Sandra H. Berry: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eparing for an Uncertain Climate Future: Identifying Robust Water Management Strateg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RAND DB-550-NSF, 2008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vid G. Groves, Debra Knopman, Robert J. Lempert, Sandra H. Berry, and Lynne Wainfan,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esenting Uncertainty About Climate Change  to Water Resource Manage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RAND TR-505-NSF, 2007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ves, David G, David Yates, Claudia Tebaldi, 2008: </a:t>
            </a:r>
            <a:r>
              <a:rPr b="0" lang="en-US" sz="1600" spc="-1" strike="noStrike">
                <a:solidFill>
                  <a:srgbClr val="ffffff"/>
                </a:solidFill>
                <a:latin typeface="Lucida Grande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ing and Applying Uncertain Global Climate Change Projections for Regional Water Management Planning,</a:t>
            </a:r>
            <a:r>
              <a:rPr b="0" lang="en-US" sz="1600" spc="-1" strike="noStrike">
                <a:solidFill>
                  <a:srgbClr val="ffffff"/>
                </a:solidFill>
                <a:latin typeface="Lucida Grande"/>
              </a:rPr>
              <a:t>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Water Resources Research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4(12): W1241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bert J. Lempert and Myles T. Collins.,  2007: “Managing the Risk of Uncertain Threshold Response: Comparison of Robust, Optimum, and Precautionary Approaches</a:t>
            </a:r>
            <a:r>
              <a:rPr b="0" lang="en-US" sz="1600" spc="-1" strike="noStrike">
                <a:solidFill>
                  <a:srgbClr val="ffffff"/>
                </a:solidFill>
                <a:latin typeface="Lucida Grande"/>
              </a:rPr>
              <a:t>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Risk Analy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7 (4), 1009–102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vid G. Groves and Robert J. Lempert, 2007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analytic method for finding policy-relevant scenarios,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Global Environmental Chang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7, 73-85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bert J. Lempert, Steven W. Popper, Steven C. Bankes, 2003: Shaping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 the Next One Hundred Years: New Methods for Quantitative, Long-Term Policy Analysi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RAND MR-1626-RPC, Aug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25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ww.rand.org/ise/projects/improvingdecisions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"/>
          <p:cNvSpPr/>
          <p:nvPr/>
        </p:nvSpPr>
        <p:spPr>
          <a:xfrm>
            <a:off x="3149640" y="2843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We Also Evaluated How This Analysi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ffected Policy-Makers’ View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169920" indent="-16992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 IEUA workshops presented modeling results to participants inclu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cy professional managers and technical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elected offici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stakehold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-time” surveys measured participants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ing of concep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ngness to adjust policy choices based on information presen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on R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373392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0" y="23328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irst Three Workshops Compared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lternative Approaches to Uncertainty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636480" y="5816520"/>
            <a:ext cx="80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f000"/>
                </a:solidFill>
                <a:latin typeface="Arial"/>
                <a:ea typeface="Arial Unicode MS"/>
              </a:rPr>
              <a:t>Workshop design approximates on-going laboratory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1" name="" descr=""/>
          <p:cNvPicPr/>
          <p:nvPr/>
        </p:nvPicPr>
        <p:blipFill>
          <a:blip r:embed="rId1"/>
          <a:stretch/>
        </p:blipFill>
        <p:spPr>
          <a:xfrm>
            <a:off x="665280" y="3470400"/>
            <a:ext cx="8026200" cy="2108160"/>
          </a:xfrm>
          <a:prstGeom prst="rect">
            <a:avLst/>
          </a:prstGeom>
          <a:ln w="0">
            <a:noFill/>
          </a:ln>
        </p:spPr>
      </p:pic>
      <p:sp>
        <p:nvSpPr>
          <p:cNvPr id="2472" name=""/>
          <p:cNvSpPr/>
          <p:nvPr/>
        </p:nvSpPr>
        <p:spPr>
          <a:xfrm>
            <a:off x="1952640" y="1413000"/>
            <a:ext cx="5451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d three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qualitativ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abilistic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M with Scenario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373392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DM Scenarios More Useful,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But More  Difficult to Understand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2475" name=""/>
          <p:cNvGraphicFramePr/>
          <p:nvPr/>
        </p:nvGraphicFramePr>
        <p:xfrm>
          <a:off x="1411200" y="1552680"/>
          <a:ext cx="6159600" cy="2317680"/>
        </p:xfrm>
        <a:graphic>
          <a:graphicData uri="http://schemas.openxmlformats.org/drawingml/2006/table">
            <a:tbl>
              <a:tblPr/>
              <a:tblGrid>
                <a:gridCol w="2695680"/>
                <a:gridCol w="1709640"/>
                <a:gridCol w="1754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naire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Scen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ario Disco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results that can be used in 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   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information on how to improve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easy to explain to decisionma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ree 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  <p:sp>
        <p:nvSpPr>
          <p:cNvPr id="2476" name=""/>
          <p:cNvSpPr/>
          <p:nvPr/>
        </p:nvSpPr>
        <p:spPr>
          <a:xfrm>
            <a:off x="938160" y="4202280"/>
            <a:ext cx="7772400" cy="20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75400" indent="-275400">
              <a:lnSpc>
                <a:spcPct val="90000"/>
              </a:lnSpc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ditional scenar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ve IEUA  much of the information they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hasized the importance of achieving goals in IEUA’s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0000"/>
              </a:lnSpc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cenario Discove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d more usefu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discussion of adaptive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373392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DM Scenarios More Useful,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But More  Difficult to Understand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2479" name=""/>
          <p:cNvGraphicFramePr/>
          <p:nvPr/>
        </p:nvGraphicFramePr>
        <p:xfrm>
          <a:off x="1411200" y="1552680"/>
          <a:ext cx="6159600" cy="2317680"/>
        </p:xfrm>
        <a:graphic>
          <a:graphicData uri="http://schemas.openxmlformats.org/drawingml/2006/table">
            <a:tbl>
              <a:tblPr/>
              <a:tblGrid>
                <a:gridCol w="2695680"/>
                <a:gridCol w="1709640"/>
                <a:gridCol w="1754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naire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Scen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ario Disco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results that can be used in 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   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information on how to improve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easy to explain to decisionma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ree 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  <p:sp>
        <p:nvSpPr>
          <p:cNvPr id="2480" name=""/>
          <p:cNvSpPr/>
          <p:nvPr/>
        </p:nvSpPr>
        <p:spPr>
          <a:xfrm>
            <a:off x="938160" y="4202280"/>
            <a:ext cx="7772400" cy="20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75400" indent="-275400">
              <a:lnSpc>
                <a:spcPct val="90000"/>
              </a:lnSpc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ditional scenar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ve IEUA  much of the information they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hasized the importance of achieving goals in IEUA’s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0000"/>
              </a:lnSpc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cenario Discove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d more usefu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000"/>
                </a:solidFill>
                <a:latin typeface="Arial"/>
              </a:rPr>
              <a:t>Sparked discussion of adaptive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6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7c00"/>
                </a:solidFill>
                <a:latin typeface="Arial"/>
              </a:rPr>
              <a:t>Outline</a:t>
            </a:r>
            <a:endParaRPr b="1" i="1" lang="en-US" sz="36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87320" y="2108160"/>
            <a:ext cx="7858080" cy="32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obust Decision Making (RD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vulnerability and response option analysis for Inland Empire Utilities Agency (IEU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urth (Adaptive Strategy) Workshop Compared Different Presentations of RDM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596520" y="1168200"/>
            <a:ext cx="8077320" cy="511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nts reporte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DM helped support comparison of climate-related risks and choice among pla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ference for scatter plot over histogram scenario display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e workshop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% said consequences of bad climate change now appeared “more serious” than befo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% thought the likelihood of of bad climate change outcomes for the IEUA was “greater” than befo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5% though the ability of IEUA planners to plan for and manage effects was “greater” than befo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all, analysis increase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ived likelihood of serious climate impac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dence that IEUA could take effective actions to reduce its vulnerability to climate cha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 for near-term efficiency enhancements to current IEUA pl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373392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Observation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609480" y="969840"/>
            <a:ext cx="8166240" cy="553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alysis suggests IEUA’s current long-range plan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ulnerable to climate cha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made more resilient by near-term conservation, attention to storm intensity, and effective future monitoring and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s sugges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DM analysis effectively shifted views on seriousness of climate challenges and appropriate responses, but requires more work to be easily understood by policy-mak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rtance of linking effective response options with presentation of climate uncertain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rrently using this approach to help several major water agencies include climate in their long-range pla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96616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New Technology Allows Computer to Serve As “Prosthesis for the Imagination”</a:t>
            </a:r>
            <a:endParaRPr b="1" i="1" lang="en-US" sz="28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7760" y="1303200"/>
            <a:ext cx="8319960" cy="20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100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bust Decision Making (RDM) is a quantitative decision analytic approach tha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racterizes uncertainty with multiple, rather than single, views of the fu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valuates alternative decision options with a robustness, rather than optimality, criter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teratively identifies vulnerabilities of plans and evaluates potential respon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233360" y="3603600"/>
            <a:ext cx="6997680" cy="1174680"/>
            <a:chOff x="1233360" y="3603600"/>
            <a:chExt cx="6997680" cy="1174680"/>
          </a:xfrm>
        </p:grpSpPr>
        <p:sp>
          <p:nvSpPr>
            <p:cNvPr id="399" name=""/>
            <p:cNvSpPr/>
            <p:nvPr/>
          </p:nvSpPr>
          <p:spPr>
            <a:xfrm>
              <a:off x="1233360" y="3635280"/>
              <a:ext cx="1486080" cy="7495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andidate 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6760" y="3635280"/>
              <a:ext cx="1778040" cy="7495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dentify vulnerabil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72120" y="3603600"/>
              <a:ext cx="2158920" cy="8128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ssess alternatives for ameliorating vulner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2" name=""/>
            <p:cNvCxnSpPr>
              <a:stCxn id="399" idx="3"/>
              <a:endCxn id="400" idx="1"/>
            </p:cNvCxnSpPr>
            <p:nvPr/>
          </p:nvCxnSpPr>
          <p:spPr>
            <a:xfrm>
              <a:off x="2719080" y="4009680"/>
              <a:ext cx="78804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3" name=""/>
            <p:cNvCxnSpPr>
              <a:stCxn id="400" idx="3"/>
              <a:endCxn id="401" idx="1"/>
            </p:cNvCxnSpPr>
            <p:nvPr/>
          </p:nvCxnSpPr>
          <p:spPr>
            <a:xfrm>
              <a:off x="5284440" y="4009680"/>
              <a:ext cx="78804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4" name=""/>
            <p:cNvCxnSpPr/>
            <p:nvPr/>
          </p:nvCxnSpPr>
          <p:spPr>
            <a:xfrm flipV="1" rot="16200000">
              <a:off x="4547880" y="1828080"/>
              <a:ext cx="32400" cy="5176080"/>
            </a:xfrm>
            <a:prstGeom prst="bentConnector3">
              <a:avLst>
                <a:gd name="adj1" fmla="val -1079775"/>
              </a:avLst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05" name=""/>
          <p:cNvSpPr/>
          <p:nvPr/>
        </p:nvSpPr>
        <p:spPr>
          <a:xfrm>
            <a:off x="438120" y="5102280"/>
            <a:ext cx="8372520" cy="17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7160" indent="-22716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M combines key advantages of scenario planning and quantitative decision analysis in way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90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ision makers find cred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90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ibute usefully to contentious deb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28680"/>
            <a:ext cx="861048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DM Has Effectively Addressed Many Types of Decisions Under Deep Uncertainty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46040" y="1633680"/>
          <a:ext cx="8258400" cy="4711680"/>
        </p:xfrm>
        <a:graphic>
          <a:graphicData uri="http://schemas.openxmlformats.org/drawingml/2006/table">
            <a:tbl>
              <a:tblPr/>
              <a:tblGrid>
                <a:gridCol w="2075040"/>
                <a:gridCol w="61833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, Environment, and Climate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-Range Natural Resour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ewable portfolios 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on climate change decision ma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rorism Insur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ce procurement and de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-conflict shaping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rcial-Sector Appl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ric utilities’ strategies under dereg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 and technology planning in the auto 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19008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7c00"/>
                </a:solidFill>
                <a:latin typeface="Arial"/>
              </a:rPr>
              <a:t>Compare Alternative Approaches to Managing Catastrophic Event with Unknown Probability</a:t>
            </a:r>
            <a:endParaRPr b="1" i="1" lang="en-US" sz="30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16080" y="1312920"/>
            <a:ext cx="88279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town on shore of pristine la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ke can switch abruptly to undesirable and potentially irreversible eutrophic state at unknown pollution concent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tizens must decide how much pollution to em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in small utility from emitting pollution to lake and lose significant utility if lake goes eutroph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eply uncertain about location of concentration thresho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ve decision approaches inclu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mum expected ut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autionary princi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bust decision mak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87600" y="6492960"/>
            <a:ext cx="6467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bert J. Lempert and Myles T. Collins.,  2007: “Managing the Risk of Uncertain Threshold Response: Comparison of Robust, Optimum, and Precautionary Approaches”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Risk Analysi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27 (4), 1009–10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1048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Use Simple Simulation Model of Lake System to Assess Consequences of Town’s Decisions</a:t>
            </a:r>
            <a:endParaRPr b="1" i="1" lang="en-US" sz="28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22000" y="1412640"/>
            <a:ext cx="8110440" cy="25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8920" y="1274760"/>
            <a:ext cx="85122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“policy levers” describe town’s citizens’ adaptiv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itial pollution emissions 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ximum yearly increase in emissions 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fety margin (S) – buffer between pollution emissions and estimate of critical threshold (X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cri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time, citizens learn true value of critical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servations increasingly accurate as level of pollution approaches unknown thres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"/>
          <p:cNvCxnSpPr>
            <a:stCxn id="417" idx="0"/>
          </p:cNvCxnSpPr>
          <p:nvPr/>
        </p:nvCxnSpPr>
        <p:spPr>
          <a:xfrm flipV="1" rot="16200000">
            <a:off x="5878080" y="5088960"/>
            <a:ext cx="699120" cy="397800"/>
          </a:xfrm>
          <a:prstGeom prst="curvedConnector5">
            <a:avLst>
              <a:gd name="adj1" fmla="val 48171"/>
              <a:gd name="adj2" fmla="val 50000"/>
              <a:gd name="adj3" fmla="val 48171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3494160" y="4330800"/>
            <a:ext cx="2776320" cy="831600"/>
          </a:xfrm>
          <a:prstGeom prst="ellipse">
            <a:avLst/>
          </a:prstGeom>
          <a:solidFill>
            <a:srgbClr val="569fd2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trients in 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191120"/>
            <a:ext cx="1730160" cy="46008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al E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"/>
          <p:cNvCxnSpPr>
            <a:stCxn id="419" idx="3"/>
            <a:endCxn id="418" idx="2"/>
          </p:cNvCxnSpPr>
          <p:nvPr/>
        </p:nvCxnSpPr>
        <p:spPr>
          <a:xfrm>
            <a:off x="2289240" y="4421160"/>
            <a:ext cx="1180080" cy="326160"/>
          </a:xfrm>
          <a:prstGeom prst="curvedConnector5">
            <a:avLst>
              <a:gd name="adj1" fmla="val 49923"/>
              <a:gd name="adj2" fmla="val 49944"/>
              <a:gd name="adj3" fmla="val 4992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endCxn id="418" idx="2"/>
          </p:cNvCxnSpPr>
          <p:nvPr/>
        </p:nvCxnSpPr>
        <p:spPr>
          <a:xfrm flipV="1">
            <a:off x="2122200" y="4746240"/>
            <a:ext cx="1346400" cy="248400"/>
          </a:xfrm>
          <a:prstGeom prst="curvedConnector5">
            <a:avLst>
              <a:gd name="adj1" fmla="val 50949"/>
              <a:gd name="adj2" fmla="val 49927"/>
              <a:gd name="adj3" fmla="val 50949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5559480" y="5662440"/>
            <a:ext cx="1731960" cy="43524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trient s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494400" y="4892760"/>
            <a:ext cx="23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cycling when eutro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44440" y="5246640"/>
            <a:ext cx="214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L</a:t>
            </a:r>
            <a:r>
              <a:rPr b="0" i="1" lang="en-US" sz="2400" spc="-1" strike="noStrike" baseline="-25000">
                <a:solidFill>
                  <a:srgbClr val="ffff66"/>
                </a:solidFill>
                <a:latin typeface="Arial"/>
              </a:rPr>
              <a:t>t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= f(L</a:t>
            </a:r>
            <a:r>
              <a:rPr b="0" i="1" lang="en-US" sz="2400" spc="-1" strike="noStrike" baseline="-25000">
                <a:solidFill>
                  <a:srgbClr val="ffff66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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L,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"/>
          <p:cNvCxnSpPr/>
          <p:nvPr/>
        </p:nvCxnSpPr>
        <p:spPr>
          <a:xfrm>
            <a:off x="5571720" y="5078160"/>
            <a:ext cx="562680" cy="5720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533520" y="4754520"/>
            <a:ext cx="1743120" cy="47628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g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"/>
          <p:cNvCxnSpPr>
            <a:stCxn id="418" idx="4"/>
            <a:endCxn id="425" idx="2"/>
          </p:cNvCxnSpPr>
          <p:nvPr/>
        </p:nvCxnSpPr>
        <p:spPr>
          <a:xfrm rot="5400000">
            <a:off x="3108960" y="3483000"/>
            <a:ext cx="69120" cy="3478680"/>
          </a:xfrm>
          <a:prstGeom prst="bentConnector3">
            <a:avLst>
              <a:gd name="adj1" fmla="val 1118324"/>
            </a:avLst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2536920" y="60069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064040" y="3327480"/>
                <a:ext cx="10159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L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5:03:23Z</dcterms:created>
  <dc:creator>Robert Lempert</dc:creator>
  <dc:description/>
  <dc:language>en-US</dc:language>
  <cp:lastModifiedBy>Robert Lempert</cp:lastModifiedBy>
  <cp:lastPrinted>2009-02-10T20:46:44Z</cp:lastPrinted>
  <dcterms:modified xsi:type="dcterms:W3CDTF">2009-07-08T19:08:26Z</dcterms:modified>
  <cp:revision>1181</cp:revision>
  <dc:subject/>
  <dc:title>PowerPoint Presentation</dc:title>
</cp:coreProperties>
</file>